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536-A1DD-4E0B-922F-B52BE3D8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0E2-24D2-474C-AC9E-EC6BC74D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CB0F6-A8F6-4623-AA8A-D418100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568BD-A7C9-443E-8859-28F0C9D3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1C137-996C-42C2-98F1-C428CB9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3BBC0-3848-4B4E-8E93-E55A738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72445-7994-415D-9824-8D017926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3C8AA-8E7C-416B-9019-583A8BE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E68CC-CFC2-412E-9C89-D370275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04EB-64E3-4875-8309-319DD920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B375-DC35-45EC-8EFD-73C0BD46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72EE1-0EDF-4500-9B6A-8EE4F580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3F7-D3B2-4C42-86CB-7E77C526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C2855-283C-43C3-B554-306C424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8B73E-766E-4012-A982-4B6BAAA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59D46-204D-4471-B16A-1B846A3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DD829-4D28-44B5-A073-201BB3FE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EA001-9F83-4083-9978-1B51DA5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97030-8454-4AD7-B233-ABA978C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63D92-CA6C-4BBA-ABA7-1F31F3E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5383E-4D2C-4FD2-91AA-586D0FF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E8568-1293-4123-8570-0BFC03D6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B4188-1B97-4EE5-9BA4-12A44525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661-CB82-4E9C-8C08-FD4E0EDF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564FB-A21D-4AB3-AB97-4154754A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4F1DC-5A42-40B1-8003-58A7B53A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5F22-B2BB-456B-B585-87A6402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9FC61-E28E-47FD-9F06-A2C5E8D9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2EFE-804F-4C11-8182-260566F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2B2A8-72CC-4000-9616-7767964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FB521-9DE0-4A94-9110-505BEC9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36998-B77E-426A-AA01-E9657F6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6B3BD-98B3-4546-B839-7B43FB9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92446-FF36-4DE7-963C-6DD18A4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4C0-ABBD-42A2-9CE3-B06A861C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91252-1494-420A-955E-5ACE8E41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5BD9-705B-4C44-BE9A-F0849D2F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77275-F9DF-40FC-BAED-D4A990FA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0CA55-DA32-4328-A34E-99D547A7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8CFC-0D45-4041-9DF3-E482995F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E6B06-5839-4B21-92AD-FA28CE3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50985-55EF-4FBB-96D7-A642C4F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C384C-55F0-49CB-B312-A4B3967C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3F3A5-0ADB-44F8-AC8C-316DAC5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D9CCC-27B7-4798-9093-2B1EBAF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8C4-FC94-4A5C-B822-A854A0B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C0557-9FCC-4C91-BEAA-17E5AFD9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B4C53-B3B0-4524-8707-86A1B87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87D37-2B5B-41E8-BEB1-C74CC10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D4195-34D9-4566-9A68-1BDA632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9E171-AC91-4820-9F40-B9D84EA9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CFE4E-3267-49CE-8066-3A481A78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EA05E-91E8-4456-9BCE-216DE710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5B540-665F-4E88-B124-4443FCA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80E50-3C9F-43D8-8C5C-387F423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18165-9BA5-4CEF-A2A1-C2C4E7A2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583-01D9-4228-8C46-37A18DDE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63365-6DF1-4E08-AF0B-95C57CC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A6503-F249-4267-821C-FB31580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1B594-5A76-4999-837A-9CE3900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74E18-E1BB-454F-9438-2226505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315B3-631C-4DF1-A099-5F24B382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2BBAD-A7C3-4E29-BC1E-A9151F9B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B1E0F-EA5D-4788-9436-2389190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D3172-DB70-4416-8A04-6D10FF11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57095-3918-4353-9892-79421B0B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2A6D4-5CCC-404B-86C3-1CD43327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965-1506-4973-B6A3-C53FB782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85356-D416-485E-B417-5CABE3CD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428F5-18AD-4E59-84A3-9CFCD16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75F0D-30D3-4950-ACF3-E7728940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1E9D1-A3AD-4938-A181-EAAD96A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35C9C-3EAC-4065-8944-B061B37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C54DA-EFF0-4FDA-B60D-AEDD1F4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94963-295C-4EB9-B705-9C5F4DD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32317-716C-4251-928B-E45161FC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6ECDC-88F4-44B7-86B9-A4C55FBC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B5375-95D8-42C7-8AC7-FB894482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23F4-706E-45CD-A6D3-CDE02A1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F7D87-3C73-4086-910F-58E12C98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94591-3428-4B6F-999C-8010FFC6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36EC5-0D9D-4E6C-B298-5DB238D1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2EA4A-DF75-40F1-9CF6-3D2C6348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9578D-833D-419F-8290-A2957FF7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D872E-6564-4CF0-885C-5C086092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F76CD-8C2B-4499-9C51-4177F15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DF056-84D1-4CB5-9A2C-3A943A3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53FBC-2006-4EA4-B5A6-E921E77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8920B-4149-44AC-A402-AA171F74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0AA-E8CB-4F22-9885-D228962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322B6-D79E-4FB3-92BA-31F968AD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6EA0-E4F9-4CDC-A8F7-DA483FE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629-5F1F-46A9-8783-20220CFD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F86D-6549-4495-86C8-A9E1F16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37D-21C4-4D4A-BFC9-6B83259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B80A-0A84-443C-9EA9-301D1B08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A94A-6D0F-46F5-9E8F-1377A0B5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CF0D-9B04-4216-B56E-43A71EE5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6C8F-85CF-44FB-BEE7-AD571FD8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529E-9451-46B7-8CC1-0BF9D293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154F-ACE1-4C0E-B4A3-7B7658B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CE41-196D-437C-AB12-624FB3C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977B-FD61-486C-8E2C-E3DAB9E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0DF-41E2-4BDF-8924-9D4D670A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0174-5CAD-4DCF-8EA9-DB7886F9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9B94-E94F-4044-9586-D51FB1A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A72EF-7C9D-4549-8D28-8958770D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E24B-5A27-4DA2-8B19-F06F60AD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3C4E-CF36-4703-BEA5-47069E5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AC5AC-AAE7-43FC-9019-AA456A29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C2C6-DCB7-48D3-9195-A75241F1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E56F-765E-48A8-8354-EC38A731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4FCC-0F3E-4DC9-836C-606D60E1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5F1B-81F6-43C3-B2D8-75D13B7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1AA-929C-4094-9533-AE690979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B9B4-1A6D-4E64-858B-1AE8340E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172B-436F-4C56-8649-38EF3956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63FC-5DDC-45FB-B7A2-BA98908D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28447-91CC-48E4-A5A6-AC2942E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5324-5CE9-4621-A1DA-ADEC69A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E6A5-3DE0-4CD0-AD4B-BEB97BD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7DD8-791C-446E-85CC-2C15F7F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3E5B-99A9-4C6E-B448-8AABB431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2C13-9EB0-4504-A4E5-6321DA56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D6D5C-43F6-4885-A7D8-089E4337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AD7-D0D7-4163-803A-9CC6721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276A-1F94-4326-9783-BE1442A9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0923-B000-44B3-B34D-8D4B7DDB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0161-4461-43F3-AD58-6987AEC1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8868-305B-49BA-9666-F368FA9C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8172-7C22-4BFF-93D5-4731628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A226-81DA-4484-AD99-D734E5E9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C0D4-19C2-4ED5-BE1A-0A0A1858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CC5E-6DFC-4269-BD3E-28670C6D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A43C-E568-4DAB-9F01-E10C526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DAE4-5FA3-4FFB-9CE3-BC2776F3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73D-C2AF-477A-8F71-FA6386EC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6363-6751-41E0-8B4C-D09FF749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0C23A-CA0C-4294-AEC5-D9FDC927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A04C-AE1E-4A94-A3C9-A8E7BF5A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0EAB-641C-4EC5-B938-112A238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2395-36FD-4377-920D-751DBA8A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24546-FB5B-4D88-91EE-811251DE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8247-AFB9-4C3F-966C-1878E8F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192F-80AD-473B-A7D4-EF9D9CE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4E38-E591-46F3-B55B-7D05F39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108F-A7B8-47A5-B347-FA8805B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38E-7ABD-4A40-8306-3608F5C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3D50-A1B3-4E91-9980-1467387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7003-2084-4A25-8DF7-BAE51900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70D9-1D37-44D0-B185-41AD5D01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6C90E-0B7A-409C-AB4C-C9B90474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B43E4-F20A-4DA3-B491-DD7B3DD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A9DC-C14E-4C3E-935F-4259DB1C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0A2F-630D-474C-B10E-ABCC15B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4ED5-75BE-4977-906B-84DDBD56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572E-9C0C-4540-96E9-1B200488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CA5B-A993-4C7D-B600-770F9B1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755-EBAA-44C8-A1E6-4152D36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545F-E4BF-4888-8A23-61388E0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E23E-5C97-49F2-A2B1-2A1B08F5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1C80-225D-4CB4-98AB-1F846D2E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7664E-763C-4D78-81BA-A1C88547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81A9-FBA3-4069-96FB-CB4B8BB8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A42B-5556-4D19-B5CC-2A3DBFA6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5307-A0C0-40F2-8AB8-7A93533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1BD57-D2F0-4D8E-8B73-2F4518E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B149-B600-4A31-8E2C-013C58CE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6B389-E599-44BF-921D-D531836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6C8-9A8B-4C39-B8F1-6EDE1E2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69066-3B9B-4D14-844C-9E7A4A63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E5C3-9017-449D-9F53-16164E4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EF44-D203-4F2A-AAFF-E24DC764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D9AD-CB72-493D-834C-EFD8292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C87E9-6EA8-4D3D-8EB7-8076BE5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521B7-CDC3-49BC-821A-7AD1E5B7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A584E-A26E-4521-BAF6-5530BE67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6FF73-5E0E-4B57-A199-30DE3B0A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EE90C-2E64-40E2-B5D1-985C93DD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BEC06-CC33-4A32-A73C-B5AEFC3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31FE-9C14-4E70-8229-38B3961EC68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6DE9-AC69-4FDD-BB25-BD931FFB67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8DC-236D-4F45-9D56-FB091A132F1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9D8A-8FA6-44C1-844D-30552BC78A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5564-C180-466C-B671-BC69379B42C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22E2-4BF2-47A0-97B2-922A30BDD3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D1B5-E9C1-4BE2-B7C1-3053D3F0602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C972-6F30-4146-A6F9-03CDDF505A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6D5-B95B-4517-9BF1-8044C915E8A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B03-F174-4951-BA03-51712D13C5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67A2-F350-4F6B-95D6-734A78F9F35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6413-66F2-4103-B8A7-72D5548639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329-FCAD-48D9-B8C2-8DA00D58B9F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16D-251B-4B22-98BF-F8C3612C27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2A81-D1CA-45CB-BF37-A5B22D4B357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AF2-7D44-479C-9468-18544C489A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8BC-1D41-4100-B25A-824101FB82B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469-6A69-4DB5-86A6-F1A6509CC1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4C7E-558E-4808-9B03-CFECEE1FFBF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BA6-D062-4EF6-B86D-82D6AE1FAA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A03A-9C07-446E-B44F-3F1AD62E4E4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B413-2E8F-46E5-88DD-1C0FDD04D0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B0AB-76C2-4225-AD5F-0AF6386ABFD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CF2-0980-4B90-BAAC-B301B39361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7241-6E77-48B5-A975-66849F5770D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D5E6-79A6-4AA0-A4CA-8E2AAB15BA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A7C-8DEF-4105-9142-A1581BE0C6E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46C9-8CBD-45F8-8A50-77D9AC68CD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400-6C7A-4F49-89AF-CC33B9A3BE1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039A-FA63-4BA2-8B3E-7DE0EF35DC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5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7036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гражд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тчет 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024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01D3-5984-43AF-B4D4-74C2ECEEB7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382-CA22-4E24-8904-29D39D1124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571680" y="2690640"/>
          <a:ext cx="8586720" cy="3117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2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 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737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66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907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25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601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18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01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2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7D3-EA80-4F8F-A0F6-8C71082624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2149-6458-4A9F-A37A-E487B6CD8C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за 2022-2024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268200" y="1219320"/>
          <a:ext cx="8977320" cy="5391000"/>
        </p:xfrm>
        <a:graphic>
          <a:graphicData uri="http://schemas.openxmlformats.org/drawingml/2006/table">
            <a:tbl>
              <a:tblPr/>
              <a:tblGrid>
                <a:gridCol w="5208840"/>
                <a:gridCol w="1287360"/>
                <a:gridCol w="1247760"/>
                <a:gridCol w="388800"/>
                <a:gridCol w="405000"/>
                <a:gridCol w="439560"/>
              </a:tblGrid>
              <a:tr h="46260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 год 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 год    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7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66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90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0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6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469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3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33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676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10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672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12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0601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3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518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25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5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00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5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9" name="Rectangle 151"/>
          <p:cNvSpPr/>
          <p:nvPr/>
        </p:nvSpPr>
        <p:spPr>
          <a:xfrm>
            <a:off x="7859880" y="952560"/>
            <a:ext cx="677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3DA-7CFF-4A70-A8EA-CC72FB2743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C87-6A8E-4D5A-9E5A-891926A882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203-CF7C-4918-80FD-6DE17F97D4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F5E4-ADC1-48D0-BF96-F2325679B5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з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34" name="Object 4" descr=""/>
          <p:cNvPicPr/>
          <p:nvPr/>
        </p:nvPicPr>
        <p:blipFill>
          <a:blip r:embed="rId1"/>
          <a:stretch/>
        </p:blipFill>
        <p:spPr>
          <a:xfrm>
            <a:off x="-446040" y="671400"/>
            <a:ext cx="9166320" cy="579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B0F-3F3C-4648-99F8-2F86FCDB53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30CF-D132-4CE9-9B0B-772CAD3B9A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4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Транспорт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Object 6" descr=""/>
          <p:cNvPicPr/>
          <p:nvPr/>
        </p:nvPicPr>
        <p:blipFill>
          <a:blip r:embed="rId1"/>
          <a:stretch/>
        </p:blipFill>
        <p:spPr>
          <a:xfrm>
            <a:off x="-1160640" y="-152280"/>
            <a:ext cx="11452320" cy="756432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71C-942A-4B64-95CD-CA58C0E86A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819-1774-44C1-A234-53A416E2E7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-86040" y="44892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21 - 2024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8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648B-8D34-4BEC-9EBE-3BB82BAA10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8734-FEA4-468B-AD05-D2C7262E28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190440" y="1009800"/>
          <a:ext cx="8282160" cy="585936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98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888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89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0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56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1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4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2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9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7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0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2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7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4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6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11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9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43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5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Object 4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11198160" cy="7183440"/>
          </a:xfrm>
          <a:prstGeom prst="rect">
            <a:avLst/>
          </a:prstGeom>
          <a:ln w="0">
            <a:noFill/>
          </a:ln>
        </p:spPr>
      </p:pic>
      <p:sp>
        <p:nvSpPr>
          <p:cNvPr id="124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5D11-EF5D-431C-8FB2-1CFAF9E596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195B-E822-4779-B69B-37E83FA247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з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Object 4" descr=""/>
          <p:cNvPicPr/>
          <p:nvPr/>
        </p:nvPicPr>
        <p:blipFill>
          <a:blip r:embed="rId1"/>
          <a:stretch/>
        </p:blipFill>
        <p:spPr>
          <a:xfrm>
            <a:off x="-660240" y="-485640"/>
            <a:ext cx="11596680" cy="7427880"/>
          </a:xfrm>
          <a:prstGeom prst="rect">
            <a:avLst/>
          </a:prstGeom>
          <a:ln w="0">
            <a:noFill/>
          </a:ln>
        </p:spPr>
      </p:pic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80680" y="188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з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8850-260D-4CD2-A923-48A9DD25EC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Номер слайда 5"/>
          <p:cNvSpPr/>
          <p:nvPr/>
        </p:nvSpPr>
        <p:spPr>
          <a:xfrm>
            <a:off x="7085160" y="61182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2E86-B90C-47E2-B147-2D71EEC407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06E8-B5A1-4EDC-B60C-572ED1E857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B8A-44C7-497E-81F1-98DC05AC27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9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9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BD7F-95AE-4372-9BC3-40241DD928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2F29-CC64-4EFD-B5C9-161586B2E5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75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75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7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2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5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5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Object 4" descr=""/>
          <p:cNvPicPr/>
          <p:nvPr/>
        </p:nvPicPr>
        <p:blipFill>
          <a:blip r:embed="rId1"/>
          <a:stretch/>
        </p:blipFill>
        <p:spPr>
          <a:xfrm>
            <a:off x="-841320" y="406440"/>
            <a:ext cx="11422080" cy="712620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з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054-8850-48C4-8A07-4FBBF6A7F6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0998-8914-4525-8CD9-BDD645FACB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C2D8-C7C5-4053-B857-48549033EB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8BAC-4985-436A-992E-7C5B317477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3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26,4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42,0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324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76,2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30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34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7"/>
          <p:cNvSpPr/>
          <p:nvPr/>
        </p:nvSpPr>
        <p:spPr>
          <a:xfrm>
            <a:off x="6702480" y="500076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420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9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74600" y="3837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отчета об исполнении бюджета муниципального образования «Ленский  муниципальный район» в 2024 году назначаются публичные слушания.  Положение о проведении общественных обсуждений или публичных  слушаний в МО«Ленский  муниципальный район», утверждено решением Собрания депутатов МО «Ленский муниципальный район» от 10.04.2019 года № 60-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4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3.12.2023 г. №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5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C3CE-56C0-430B-9CD8-BD0D1009C0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CA7-B2E9-4E06-8450-61569BD070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125-B11B-465B-B6B0-E117948CB9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37F5-41C6-4503-9E60-FA8F970A0E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19B-A4C2-4764-8E9B-7BBE223D11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228-41D7-42E2-95DC-4EFBB2D067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DDD-35D1-4E8B-85EF-F1B48BBDC4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9E3-7F4C-457A-95DF-684B0C4483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42184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202104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2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933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199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51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1586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6888,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5057,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653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4,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539,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7DF-A257-44A9-860A-661C611485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0CB-625E-4614-BE4C-E395B8C2BF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Пользователь Windows</cp:lastModifiedBy>
  <dcterms:modified xsi:type="dcterms:W3CDTF">2025-02-18T07:12:54Z</dcterms:modified>
  <cp:revision>1140</cp:revision>
  <dc:subject/>
  <dc:title>Бюджет для граждан на 2014 год</dc:title>
</cp:coreProperties>
</file>