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FFE-9932-41E2-932C-F79DD1AF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FA8-724F-438A-B01B-7C229BA0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428F2-91B4-4E3A-996B-78CFA849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556CC-BF4C-43DD-A813-7966933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265DA-EFA3-4B6B-9014-1216650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4B698-BFEB-4EA1-B63B-EDBBFA4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3BE92-454D-4B2F-A076-A33C2351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AC80D-2E7B-400C-8B7A-8A27B1A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B00A8-7AC6-4628-8E77-C3B29251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C113D-5F13-4818-A821-E843F79A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B4529-B26E-462B-9167-FE318877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D84A3-DAF7-4BAE-9F7B-3CBA2F5F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1B3-37E0-4597-8035-9DC3AB8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54B43-CDA1-42B8-8891-D92B9EC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67D7D-9FA5-4949-AA37-B453CF6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B7D47-DAB9-4477-AEFF-08D46F4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D591-BB47-4082-AD8B-865E896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64358-65FF-47DB-95AD-9E59CE3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AACED-13F4-499A-8573-2975BE3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5E8E8-C238-4966-84BC-8ED4178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E977F-FB4E-4EAD-A71D-4ECC419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33CD-0DC9-46AB-8F5C-0643CCEB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FA05B-6C91-4F25-947F-ADF0D74D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4E9-DF46-4FB3-BA52-C51A8B1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7A19E-384C-444C-B2E6-EC21F290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A98E1-E41B-4D4F-9927-CF7336B0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9030C-3EAF-42E4-A260-898DF30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CAD03-1243-4CB9-AC69-7DACA9F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3B1A4-3289-4832-B975-106EC76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FFBDF-7257-42CB-A161-E505A09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4F619-2FCC-432A-AFD5-2271A02C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E1F70-E5AF-4C20-9EDF-99E86D2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DCCFD-1A21-40D5-A2CD-5DA81AB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25AF-CCFD-4E49-8408-27F993C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064-C401-4148-BCC7-5214324C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9783-7EEE-46F3-875A-D47ECFA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5D7CA-EE01-4CF6-A9F4-6E1FC273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BFB5-1B30-4294-A985-04A1537B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F5D5-2DC3-42F4-9D5A-73EDEE47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3A3E4-9EE4-46D9-B4A0-D83BC1EE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F9863-5681-4E46-A5CC-4DA6A10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F757D-C03A-4407-AF5B-31401100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6D38-FAFE-4ADD-95D8-889C158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1D07C-7D99-475B-A3CC-0AC0D6A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4F7A8-295D-4652-97A3-BC9A7F7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152-9D0C-4F7E-B988-17B353B2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0FEC-4FBB-4297-B6C2-59411B1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1C7D6-22C1-4EF9-B587-460F7C7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29415-0BA3-4CEC-B2D8-B10A174A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DF0B0-2532-47AC-88DD-D749E70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B7DCB-6A66-4842-90C1-08EDD48C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E775B-8B3F-46DE-872D-871E2216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C6FF1-D686-42C8-863E-27F4F36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93016-D796-488E-B641-FFB509E3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2C827-C070-45C3-89A7-A6E0758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7BF0C-5D4B-4900-9EEF-4042F0A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88C-693A-4043-BD6E-45CF0B1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6F385-16B8-497B-B865-7B707DB0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29097-93B8-4541-93CD-B48C592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AB467-774F-4E47-9877-A3E7A25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3AC05-BB86-4864-BC1B-52C3DD63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C37A3-E97E-4FC4-AEE0-ED789AA2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2800C-05A4-4F6E-8DFF-7FA464B8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9FC98-357A-4330-A8E3-DAA5C6DB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67C42-E2A9-4161-B8A6-72E6A145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D4B4A-3078-4E2D-B454-8FBC6DA5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324C9-9458-4E69-845F-E49D2CF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D711-A8B3-4711-AB31-9DDC17A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49D69-6C2A-4013-ABDC-1C8F757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13273-D4DA-4689-90F6-086E97C4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E1B3C-1634-46DE-A1D1-FC50EB16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4C77E-050E-4B59-A95A-52F83B0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9E967-9790-42E1-993B-0A7058B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1AD64-2E7F-42BC-A3FB-FC63B5C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16A3A-279B-45C1-8803-8C82BEC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4C516-E684-46B3-9CB4-CC61FFAE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123C6-F126-4150-B6AA-B88197B6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180C1-35A1-4261-8566-4DC7425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0140-F864-4506-9552-2F2CA306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4C95D-9846-4053-AD43-246AD1BF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DB8E1-B1B9-47CB-BD53-060CADE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0C221-0A7F-4945-8D70-6920191C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69FD7-1DD9-44E8-A796-53955FA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85878-ECC0-4E4C-B5CF-E24F573B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65F93-7A37-42C5-9903-E4078CA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1CB23-F499-44DA-B2AD-0C34177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7C1F0-EF47-401F-805C-E7A32C2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95C75-9EE4-4DBA-8B1E-187F580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91F34-AE88-4C07-B5A6-47855E8E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E3F-9471-4EDE-AC3E-0FA11E1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604A4-5CFB-4046-9518-8A19DB4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2D0-F5B1-4539-BFD3-60879C3E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EC0-F3ED-4EAB-992D-3AFB461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CC1C-D229-4429-91CF-7B97C41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FFD3-7220-45AC-AE94-84E0D00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48A-F247-4852-8A35-DA2F2AFE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E934-CBA3-4AF2-AB87-82F1DA1F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DB96-E3AF-420C-815D-BFEA1101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90FB-0FD4-47FA-A563-364B40B7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A0CE-57E5-4CBB-81EA-36CD94C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7E8A-9EF1-45D8-B1ED-202B39A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C705-FF1C-4507-AEAC-5ABB205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42E0-22D6-4509-8AB5-3C4CF41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9A5-82B1-43A3-B040-01105E07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7804-08EE-4EA7-8DF4-BB4B3A1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8B0D-A422-4CC9-9E88-260A76F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FCB7-ECBD-40B9-8330-0D46512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8724-A4F6-49F2-A32B-D890333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A9F0-8E2D-478D-9D62-889BE95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DD7C-0769-4D12-BEF9-D65666CB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8AA4-583D-4753-B29F-F7B22E1E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D99B-CD7B-47F9-BD44-CFDEA588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3ED9-23BD-4F9B-9135-E970E83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F8F9-7D31-40B2-93C8-6564B1A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160-1945-43EE-8AA4-6EF3803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9E58-66E1-40DD-BDDC-80936D1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C431-D7CF-4936-A43E-8B13CE7D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91A2-07E3-48C8-90BA-52879FF1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151E-8E78-472F-99AD-5A2EDED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43C2-87B2-4060-BAAF-CBBA46B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0C36-328C-463E-A697-3094518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2B916-BC0F-4635-96F6-0FFC65C6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A73E-ACF8-4480-9B0E-D63C5534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AFD9-57FF-4A62-BFC2-2354AF7E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486D-D670-4A9E-B8B7-EADC6FB8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B12-7633-4EDD-AADA-F55FE56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A531-B2D0-4279-81E2-EB90BED4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4BFB9-42A4-4449-A087-0B7A600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266B-785E-4C56-8AF4-E5E5E3C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1755-41C1-4347-8463-DDC0482D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3544-148B-48C2-A287-D538A31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56D6-744C-401A-B74E-3385B98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1F2BF-9848-42C3-BCAA-E681405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5AE7-CBB5-4074-966E-3F7B133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5121-0829-43F4-92FE-C5C326DE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4D3E-01D8-42B5-A603-5A93CF36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5A4-61B6-4400-A163-4FF330D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1FEF-58A8-49BE-AC2A-A21F2597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CECD-CD7F-4160-99A1-3583383D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E1D1-0393-45EE-862E-78B2DC8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4B73-56D0-4980-9DDB-2FA25BF4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53E46-3478-421E-8F92-C32E08E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23F2-AF43-4A4A-B277-B19BE917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13097-4F30-41F7-BE62-68C89B99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51FC-2CFA-4C76-AACA-A4C4527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AFAB-2932-4D8D-8E45-FD3EF0B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3599-CCA7-464B-BD14-5EDAF75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CA4-0218-423F-9512-A7801CF7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B0447-E321-4F16-BCD1-0120379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C82B-881E-4F13-BF58-1E83CB6E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6482D-9757-4078-B864-497A3DC7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9F8B-2CA6-4649-B54E-1FC49274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7F01-69F8-45E5-9B0F-CECB998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438B-7C0A-42E5-9D43-BF9C4A5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937F-0DA3-4C36-8401-D0C34A74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B9022-F27F-4A12-81F6-8A41F37C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D19F-66E9-461B-AA3B-1A1EA11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F228-158A-4C3E-A7B6-B394AA2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6E6-3CE7-4330-AC3F-CBABAA5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2AF9-76EA-4293-B21B-CCFF619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6AB2-D1DA-4D82-9434-FAFCD28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35D79-4A82-416D-8F37-B1B7C001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E798-F77D-4E8D-A652-01A13E78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AF2B5-EB66-451B-95C5-D20AC1CC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ECEDF-18A9-4DB2-A60E-F44827EF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7BF6-105B-46DB-B212-A62BF9A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9A1AA-4D64-46F4-8150-E7EAB290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6984-B7B4-4D87-8A34-123887E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0E4C3-2D0D-4FB7-8185-1974C44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6FD-C30D-431C-95FF-E3A050A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4218-5A5F-4ADB-9BB7-433ECDD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81BB5-E930-4700-8EC5-28C3960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61A8-5070-4B68-AE06-C6A6A3E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57F71-729B-42B7-BD2E-A374E19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6C38-6CE7-43EC-992C-29A4E99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657DF-DDC2-42EC-A46B-F1872CB1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E929-42D2-493C-BC0C-13A40DC7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78A3-29CD-4102-9680-8BE4F38A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EF9C-9322-47A5-9772-75861D0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894A6-2490-425A-8C92-DBEDE97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2245-F703-41CC-892D-CD1BF165CAE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343C-75AF-4A8A-84E4-EA44FCAC0A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C8E-6A76-4C80-8F08-2DAFF77E5A8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2A1-042F-4FF3-BC65-45E62DFC47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D241-6517-4CC9-9D54-FDF7465E893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DC5A-2926-4C0B-BDBA-54FCD8FFEB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2F5B-E5DD-4E56-B374-E6CCC86B86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844-8966-4A7F-8DD8-8B2A4FA60A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126-A6DB-4C20-9022-EC2C4206D7B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7861-CFEE-4E59-A4A4-F5A58BBEA1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738-2B79-4002-A8F0-2D53E0B1F5F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34B-7CBB-488E-8213-7E0F7F7642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482F-0075-4932-BC14-27AA84E99EE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4B5-0EE6-439D-86CA-EECA5356CE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99E-701B-44AC-A862-5E952A3631F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CE9-4E45-4988-BA16-7DAEB950DE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F38-44EF-40B7-B27F-3E657A22BB3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F23-69A0-41FB-B779-37CB5EF278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291B-B113-486D-A4FA-6B8F5E89889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8DF-5226-4AD5-9407-75EE2C1A42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C7C5-5F3C-4E7C-919A-DEE896E8EB9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8C8-CC73-4A68-97D5-63426A976F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247D-BF87-43F9-B1A9-71A9CE3BEC4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182-47CA-4FB0-A1AB-C3BA30803A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13D-4060-4D6A-A218-8E57567C2A3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D0C-0F6C-4EB5-BAFA-0FD73C51AE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260-C02D-4D08-8A11-FEFAA050D06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2929-9F3A-426B-8083-0482295409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600F-3ADD-409B-AD5F-91C3ACFEDBB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FEBC-176A-4983-9584-429FF4681D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24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83D2-B599-4E69-85F4-03907E2CA7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29E-DB84-45B3-B9E2-0EDB752E71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Реализация мер по обеспечению устойчивости и  сбалансированности бюджета  МО «Ленский муниципальный район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При формировании бюджетных расходов на 2024 год использован «консервативный» (базовый) вариант прогноза социально-экономического развития МО «Ленский муниципальный райо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00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5E5-66CE-4EAF-9FD3-CCCE7B3E43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30BF-DEA8-48D4-91BD-EEA69A3BB2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DB6-323E-4061-8FD4-F3C581F302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303372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2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17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43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27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00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4 40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 10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63A-1328-43FE-A5CC-4865182609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B248-25F0-4D66-A706-9497836242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21 – 2025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5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6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08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896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56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71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234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6458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40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63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4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65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19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9A76-ECC5-4A19-BA7E-F27D8D2306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185F-7E18-41B1-938E-6E1D067EE8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24-2026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0" y="1114560"/>
          <a:ext cx="9180360" cy="6786360"/>
        </p:xfrm>
        <a:graphic>
          <a:graphicData uri="http://schemas.openxmlformats.org/drawingml/2006/table">
            <a:tbl>
              <a:tblPr/>
              <a:tblGrid>
                <a:gridCol w="4292640"/>
                <a:gridCol w="1303200"/>
                <a:gridCol w="1233720"/>
                <a:gridCol w="434880"/>
                <a:gridCol w="361800"/>
                <a:gridCol w="392400"/>
                <a:gridCol w="1161720"/>
              </a:tblGrid>
              <a:tr h="46260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61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1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5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6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3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73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4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10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44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14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4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2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01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3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8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14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1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1AE-E013-49EB-B138-8BFEDA9B94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2D0-D927-4F95-84A8-181346F953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Object 4" descr=""/>
          <p:cNvPicPr/>
          <p:nvPr/>
        </p:nvPicPr>
        <p:blipFill>
          <a:blip r:embed="rId1"/>
          <a:stretch/>
        </p:blipFill>
        <p:spPr>
          <a:xfrm>
            <a:off x="-838080" y="307800"/>
            <a:ext cx="9978840" cy="6612120"/>
          </a:xfrm>
          <a:prstGeom prst="rect">
            <a:avLst/>
          </a:prstGeom>
          <a:ln w="0">
            <a:noFill/>
          </a:ln>
        </p:spPr>
      </p:pic>
      <p:sp>
        <p:nvSpPr>
          <p:cNvPr id="124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ECD-EEB6-4812-BF6E-1A3441037F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7FBE-8A06-4157-A381-A06E7C08BA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F542-7E2B-401E-B8F9-B070592EB0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A035-258C-4944-9F7C-28935E45B6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4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20680" y="841320"/>
          <a:ext cx="8400960" cy="587052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Транспорт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ject 6" descr=""/>
          <p:cNvPicPr/>
          <p:nvPr/>
        </p:nvPicPr>
        <p:blipFill>
          <a:blip r:embed="rId1"/>
          <a:stretch/>
        </p:blipFill>
        <p:spPr>
          <a:xfrm>
            <a:off x="-1012680" y="-609480"/>
            <a:ext cx="12264840" cy="837720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30E-8CA0-499F-994F-E519713E38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BD4-35DB-45C7-8F32-D46310B7D3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22-2025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7BAD-5C9B-4B3D-9954-50BB2BE028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210-C063-4C5B-8201-12FF538F26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190440" y="1009800"/>
          <a:ext cx="8282160" cy="752760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98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1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14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5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4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2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9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1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7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7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0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6E8-B90B-47CB-89AC-AEE129CBD8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8EF1-4F2E-4370-816F-60458AE27C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Object 4" descr=""/>
          <p:cNvPicPr/>
          <p:nvPr/>
        </p:nvPicPr>
        <p:blipFill>
          <a:blip r:embed="rId1"/>
          <a:stretch/>
        </p:blipFill>
        <p:spPr>
          <a:xfrm>
            <a:off x="-1057320" y="154080"/>
            <a:ext cx="12011040" cy="799632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468-6680-4DF3-8134-FCA09065AB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F7E-CE1A-4F81-8C5F-A3F6F4A6DC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Object 4" descr=""/>
          <p:cNvPicPr/>
          <p:nvPr/>
        </p:nvPicPr>
        <p:blipFill>
          <a:blip r:embed="rId1"/>
          <a:stretch/>
        </p:blipFill>
        <p:spPr>
          <a:xfrm>
            <a:off x="-1015920" y="-558720"/>
            <a:ext cx="12409560" cy="8240760"/>
          </a:xfrm>
          <a:prstGeom prst="rect">
            <a:avLst/>
          </a:prstGeom>
          <a:ln w="0">
            <a:noFill/>
          </a:ln>
        </p:spPr>
      </p:pic>
      <p:sp>
        <p:nvSpPr>
          <p:cNvPr id="126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00BF-E5C6-42C1-BA1E-F72BB1895B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1D4-C2D1-4D86-AC00-C8E0E743BC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3DAC-CAD3-41A6-BE0E-93DDAEDDE0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21F-B47F-43BE-B3D0-AB26A98BDF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1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Object 4" descr=""/>
          <p:cNvPicPr/>
          <p:nvPr/>
        </p:nvPicPr>
        <p:blipFill>
          <a:blip r:embed="rId1"/>
          <a:stretch/>
        </p:blipFill>
        <p:spPr>
          <a:xfrm>
            <a:off x="-1247760" y="0"/>
            <a:ext cx="12234960" cy="793908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541-4334-48AD-BECE-752F7C1904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658-C7BC-4FF7-AF27-5383322F21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A12-D2E3-4188-BD2B-BBEE9B9420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B68-2B95-4613-9788-118BF9E053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5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6,4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42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,0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2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3529080" y="502920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34,5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09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41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отчета об исполнении бюджета муниципального образования «Ленский  муниципальный район» в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значаются публичные слушания.  Положение о проведении общественных обсуждений или публичных  слушаний в МО«Ленский  муниципальный район», утверждено решением Собрания депутатов МО «Ленский муниципальный район» от 10.04.2019 года № 60-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4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3.12.2023г. №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5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E2C-AB31-4644-99FD-603A102817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616-41ED-4EDF-AAB5-5E8864EF58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A29-CC0F-4B18-B3D1-37B09E6859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D4B-8680-4FF4-9F94-3195D54B05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B43F-BABD-451E-B8E8-BBF3149591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440-06C1-4538-AD28-EAA11C1C12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372-B5C9-471F-A6B8-8365632925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CCB3-9FFB-4D20-AA59-F485FDC093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5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199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20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03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888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61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113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104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4 40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 10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FCE-B89F-414B-AFB5-65B4AF86D1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1744-F6CA-475D-A4EA-6E844F7833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24-03-25T08:14:43Z</dcterms:modified>
  <cp:revision>1125</cp:revision>
  <dc:subject/>
  <dc:title>Бюджет для граждан на 2014 год</dc:title>
</cp:coreProperties>
</file>