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7CF9-9471-4B79-BD8E-07A8D038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8B7-97BF-4D2F-B144-BE7744CD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C5560-DC68-40E3-9790-1201E335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B7331-BE44-42EE-86CF-4C5F9DB8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F80AC-7950-4A0B-92C4-577F246C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70617-A3E0-4EBE-B15A-BEBE083C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3178A-5EA1-4F72-83CD-D2AA6B5A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0D166-1288-41CA-BA9E-DF2D6F26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34B54-1734-4051-9C74-7E822A5A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3F32B-209A-439D-BB13-2F05C8E1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3B00C-DB84-49F7-9B3F-F5B94B9B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E3352-B217-45B1-94DD-CE7B5AB4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97A-33C8-4877-9C0E-BBAF507A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B4DD0-08F6-4023-8C64-BBD602A9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BA6E3-7A8D-4FA3-AE4A-45D30C38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0C7B0-6FA7-4588-AC92-C9825012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CCF7A-3415-4124-A4E2-B6180575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AC259-902E-4205-8497-37601451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CF3FC-E7E4-47CE-997C-BF219D31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75126-3C58-4530-B787-A6945E41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4BBB8-1047-4F29-9403-081A2EDE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C183F-A19C-49E7-BE80-A93E181B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ACDD3-2D8C-4E1C-969E-0865EE31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8B42-ECF9-41D3-8B1D-8DA3F40E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A5789-7F42-4683-A8A7-6FE1635D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767A9-5823-42CF-B392-FE924ED1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0A14B-B163-4210-9638-856829A3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B92AC-05BB-45E2-959E-4BE268CD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64832-FA4D-4A9B-916A-1CEEA31C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C020F-8981-4334-991B-E81F4072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2FCA6-6B8C-4037-923C-708B2DAC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41D7B-3013-420C-85B5-5A78348E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2D734-5376-462B-974A-2BD3F4CA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2C09A-1F5B-4F84-B55E-33A4357D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B178-DBD2-4F54-87CB-9DFEADE3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C3011-9A57-40E2-AF64-4045B998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8D4D7-4DCA-4B10-8398-9EA0CB7D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40A88-7946-4F97-BD6C-571FC383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27A84-EF3F-4439-854C-D60C9D19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F94B4-EA17-4D06-AD55-913149B7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7FF88-CB75-4695-B551-38BD4A9D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725C8-EC7D-4564-B9BB-6203BBAD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7C287-FD97-4BC9-BA84-D3BAAA20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FC494-8FCB-4812-B3D1-8FB72DBF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C24C4-03BD-4A70-B9B2-8DF380FE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E91C-CE79-482E-B80E-B7AF8D2D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13652-8F69-4130-A704-64E210B9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6E9B27-4983-4A1D-A306-38DCDA5F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F6675-E76F-40A5-BE97-C6A35417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E2A92-07D0-4830-8E34-735C2308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70C16C-4412-4AF0-B233-2BC6838A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E8983F-9776-422E-800F-EAB35D59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8AB32A-992E-43E2-9B99-4AD3A73F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5BAB5-CD73-4B4C-A855-EE9118E0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9BF06F-C1DE-45EC-897A-5B24F36A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A5299-9D6B-48B0-9423-A19AA07B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FC8E-5243-41BE-9EB7-62F05DED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A55C7-CEAF-455C-90F7-DF43C91E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196FA-1281-4BC8-8B9E-07DAB263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0DAD0-3B1B-46CC-882F-ED6AABF5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47449E-E4EE-405D-BFE3-26E6A2D4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72C634-025E-4811-8A9D-26E7682B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70E77A-97C0-473B-BCAD-3F50CEDE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2EC417-4A4D-45A1-B8CB-AE827C96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A4CEBC-7BF5-4C93-B049-B49F5F34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EFB383-C93F-4112-BC1A-454064D3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5676F-9D1A-4911-804F-15430E78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989F-44D1-45E7-A2CE-55ED03C4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9C4F8-1B5D-459E-B86B-0AD67D81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7BC234-6D61-4702-8910-EAD25194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66115D-5621-41AA-B58A-EED7147F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8F67FB-93BA-45D7-8ED9-ACDBCF23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C0BA6E-0413-4F0E-BB9C-9DE198D0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3184F2-AD77-46F2-9C4B-6E176F07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EEBE8-49E5-45EC-B02B-1BD9C287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673BDC-C561-4676-8FAF-44C914D4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1A0022-94F8-4367-BAAF-062133EF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DD968F-280B-4CEC-A4FD-9F9C32F0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8942-D2B5-4C3C-B0A4-0F2CA6FF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A68D62-F34D-4CD2-A0FD-CD9F1D75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EBC750-BD44-4FDD-ABE7-39067C87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51769A-5EDC-46F0-AAE6-13EAC0C9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9FAE39-0C58-4265-84AC-0B1AEFC1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678A68-84B6-4CC1-B384-F11B791A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A34FD9-CA76-4ED3-A37B-AA9D1916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C962D9-9B77-49AE-A07F-D9BC4194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A878DB-2E1A-427A-A2E4-937F3023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CECBD0-7DB9-4900-884B-82812A1C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31AB6C-AC5E-4BDC-8ECD-45D7EA57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74AF-FB6C-4836-A666-8CC7041C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902E2B-0486-4F62-B232-0572F182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E7CE-06CA-4A4D-B1DA-B84CDBE1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4AC6-1A63-4FC4-974C-875A5EC6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40F6-3F82-4101-AD38-D3A94AC9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F6B3-4821-4893-AA5F-AF5DF80B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5F7C-52EA-4FB3-AF06-B2B47115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702B-5C85-4AAA-957A-E3B21037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469B-34CC-47FB-9413-DF372739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95CA8-1B22-443F-B139-39DC3B82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9D612-95B6-4A72-9FF4-8D786A9C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13A75-D96D-4B51-8FD9-CBC16979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9DBC5-848E-4834-B129-5A38A9FD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4BE5F-17C6-49CF-AF67-70FCBEEE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BFF-7BB1-4A86-BD1F-AFC4BADA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5876D-0662-4316-8E17-5C553BAA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A4E7A-DDDF-412B-B542-BEE35860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0AFE2-4CE7-4343-B8E7-CE980F83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AF3AC-D00D-401B-8194-4023EF66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B238B-BDF0-4BE6-8F32-477749C0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B47BB-FD46-48BC-8226-C7132D09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12AA7-171C-46F8-B6D3-E7DCD857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C4C69-8C7C-4350-A640-C8032B71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A7C13-ECBD-4916-AAD6-7C1BC55B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DCADC-928C-4523-80D1-DC26BBA9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38A-1EEF-4F17-9F23-B46F829E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31C61-B548-48CC-B31B-1DA2CE4D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4B730-4F0C-462A-AF5D-5C6F0BAD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82DF3-D0E9-4405-812E-B7F04FA7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770E2-16B8-414A-9D54-3B771736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0737C-E1A8-4019-934A-23BBC8B2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24FA5-49A4-4E02-9516-EC367647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77153-09FA-4E8D-AEA4-4507B737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DA705-B7AC-45CD-B503-40D8CCCF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E67AA-90E2-4F36-89A4-1F18CE6A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3E607-20CB-454B-9876-E4122438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4EE-AAAB-4274-8516-E8C35C80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6DE1A-AC8E-4E3D-823C-8E6615D7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BFB88-36EC-4195-ADBD-A4CED41D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7B481-29EC-40DD-88D3-DF46636C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03179-9347-47A2-8CA0-CABC16B4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87948-7383-4039-AE8E-94C06355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4EBB0-2582-44AC-A817-AB572ECE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350CB-DB1D-4815-8B24-2998AD86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7EA37-8486-469D-8D98-A87E5A4E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AB787-2813-4961-A944-54945EE1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85E16-67FE-44FE-ACAF-E8546CEE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BF71-203F-4C71-860E-C1995DD5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9AC31-DA91-4E1F-98B7-D0C2692D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26E22-0F83-4843-9211-47605347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966A7-25AC-45D4-8FF9-2F85D80C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EBECC-44D9-45BE-8E69-F2B9ED4D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ECAC0-6604-4FBB-8937-89B6FF36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C61C7-3F0F-490C-8956-F8B2C795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AB2F2-C833-43DC-A9BE-1F0A232D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4BF40-332F-4D03-AED8-51907FCE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4D3E4-DC09-4924-81B6-7673780B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3EC4B-7B13-4BAE-A866-F82C23B5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781-BECD-4FA2-AA33-199C7B4B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C3175-EE4F-44D1-A177-DDD9E88C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B19FC-E0DD-4F7C-B038-778AB9CF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F9750-CD4B-4BF9-A8AC-7D536290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6041C-A787-4AB3-9972-48BF9A56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CC5B9-E90B-4B8B-801E-6817F30D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E0230-1907-42EE-B4C5-298AB39A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DCD1F-7809-4405-8CF1-499B47FD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57BF8-0887-4E53-8A7A-8C0613C3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423C4-A4CE-4A8F-B297-3A21D92F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D0E36-4F97-4A00-9852-E6150913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F275-3EAB-4962-A0BA-D88B7951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C7EAE-B2EA-43B9-B7AE-3BE72725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A484D-8762-496C-8C96-0C39D531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200BD-8732-487A-BDFA-70BE4904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3F854-B551-4F17-9B83-54E6B80F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B7F7A-0D25-44D4-8CED-2FD65A1C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D4885-B9C8-4F34-ACBA-5307D42C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041DB-1C80-45DC-A0D3-1EBA3556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CA402-7870-4E08-A213-E78CFF7E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11744-145D-4FC0-9C47-4B518C41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EC3CC-97B7-42E4-AD92-82F67C8D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877-C6A4-4D4B-9278-4080228C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E34A1-B26B-4224-A603-794FFDC3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E1873-F3F4-4B32-92A5-4F1C6B10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7E547-E462-4B25-87CC-CB58CD46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A9AD1-7DA2-4A8C-A29F-9074EA5B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7E90F-9244-42A5-9C5C-FF49B85F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1F128-2B7E-44A4-B05D-1F699D12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7BDFB-F66F-4C72-8F33-D05B9688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B9069-EAED-4BB7-B67B-7B8F434A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015EA-A73B-45D1-BCFB-886EF766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DF6BA-3D20-487F-9B90-C23EA580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5431-8724-4A1B-892B-65C0DD27491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DCF7-20A3-48DE-940B-59F3688C1B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66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D813-9CF8-410A-BA7D-FD24A6FE636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BACD-42DF-4D0C-A689-2AAB1049C31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4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2ECF-9219-432C-A0E5-203B83552A4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62AA-7D36-4F17-86E6-7B1302E7BB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1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F590-90B7-438A-AE64-2B634F4B6E0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8F8D-84D8-4C80-A7F4-09A9A5CC01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9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5B3A-2A0F-4104-9519-6B90C09657F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97AD-3A32-48B6-831E-F90CFB9B9BA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96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AFE4-817E-4F81-9A23-208036FC813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B827-1976-4C91-AD6F-58EEBDECA5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03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4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4FA7-9C85-4677-9770-8D127CAA83F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4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4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24A3-B683-451B-B8A9-D8BBAFAC4B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2468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16920" y="2992320"/>
            <a:ext cx="1450080" cy="2189160"/>
            <a:chOff x="8116920" y="2992320"/>
            <a:chExt cx="1450080" cy="2189160"/>
          </a:xfrm>
        </p:grpSpPr>
        <p:sp>
          <p:nvSpPr>
            <p:cNvPr id="76" name="Oval 9"/>
            <p:cNvSpPr/>
            <p:nvPr/>
          </p:nvSpPr>
          <p:spPr>
            <a:xfrm>
              <a:off x="811692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4250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7328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1692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4250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7328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9040680" y="327672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1692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42508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7328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90406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9348840" y="356076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16920" y="3843360"/>
              <a:ext cx="21816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4250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7328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9040680" y="3843360"/>
              <a:ext cx="21816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1692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42508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7328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90406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9348840" y="4127400"/>
              <a:ext cx="21816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16920" y="441180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4250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7328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9040680" y="441180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1692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42508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7328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90406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4250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90406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30120" y="2819520"/>
            <a:ext cx="8915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F716-36BF-4100-9F45-18D55447A32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3108-FDBE-4F94-89B0-6A97E88261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5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3166-2FB9-430E-A56C-280C6760241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EB0D-2A90-4E94-9E8D-D73E3D4315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2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9E3C-8637-4B43-B583-71FC07C20FB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5A06-7D65-4671-9727-ABFF2B64D4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9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1108-0308-46B0-9E49-708633903680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F60A-5C8B-4D9A-9559-6E949C29E2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37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80CE-BE31-4F47-AAE4-AB7E57758B4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14E3-4169-4306-9B58-2D21F03D6B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44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AE3E-3383-43AD-A2BA-34D4976EC3D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D8F6-7B38-4E65-9DF0-B44D1FDC540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2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D09E-FCF7-4083-8F16-B24057D8AA5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C1AC-7F97-4D0E-B900-CC4D2E5DD80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9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2124-CDA1-4B01-A5A3-9C48A9AEB6F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1B65-4432-4CF6-98E8-E3C440988D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2499840" y="6237360"/>
            <a:ext cx="686124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К решению о бюджете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«Ленский муниципальный район»   на 2024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3" descr=""/>
          <p:cNvPicPr/>
          <p:nvPr/>
        </p:nvPicPr>
        <p:blipFill>
          <a:blip r:embed="rId1"/>
          <a:stretch/>
        </p:blipFill>
        <p:spPr>
          <a:xfrm>
            <a:off x="333360" y="922320"/>
            <a:ext cx="3043080" cy="1865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13" name="Rectangle 4"/>
          <p:cNvSpPr/>
          <p:nvPr/>
        </p:nvSpPr>
        <p:spPr>
          <a:xfrm>
            <a:off x="272880" y="2955960"/>
            <a:ext cx="323532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Бюдже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для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гражд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6" descr="101392442_Internetportal8"/>
          <p:cNvPicPr/>
          <p:nvPr/>
        </p:nvPicPr>
        <p:blipFill>
          <a:blip r:embed="rId2"/>
          <a:stretch/>
        </p:blipFill>
        <p:spPr>
          <a:xfrm>
            <a:off x="3925800" y="3165480"/>
            <a:ext cx="3873600" cy="2577960"/>
          </a:xfrm>
          <a:prstGeom prst="rect">
            <a:avLst/>
          </a:prstGeom>
          <a:ln w="0">
            <a:noFill/>
          </a:ln>
        </p:spPr>
      </p:pic>
      <p:sp>
        <p:nvSpPr>
          <p:cNvPr id="1115" name="Text Box 7"/>
          <p:cNvSpPr/>
          <p:nvPr/>
        </p:nvSpPr>
        <p:spPr>
          <a:xfrm>
            <a:off x="3427560" y="434880"/>
            <a:ext cx="423684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ниципально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СКИЙ МУНИЦИПАЛЬНЫЙ РАЙ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Рисунок 6" descr="https://pp.vk.me/c304214/v304214092/19a0/hIVh7_KEJoA.jpg"/>
          <p:cNvPicPr/>
          <p:nvPr/>
        </p:nvPicPr>
        <p:blipFill>
          <a:blip r:embed="rId3"/>
          <a:stretch/>
        </p:blipFill>
        <p:spPr>
          <a:xfrm>
            <a:off x="7550280" y="493560"/>
            <a:ext cx="2023920" cy="2264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600"/>
                            </p:stCondLst>
                            <p:childTnLst>
                              <p:par>
                                <p:cTn id="1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6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1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DB89-0735-42BF-9CE2-F80C2BDBFDC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27A3-FEAE-4302-8FB1-9A301607A68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90160" y="1450440"/>
            <a:ext cx="9333000" cy="149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3  году  бюджетная  и налоговая политика в предстоящем периоде  направлена на достижение национальных целей и стратегических задач, установленных Указом Президента Российской Федерации  от 7 мая 2018 года № 204 «О национальных целях и стратегических задачах развития Российской Федерации на период до 2024 года».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71240" y="3328920"/>
            <a:ext cx="891540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Необходимые условия для реализации бюджетной политики на 2024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Реализация мер по обеспечению устойчивости и  сбалансированности бюджета  МО «Ленский муниципальный район»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При формировании бюджетных расходов на 2024 год использован «консервативный» (базовый) вариант прогноза социально-экономического развития МО «Ленский муниципальный район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519120" y="331920"/>
            <a:ext cx="77724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Основные направления бюджетной  и налогов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Основные направления бюджетной политик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495000" y="1719000"/>
            <a:ext cx="8915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повышение эффективности бюджетных расхо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концентрация ресурсов на наиболее значимых действующих расходных обязательствах МО «Ленский муниципальный район» , принятие новых расходных обязательств на основе взвешенной оценки и при условии финансового обеспечения действующих расходных обязатель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использование внутренних резервов муниципального секто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создание условий для повышения качества предоставления муниципальных услу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повышение  эффективности процедур проведения закупок товаров ,  работ, услуг для обеспечения муниципальных нуж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развитие системы финансового контр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обеспечение прозрачности и открытости муниципальных финанс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3AD6-D884-400C-9715-B17CD8440F7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FE51-DE70-4D5C-96F3-1384DB1B024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B043-F477-4122-BA9E-1813717448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888840" y="495360"/>
            <a:ext cx="7167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Основные  параметры бюджета МО «Ленский муниципальный район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22" name=""/>
          <p:cNvGraphicFramePr/>
          <p:nvPr/>
        </p:nvGraphicFramePr>
        <p:xfrm>
          <a:off x="571680" y="2690640"/>
          <a:ext cx="8586720" cy="3033720"/>
        </p:xfrm>
        <a:graphic>
          <a:graphicData uri="http://schemas.openxmlformats.org/drawingml/2006/table">
            <a:tbl>
              <a:tblPr/>
              <a:tblGrid>
                <a:gridCol w="2145960"/>
                <a:gridCol w="2187720"/>
                <a:gridCol w="2106720"/>
                <a:gridCol w="214632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9661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0021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5177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8660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4430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0277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 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 001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4 408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5 100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374B-A5A8-448F-ADD0-DCEFCF4246C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E52D-81CC-4B20-9701-12C83C61CC5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415440"/>
            <a:ext cx="8585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Показатели социально – экономического развития 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Ленского района в 2021 – 2025 годах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26" name=""/>
          <p:cNvGraphicFramePr/>
          <p:nvPr/>
        </p:nvGraphicFramePr>
        <p:xfrm>
          <a:off x="414360" y="1770120"/>
          <a:ext cx="8932680" cy="5038560"/>
        </p:xfrm>
        <a:graphic>
          <a:graphicData uri="http://schemas.openxmlformats.org/drawingml/2006/table">
            <a:tbl>
              <a:tblPr/>
              <a:tblGrid>
                <a:gridCol w="2778120"/>
                <a:gridCol w="1108080"/>
                <a:gridCol w="1108080"/>
                <a:gridCol w="1306440"/>
                <a:gridCol w="1252440"/>
                <a:gridCol w="13795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2 год (отче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3 год (оценк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4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25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6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Численность постоянного населения (среднегодовая), тыс.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Индекс потребительских цен, % к декабрю прошлог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Ввод в действие жилых домов, кв.м общей площа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082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8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8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8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0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Среднесписочная численность работников организаций  без субъектов малого и среднего предприниматель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6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5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3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3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Среднемесячная заработная плата одного работника крупных и средних предприятий и некоммерческих организаций,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8960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5619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8719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82341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6458,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Величина прожиточного минимума в среднем на душу населения в месяц,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3401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563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141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6658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7191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Уровень безработицы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7057-D9F7-41FC-8E95-9EAF768BCAD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4900-77E7-4716-8678-C182136E7C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390240" y="334800"/>
            <a:ext cx="784044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Основные параметры бюджетной системы МО «Ленский муниципальный район» на 2024-2026годы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30" name=""/>
          <p:cNvGraphicFramePr/>
          <p:nvPr/>
        </p:nvGraphicFramePr>
        <p:xfrm>
          <a:off x="0" y="1114560"/>
          <a:ext cx="9180360" cy="6786360"/>
        </p:xfrm>
        <a:graphic>
          <a:graphicData uri="http://schemas.openxmlformats.org/drawingml/2006/table">
            <a:tbl>
              <a:tblPr/>
              <a:tblGrid>
                <a:gridCol w="4292640"/>
                <a:gridCol w="1303200"/>
                <a:gridCol w="1233720"/>
                <a:gridCol w="434880"/>
                <a:gridCol w="361800"/>
                <a:gridCol w="392400"/>
                <a:gridCol w="1161720"/>
              </a:tblGrid>
              <a:tr h="462600"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нение за 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 бюджета 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6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1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661,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002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517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456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462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339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873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41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1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13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62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3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101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448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38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141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866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44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027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019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расходы на обслуживание муниципального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8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5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9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533520" indent="-53352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6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фицит (-), профицит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440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5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563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очники финансирования дефицита бюджета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00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63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39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кредит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0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63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- пол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5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5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81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га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34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14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18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ение остатков средств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9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70596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ношение дефицита бюджета к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31" name="Rectangle 151"/>
          <p:cNvSpPr/>
          <p:nvPr/>
        </p:nvSpPr>
        <p:spPr>
          <a:xfrm>
            <a:off x="7873920" y="1316160"/>
            <a:ext cx="67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ыс.руб</a:t>
            </a:r>
            <a:r>
              <a:rPr b="0" lang="ru-RU" sz="1000" spc="-1" strike="noStrike">
                <a:solidFill>
                  <a:srgbClr val="669999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68D7-26D2-41D3-8991-3FDF1D330E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3ED2-A353-4DB1-BF9C-7622447043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90720" y="193320"/>
            <a:ext cx="6540480" cy="5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Доходы бюджета район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7960" y="941400"/>
            <a:ext cx="774720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Доходы районного бюджета образуются за счет налоговых и неналоговых доходов, а также за счет безвозмездных поступл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AutoShape 5"/>
          <p:cNvSpPr/>
          <p:nvPr/>
        </p:nvSpPr>
        <p:spPr>
          <a:xfrm>
            <a:off x="3782880" y="164772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ходы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6"/>
          <p:cNvSpPr/>
          <p:nvPr/>
        </p:nvSpPr>
        <p:spPr>
          <a:xfrm>
            <a:off x="465120" y="3798720"/>
            <a:ext cx="2703600" cy="2308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логовые доходы – поступления от уплаты налогов, установленных Налоговым кодексом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7"/>
          <p:cNvSpPr/>
          <p:nvPr/>
        </p:nvSpPr>
        <p:spPr>
          <a:xfrm>
            <a:off x="3490920" y="3786120"/>
            <a:ext cx="2727360" cy="230364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налоговые доходы – поступления от уплаты пошлин и сборов, установленных законодательством РФ, арендных платежей и штрафов за нарушение законод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8"/>
          <p:cNvSpPr/>
          <p:nvPr/>
        </p:nvSpPr>
        <p:spPr>
          <a:xfrm>
            <a:off x="6566040" y="3780000"/>
            <a:ext cx="3030480" cy="2315880"/>
          </a:xfrm>
          <a:prstGeom prst="rect">
            <a:avLst/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- поступления от других бюджетов (межбюджетные трансферты), организаций, граждан (кроме налоговых и неналоговых дохо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AutoShape 9"/>
          <p:cNvSpPr/>
          <p:nvPr/>
        </p:nvSpPr>
        <p:spPr>
          <a:xfrm rot="2727000">
            <a:off x="7105320" y="22338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AutoShape 10"/>
          <p:cNvSpPr/>
          <p:nvPr/>
        </p:nvSpPr>
        <p:spPr>
          <a:xfrm rot="7661400">
            <a:off x="1419480" y="2137680"/>
            <a:ext cx="1611360" cy="88236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360"/>
              <a:gd name="textAreaBottom" fmla="*/ 764280 h 88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AutoShape 11"/>
          <p:cNvSpPr/>
          <p:nvPr/>
        </p:nvSpPr>
        <p:spPr>
          <a:xfrm>
            <a:off x="4557600" y="299232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5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00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Object 4" descr=""/>
          <p:cNvPicPr/>
          <p:nvPr/>
        </p:nvPicPr>
        <p:blipFill>
          <a:blip r:embed="rId1"/>
          <a:stretch/>
        </p:blipFill>
        <p:spPr>
          <a:xfrm>
            <a:off x="-838080" y="307800"/>
            <a:ext cx="9978840" cy="6612120"/>
          </a:xfrm>
          <a:prstGeom prst="rect">
            <a:avLst/>
          </a:prstGeom>
          <a:ln w="0">
            <a:noFill/>
          </a:ln>
        </p:spPr>
      </p:pic>
      <p:sp>
        <p:nvSpPr>
          <p:cNvPr id="1244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0B57-0042-4B99-AA34-7079DAAAE8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9465-BA55-49DB-B536-ACBE9112F2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41440" y="276120"/>
            <a:ext cx="91281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доходов бюджета на 2024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2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00B4-EC61-4679-B0B2-D2CB4D59B90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A309-09FD-4BA7-AF0C-454175495E7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17480" y="204480"/>
            <a:ext cx="787248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РАСПРЕДЕЛЕНИЕ НАЛОГОВ по бюджетам с 1 января  2024 года ( в процентах)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220680" y="841320"/>
          <a:ext cx="8400960" cy="5870520"/>
        </p:xfrm>
        <a:graphic>
          <a:graphicData uri="http://schemas.openxmlformats.org/drawingml/2006/table">
            <a:tbl>
              <a:tblPr/>
              <a:tblGrid>
                <a:gridCol w="3581280"/>
                <a:gridCol w="1249560"/>
                <a:gridCol w="1261800"/>
                <a:gridCol w="1263960"/>
                <a:gridCol w="1044360"/>
              </a:tblGrid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бластно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муниципальных рай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город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сель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 на доходы физических лиц город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 на доходы физических лиц сель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по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Транспортный налог с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 (в зависимости от полномоч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Местные налоги (налог на имущество физических лиц и земельный нал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 (до разгранич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/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ые помещения (в зависимости от собственности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на окружающую 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Object 6" descr=""/>
          <p:cNvPicPr/>
          <p:nvPr/>
        </p:nvPicPr>
        <p:blipFill>
          <a:blip r:embed="rId1"/>
          <a:stretch/>
        </p:blipFill>
        <p:spPr>
          <a:xfrm>
            <a:off x="-1012680" y="-609480"/>
            <a:ext cx="12264840" cy="8377200"/>
          </a:xfrm>
          <a:prstGeom prst="rect">
            <a:avLst/>
          </a:prstGeom>
          <a:ln w="0">
            <a:noFill/>
          </a:ln>
        </p:spPr>
      </p:pic>
      <p:sp>
        <p:nvSpPr>
          <p:cNvPr id="125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A7DE-05F6-42DB-8C79-2FEC4114A33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FECE-613D-485A-88FB-574AC3EF6FC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21920" y="331560"/>
            <a:ext cx="81723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2022-2025 год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3" dur="2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50DA-BFEF-42C1-BDF5-EFCB43ADDD4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7C54-65D3-4E5A-85EC-C465BCE22B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2"/>
          <p:cNvSpPr/>
          <p:nvPr/>
        </p:nvSpPr>
        <p:spPr>
          <a:xfrm>
            <a:off x="193680" y="241200"/>
            <a:ext cx="829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 бюджета 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8" name=""/>
          <p:cNvGraphicFramePr/>
          <p:nvPr/>
        </p:nvGraphicFramePr>
        <p:xfrm>
          <a:off x="190440" y="1009800"/>
          <a:ext cx="8282160" cy="7527600"/>
        </p:xfrm>
        <a:graphic>
          <a:graphicData uri="http://schemas.openxmlformats.org/drawingml/2006/table">
            <a:tbl>
              <a:tblPr/>
              <a:tblGrid>
                <a:gridCol w="3390840"/>
                <a:gridCol w="1231920"/>
                <a:gridCol w="1251000"/>
                <a:gridCol w="1222560"/>
                <a:gridCol w="1185840"/>
              </a:tblGrid>
              <a:tr h="202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ДФ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381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981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713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142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96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44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29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54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 на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83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32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товары, реализуемые на территории РФ ( акциз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49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24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69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216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75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28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27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23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76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17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30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ое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61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1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62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93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-43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5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7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9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38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Штра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12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0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6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9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чие налоговые и неналоговые до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3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8E65-28BE-48BA-A004-FF746DE6C1C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663F-507D-4F88-B0D2-F507841862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749160" y="213840"/>
            <a:ext cx="8902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Что такое бюджет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0" name="Rectangle 3"/>
          <p:cNvSpPr/>
          <p:nvPr/>
        </p:nvSpPr>
        <p:spPr>
          <a:xfrm>
            <a:off x="193680" y="3632040"/>
            <a:ext cx="9363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БЮДЖЕТ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(от старонормандского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ougette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– кошель, сумка, кожаный мешок) – план доходов и расходов, предназначенный для финансирования задач и функций государства и местного самоуправ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"/>
          <p:cNvSpPr/>
          <p:nvPr/>
        </p:nvSpPr>
        <p:spPr>
          <a:xfrm>
            <a:off x="193680" y="901080"/>
            <a:ext cx="226368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поступающие в бюджет денежные средства (налоги юридических и физических лиц, административные платежи и сборы, безвозмездные поступлен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6130800" y="882000"/>
            <a:ext cx="248472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выплачиваемые из бюджета денежные средства (социальные выплаты населению, содержание муниципальных учреждений (образование, культура и другие) капитальное строительство и друг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7"/>
          <p:cNvSpPr/>
          <p:nvPr/>
        </p:nvSpPr>
        <p:spPr>
          <a:xfrm flipH="1">
            <a:off x="2736360" y="5230800"/>
            <a:ext cx="54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8"/>
          <p:cNvSpPr/>
          <p:nvPr/>
        </p:nvSpPr>
        <p:spPr>
          <a:xfrm>
            <a:off x="6365880" y="5232240"/>
            <a:ext cx="547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9"/>
          <p:cNvSpPr/>
          <p:nvPr/>
        </p:nvSpPr>
        <p:spPr>
          <a:xfrm>
            <a:off x="271440" y="4668840"/>
            <a:ext cx="24973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бюджета -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доходов над рас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0"/>
          <p:cNvSpPr/>
          <p:nvPr/>
        </p:nvSpPr>
        <p:spPr>
          <a:xfrm>
            <a:off x="6892920" y="4748040"/>
            <a:ext cx="2575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это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расходов над до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3" descr="2014-04-09dengi_sybsidii"/>
          <p:cNvPicPr/>
          <p:nvPr/>
        </p:nvPicPr>
        <p:blipFill>
          <a:blip r:embed="rId1"/>
          <a:stretch/>
        </p:blipFill>
        <p:spPr>
          <a:xfrm>
            <a:off x="2684520" y="912960"/>
            <a:ext cx="3143160" cy="24876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4" descr="весы-бюджет2212"/>
          <p:cNvPicPr/>
          <p:nvPr/>
        </p:nvPicPr>
        <p:blipFill>
          <a:blip r:embed="rId2"/>
          <a:stretch/>
        </p:blipFill>
        <p:spPr>
          <a:xfrm>
            <a:off x="3360600" y="4500720"/>
            <a:ext cx="2884680" cy="164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20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75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75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670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72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50"/>
                            </p:stCondLst>
                            <p:childTnLst>
                              <p:par>
                                <p:cTn id="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55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Object 4" descr=""/>
          <p:cNvPicPr/>
          <p:nvPr/>
        </p:nvPicPr>
        <p:blipFill>
          <a:blip r:embed="rId1"/>
          <a:stretch/>
        </p:blipFill>
        <p:spPr>
          <a:xfrm>
            <a:off x="-1057320" y="154080"/>
            <a:ext cx="12011040" cy="7996320"/>
          </a:xfrm>
          <a:prstGeom prst="rect">
            <a:avLst/>
          </a:prstGeom>
          <a:ln w="0">
            <a:noFill/>
          </a:ln>
        </p:spPr>
      </p:pic>
      <p:sp>
        <p:nvSpPr>
          <p:cNvPr id="126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4A3C-1B75-43BB-A45D-C01166E35CE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853C-99D1-40E9-B9DA-399EF48AA9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09400" y="264960"/>
            <a:ext cx="7869240" cy="98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алоговых доходов бюджета  МО на 2024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Object 4" descr=""/>
          <p:cNvPicPr/>
          <p:nvPr/>
        </p:nvPicPr>
        <p:blipFill>
          <a:blip r:embed="rId1"/>
          <a:stretch/>
        </p:blipFill>
        <p:spPr>
          <a:xfrm>
            <a:off x="-1015920" y="-558720"/>
            <a:ext cx="12409560" cy="8240760"/>
          </a:xfrm>
          <a:prstGeom prst="rect">
            <a:avLst/>
          </a:prstGeom>
          <a:ln w="0">
            <a:noFill/>
          </a:ln>
        </p:spPr>
      </p:pic>
      <p:sp>
        <p:nvSpPr>
          <p:cNvPr id="1264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8CB2-74AC-4AEB-875A-3B1AB6C4933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C6FD-0402-4641-8C1B-B33030547FA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09120" y="296640"/>
            <a:ext cx="787572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еналоговых доходов бюджета  МО на 2024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F808-2B94-4510-B1A6-4B85B58E974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612F-F6FB-4153-9C75-5AD18BD7574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AutoShape 4"/>
          <p:cNvSpPr/>
          <p:nvPr/>
        </p:nvSpPr>
        <p:spPr>
          <a:xfrm>
            <a:off x="3330720" y="1889280"/>
            <a:ext cx="3213000" cy="1676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ормы межбюдже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трансф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07600" y="223560"/>
            <a:ext cx="817236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Межбюджетные трансферты –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ой вид безвозмездных поступлени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1" name="AutoShape 17"/>
          <p:cNvSpPr/>
          <p:nvPr/>
        </p:nvSpPr>
        <p:spPr>
          <a:xfrm>
            <a:off x="3065400" y="4319640"/>
            <a:ext cx="3645000" cy="2286000"/>
          </a:xfrm>
          <a:custGeom>
            <a:avLst/>
            <a:gdLst>
              <a:gd name="textAreaLeft" fmla="*/ 147960 w 3645000"/>
              <a:gd name="textAreaRight" fmla="*/ 3497040 w 3645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34439" h="21600">
                <a:moveTo>
                  <a:pt x="0" y="0"/>
                </a:moveTo>
                <a:lnTo>
                  <a:pt x="34439" y="0"/>
                </a:lnTo>
                <a:lnTo>
                  <a:pt x="34439" y="21600"/>
                </a:lnTo>
                <a:lnTo>
                  <a:pt x="0" y="21600"/>
                </a:lnTo>
                <a:close/>
              </a:path>
              <a:path fill="lightenLess" w="34439" h="21600">
                <a:moveTo>
                  <a:pt x="0" y="0"/>
                </a:moveTo>
                <a:lnTo>
                  <a:pt x="34439" y="0"/>
                </a:lnTo>
                <a:lnTo>
                  <a:pt x="33039" y="1400"/>
                </a:lnTo>
                <a:lnTo>
                  <a:pt x="1400" y="1400"/>
                </a:lnTo>
                <a:close/>
              </a:path>
              <a:path fill="darken" w="34439" h="21600">
                <a:moveTo>
                  <a:pt x="34439" y="0"/>
                </a:moveTo>
                <a:lnTo>
                  <a:pt x="34439" y="21600"/>
                </a:lnTo>
                <a:lnTo>
                  <a:pt x="33039" y="20200"/>
                </a:lnTo>
                <a:lnTo>
                  <a:pt x="33039" y="1400"/>
                </a:lnTo>
                <a:close/>
              </a:path>
              <a:path fill="darkenLess" w="34439" h="21600">
                <a:moveTo>
                  <a:pt x="344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39" y="20200"/>
                </a:lnTo>
                <a:close/>
              </a:path>
              <a:path fill="lighten" w="344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венция – целевые средст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финанс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олномочий, пере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ому уровню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9"/>
          <p:cNvSpPr/>
          <p:nvPr/>
        </p:nvSpPr>
        <p:spPr>
          <a:xfrm flipH="1">
            <a:off x="4816080" y="3649680"/>
            <a:ext cx="3240" cy="55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AutoShape 21"/>
          <p:cNvSpPr/>
          <p:nvPr/>
        </p:nvSpPr>
        <p:spPr>
          <a:xfrm>
            <a:off x="231840" y="3479760"/>
            <a:ext cx="2644560" cy="200196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отаци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бе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определения конкре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и их ис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22"/>
          <p:cNvSpPr/>
          <p:nvPr/>
        </p:nvSpPr>
        <p:spPr>
          <a:xfrm flipH="1">
            <a:off x="1676520" y="2649600"/>
            <a:ext cx="1473120" cy="614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23"/>
          <p:cNvSpPr/>
          <p:nvPr/>
        </p:nvSpPr>
        <p:spPr>
          <a:xfrm>
            <a:off x="204840" y="934920"/>
            <a:ext cx="81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бюджетные трансферты – денежные средства, перечисляемые из одного бюджета бюджетной системы другому бюдж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AutoShape 13"/>
          <p:cNvSpPr/>
          <p:nvPr/>
        </p:nvSpPr>
        <p:spPr>
          <a:xfrm>
            <a:off x="6967440" y="3513240"/>
            <a:ext cx="2729160" cy="200340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сидия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евые сред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офинанс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рас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их бюдж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5"/>
          <p:cNvSpPr/>
          <p:nvPr/>
        </p:nvSpPr>
        <p:spPr>
          <a:xfrm>
            <a:off x="6632640" y="2657520"/>
            <a:ext cx="167004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000"/>
                            </p:stCondLst>
                            <p:childTnLst>
                              <p:par>
                                <p:cTn id="60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04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8" name="Object 4" descr=""/>
          <p:cNvPicPr/>
          <p:nvPr/>
        </p:nvPicPr>
        <p:blipFill>
          <a:blip r:embed="rId1"/>
          <a:stretch/>
        </p:blipFill>
        <p:spPr>
          <a:xfrm>
            <a:off x="-1247760" y="0"/>
            <a:ext cx="12234960" cy="7939080"/>
          </a:xfrm>
          <a:prstGeom prst="rect">
            <a:avLst/>
          </a:prstGeom>
          <a:ln w="0">
            <a:noFill/>
          </a:ln>
        </p:spPr>
      </p:pic>
      <p:sp>
        <p:nvSpPr>
          <p:cNvPr id="127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C25E-7D57-4287-AD38-D40DBDBDF11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0DF9-9C39-4A6E-A204-82248648B6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595080" y="246240"/>
            <a:ext cx="78771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безвозмездных поступлений бюджета  МО на 2024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BF44-AE26-4980-A6AF-8DB6949B78A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7837-CBB2-41F4-949C-CA00C11C6F6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66400" y="285480"/>
            <a:ext cx="2997000" cy="11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Финансовая  </a:t>
            </a: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поддерж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5" name="AutoShape 5"/>
          <p:cNvSpPr/>
          <p:nvPr/>
        </p:nvSpPr>
        <p:spPr>
          <a:xfrm rot="5400000">
            <a:off x="948960" y="1390320"/>
            <a:ext cx="1297080" cy="3195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726,4 млн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AutoShape 27"/>
          <p:cNvSpPr/>
          <p:nvPr/>
        </p:nvSpPr>
        <p:spPr>
          <a:xfrm>
            <a:off x="193680" y="3933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2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27"/>
          <p:cNvSpPr/>
          <p:nvPr/>
        </p:nvSpPr>
        <p:spPr>
          <a:xfrm>
            <a:off x="19368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299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AutoShape 27"/>
          <p:cNvSpPr/>
          <p:nvPr/>
        </p:nvSpPr>
        <p:spPr>
          <a:xfrm>
            <a:off x="19368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396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AutoShape 27"/>
          <p:cNvSpPr/>
          <p:nvPr/>
        </p:nvSpPr>
        <p:spPr>
          <a:xfrm>
            <a:off x="19368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8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AutoShape 5"/>
          <p:cNvSpPr/>
          <p:nvPr/>
        </p:nvSpPr>
        <p:spPr>
          <a:xfrm rot="5400000">
            <a:off x="4317480" y="1390320"/>
            <a:ext cx="1297080" cy="319572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42</a:t>
            </a: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,0 млн.р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AutoShape 27"/>
          <p:cNvSpPr/>
          <p:nvPr/>
        </p:nvSpPr>
        <p:spPr>
          <a:xfrm>
            <a:off x="3470400" y="3946680"/>
            <a:ext cx="2965320" cy="43164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1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AutoShape 27"/>
          <p:cNvSpPr/>
          <p:nvPr/>
        </p:nvSpPr>
        <p:spPr>
          <a:xfrm>
            <a:off x="347040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324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AutoShape 27"/>
          <p:cNvSpPr/>
          <p:nvPr/>
        </p:nvSpPr>
        <p:spPr>
          <a:xfrm>
            <a:off x="3529080" y="5029200"/>
            <a:ext cx="2965320" cy="43164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398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AutoShape 27"/>
          <p:cNvSpPr/>
          <p:nvPr/>
        </p:nvSpPr>
        <p:spPr>
          <a:xfrm>
            <a:off x="347040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7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AutoShape 5"/>
          <p:cNvSpPr/>
          <p:nvPr/>
        </p:nvSpPr>
        <p:spPr>
          <a:xfrm rot="5400000">
            <a:off x="7659360" y="1377720"/>
            <a:ext cx="1296720" cy="3195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734,5 млн.р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AutoShape 27"/>
          <p:cNvSpPr/>
          <p:nvPr/>
        </p:nvSpPr>
        <p:spPr>
          <a:xfrm>
            <a:off x="6745320" y="3933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309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27"/>
          <p:cNvSpPr/>
          <p:nvPr/>
        </p:nvSpPr>
        <p:spPr>
          <a:xfrm>
            <a:off x="674532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1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AutoShape 27"/>
          <p:cNvSpPr/>
          <p:nvPr/>
        </p:nvSpPr>
        <p:spPr>
          <a:xfrm>
            <a:off x="6702480" y="5000760"/>
            <a:ext cx="2965320" cy="43164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410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AutoShape 27"/>
          <p:cNvSpPr/>
          <p:nvPr/>
        </p:nvSpPr>
        <p:spPr>
          <a:xfrm>
            <a:off x="674532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0" name="Picture 20" descr="2014-04-09dengi_sybsidii"/>
          <p:cNvPicPr/>
          <p:nvPr/>
        </p:nvPicPr>
        <p:blipFill>
          <a:blip r:embed="rId1"/>
          <a:stretch/>
        </p:blipFill>
        <p:spPr>
          <a:xfrm>
            <a:off x="4065480" y="0"/>
            <a:ext cx="459756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9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189000" y="412560"/>
            <a:ext cx="8726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 Ленского  района утверждается в форме решения Собрания депутатов муниципального образования «Ленский  муниципальный район» о бюджете на очередной финансовый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опросу рассмотрения проекта отчета об исполнении бюджета муниципального образования «Ленский  муниципальный район» в 2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назначаются публичные слушания.  Положение о проведении общественных обсуждений или публичных  слушаний в МО«Ленский  муниципальный район», утверждено решением Собрания депутатов МО «Ленский муниципальный район» от 10.04.2019 года № 60-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 на 2024 год утвержден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ешением Собрания депутатов муниципального образования «Ленский  муниципальный район» от 13.12.2023г. №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5-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33F6-31BD-4562-A263-4979DCE0312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23B7-1E0F-4079-846E-4C38A0254E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-668520" y="203040"/>
            <a:ext cx="10296360" cy="41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акие бывают бюджеты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3" name="Rectangle 3"/>
          <p:cNvSpPr/>
          <p:nvPr/>
        </p:nvSpPr>
        <p:spPr>
          <a:xfrm>
            <a:off x="662040" y="907920"/>
            <a:ext cx="16365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4"/>
          <p:cNvSpPr/>
          <p:nvPr/>
        </p:nvSpPr>
        <p:spPr>
          <a:xfrm flipH="1">
            <a:off x="2707920" y="868320"/>
            <a:ext cx="770040" cy="317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5"/>
          <p:cNvSpPr/>
          <p:nvPr/>
        </p:nvSpPr>
        <p:spPr>
          <a:xfrm>
            <a:off x="4952880" y="765000"/>
            <a:ext cx="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6"/>
          <p:cNvSpPr/>
          <p:nvPr/>
        </p:nvSpPr>
        <p:spPr>
          <a:xfrm>
            <a:off x="6051600" y="820800"/>
            <a:ext cx="782640" cy="36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3314880" y="1844280"/>
            <a:ext cx="31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ы публично-правов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8"/>
          <p:cNvSpPr/>
          <p:nvPr/>
        </p:nvSpPr>
        <p:spPr>
          <a:xfrm>
            <a:off x="6784920" y="822240"/>
            <a:ext cx="2114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10" descr=""/>
          <p:cNvPicPr/>
          <p:nvPr/>
        </p:nvPicPr>
        <p:blipFill>
          <a:blip r:embed="rId1"/>
          <a:stretch/>
        </p:blipFill>
        <p:spPr>
          <a:xfrm>
            <a:off x="428760" y="3722760"/>
            <a:ext cx="2566800" cy="164304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sp>
        <p:nvSpPr>
          <p:cNvPr id="1140" name="Line 12"/>
          <p:cNvSpPr/>
          <p:nvPr/>
        </p:nvSpPr>
        <p:spPr>
          <a:xfrm>
            <a:off x="6016680" y="2781360"/>
            <a:ext cx="77940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3"/>
          <p:cNvSpPr/>
          <p:nvPr/>
        </p:nvSpPr>
        <p:spPr>
          <a:xfrm>
            <a:off x="4943520" y="2781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4"/>
          <p:cNvSpPr/>
          <p:nvPr/>
        </p:nvSpPr>
        <p:spPr>
          <a:xfrm flipH="1">
            <a:off x="3079440" y="2781360"/>
            <a:ext cx="7808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5"/>
          <p:cNvSpPr/>
          <p:nvPr/>
        </p:nvSpPr>
        <p:spPr>
          <a:xfrm>
            <a:off x="222120" y="5534280"/>
            <a:ext cx="2886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федеральный бюджет, бюджеты государственных внебюджетных фондов 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6"/>
          <p:cNvSpPr/>
          <p:nvPr/>
        </p:nvSpPr>
        <p:spPr>
          <a:xfrm>
            <a:off x="3549600" y="5385240"/>
            <a:ext cx="2886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региональные бюджеты, бюджеты территориальных фондов ОМ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7"/>
          <p:cNvSpPr/>
          <p:nvPr/>
        </p:nvSpPr>
        <p:spPr>
          <a:xfrm>
            <a:off x="6899400" y="5609520"/>
            <a:ext cx="27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естные бюдже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9"/>
          <p:cNvSpPr/>
          <p:nvPr/>
        </p:nvSpPr>
        <p:spPr>
          <a:xfrm>
            <a:off x="3470400" y="2565360"/>
            <a:ext cx="2808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Picture 20" descr=""/>
          <p:cNvPicPr/>
          <p:nvPr/>
        </p:nvPicPr>
        <p:blipFill>
          <a:blip r:embed="rId2"/>
          <a:stretch/>
        </p:blipFill>
        <p:spPr>
          <a:xfrm>
            <a:off x="428760" y="1268280"/>
            <a:ext cx="2205000" cy="2230560"/>
          </a:xfrm>
          <a:prstGeom prst="rect">
            <a:avLst/>
          </a:prstGeom>
          <a:ln w="19080">
            <a:solidFill>
              <a:srgbClr val="00ccff"/>
            </a:solidFill>
            <a:miter/>
          </a:ln>
        </p:spPr>
      </p:pic>
      <p:pic>
        <p:nvPicPr>
          <p:cNvPr id="1148" name="Picture 24" descr="i"/>
          <p:cNvPicPr/>
          <p:nvPr/>
        </p:nvPicPr>
        <p:blipFill>
          <a:blip r:embed="rId3"/>
          <a:stretch/>
        </p:blipFill>
        <p:spPr>
          <a:xfrm>
            <a:off x="6964200" y="1452600"/>
            <a:ext cx="2495880" cy="186516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1149" name="Picture 25" descr="karta_arhangelskaya_oblasti_po_rayonam-578x600"/>
          <p:cNvPicPr/>
          <p:nvPr/>
        </p:nvPicPr>
        <p:blipFill>
          <a:blip r:embed="rId4"/>
          <a:stretch/>
        </p:blipFill>
        <p:spPr>
          <a:xfrm>
            <a:off x="7020000" y="3691080"/>
            <a:ext cx="2428920" cy="166500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pic>
        <p:nvPicPr>
          <p:cNvPr id="1150" name="Picture 26" descr="111913170_large_article1408"/>
          <p:cNvPicPr/>
          <p:nvPr/>
        </p:nvPicPr>
        <p:blipFill>
          <a:blip r:embed="rId5"/>
          <a:stretch/>
        </p:blipFill>
        <p:spPr>
          <a:xfrm>
            <a:off x="3597120" y="3675240"/>
            <a:ext cx="2951280" cy="167292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2160" y="848880"/>
            <a:ext cx="817236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Бюджетная система представляет собой совокупность отношений, возникающих между различными субъектами в процессе формирования доходов и осуществления расходов бюджетов всех уровней системы, осуществления государственных и муниципальных заимствований, регулирования государственного и муниципального долга, составления и рассмотрения проектов бюджетов системы, их утверждения и исполнения, контроля за их исполнением.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52" name="Picture 4" descr="флаг"/>
          <p:cNvPicPr/>
          <p:nvPr/>
        </p:nvPicPr>
        <p:blipFill>
          <a:blip r:embed="rId1"/>
          <a:stretch/>
        </p:blipFill>
        <p:spPr>
          <a:xfrm>
            <a:off x="515880" y="2451240"/>
            <a:ext cx="8961480" cy="4074840"/>
          </a:xfrm>
          <a:prstGeom prst="rect">
            <a:avLst/>
          </a:prstGeom>
          <a:ln w="0">
            <a:noFill/>
          </a:ln>
        </p:spPr>
      </p:pic>
      <p:sp>
        <p:nvSpPr>
          <p:cNvPr id="1153" name="Text Box 6"/>
          <p:cNvSpPr/>
          <p:nvPr/>
        </p:nvSpPr>
        <p:spPr>
          <a:xfrm>
            <a:off x="754200" y="318960"/>
            <a:ext cx="76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Бюджетная систем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7"/>
          <p:cNvSpPr/>
          <p:nvPr/>
        </p:nvSpPr>
        <p:spPr>
          <a:xfrm>
            <a:off x="2452680" y="2554200"/>
            <a:ext cx="57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Уровни бюджетной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8"/>
          <p:cNvSpPr/>
          <p:nvPr/>
        </p:nvSpPr>
        <p:spPr>
          <a:xfrm>
            <a:off x="3309840" y="3162240"/>
            <a:ext cx="4106880" cy="4510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9"/>
          <p:cNvSpPr/>
          <p:nvPr/>
        </p:nvSpPr>
        <p:spPr>
          <a:xfrm>
            <a:off x="3468600" y="3178080"/>
            <a:ext cx="37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11"/>
          <p:cNvSpPr/>
          <p:nvPr/>
        </p:nvSpPr>
        <p:spPr>
          <a:xfrm>
            <a:off x="1871640" y="3933720"/>
            <a:ext cx="6676920" cy="6526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СУБЪЕКТО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2"/>
          <p:cNvSpPr/>
          <p:nvPr/>
        </p:nvSpPr>
        <p:spPr>
          <a:xfrm>
            <a:off x="3367080" y="4964040"/>
            <a:ext cx="3976560" cy="5652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3"/>
          <p:cNvSpPr/>
          <p:nvPr/>
        </p:nvSpPr>
        <p:spPr>
          <a:xfrm>
            <a:off x="274680" y="5889600"/>
            <a:ext cx="3397320" cy="6699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униципальных рай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14"/>
          <p:cNvSpPr/>
          <p:nvPr/>
        </p:nvSpPr>
        <p:spPr>
          <a:xfrm>
            <a:off x="3846600" y="5862600"/>
            <a:ext cx="2814480" cy="7113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городски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сельских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16"/>
          <p:cNvSpPr/>
          <p:nvPr/>
        </p:nvSpPr>
        <p:spPr>
          <a:xfrm>
            <a:off x="6894360" y="5864400"/>
            <a:ext cx="2802240" cy="6966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городских окру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17"/>
          <p:cNvSpPr/>
          <p:nvPr/>
        </p:nvSpPr>
        <p:spPr>
          <a:xfrm>
            <a:off x="5006880" y="3641760"/>
            <a:ext cx="479520" cy="247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18"/>
          <p:cNvSpPr/>
          <p:nvPr/>
        </p:nvSpPr>
        <p:spPr>
          <a:xfrm>
            <a:off x="4978440" y="4645080"/>
            <a:ext cx="550800" cy="274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9"/>
          <p:cNvSpPr/>
          <p:nvPr/>
        </p:nvSpPr>
        <p:spPr>
          <a:xfrm>
            <a:off x="5238720" y="5516640"/>
            <a:ext cx="0" cy="3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0"/>
          <p:cNvSpPr/>
          <p:nvPr/>
        </p:nvSpPr>
        <p:spPr>
          <a:xfrm>
            <a:off x="5254560" y="5661000"/>
            <a:ext cx="293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21"/>
          <p:cNvSpPr/>
          <p:nvPr/>
        </p:nvSpPr>
        <p:spPr>
          <a:xfrm flipH="1">
            <a:off x="2003040" y="5646600"/>
            <a:ext cx="322092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22"/>
          <p:cNvSpPr/>
          <p:nvPr/>
        </p:nvSpPr>
        <p:spPr>
          <a:xfrm>
            <a:off x="8188200" y="5645160"/>
            <a:ext cx="158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23"/>
          <p:cNvSpPr/>
          <p:nvPr/>
        </p:nvSpPr>
        <p:spPr>
          <a:xfrm flipH="1">
            <a:off x="1987200" y="5676840"/>
            <a:ext cx="2844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1000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28D1-9DFD-4D0D-8F26-9A4AF0CBFAC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9457-B470-4C01-8EDD-CF01A7C302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152360" y="190440"/>
            <a:ext cx="626616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Консолидированный бюджет Ленского  район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2" name="Rectangle 3"/>
          <p:cNvSpPr/>
          <p:nvPr/>
        </p:nvSpPr>
        <p:spPr>
          <a:xfrm>
            <a:off x="6740640" y="5130720"/>
            <a:ext cx="2495520" cy="1300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Козьм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4"/>
          <p:cNvSpPr/>
          <p:nvPr/>
        </p:nvSpPr>
        <p:spPr>
          <a:xfrm>
            <a:off x="6715080" y="2122560"/>
            <a:ext cx="24955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афронов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6697800" y="730080"/>
            <a:ext cx="24937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ойг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6"/>
          <p:cNvSpPr/>
          <p:nvPr/>
        </p:nvSpPr>
        <p:spPr>
          <a:xfrm>
            <a:off x="2817720" y="3713040"/>
            <a:ext cx="2610000" cy="156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ы поселений Ленского райо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7"/>
          <p:cNvSpPr/>
          <p:nvPr/>
        </p:nvSpPr>
        <p:spPr>
          <a:xfrm>
            <a:off x="2749680" y="1198440"/>
            <a:ext cx="2698560" cy="156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Бюджет МО «Ленский муниципальный райо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8"/>
          <p:cNvSpPr/>
          <p:nvPr/>
        </p:nvSpPr>
        <p:spPr>
          <a:xfrm flipH="1">
            <a:off x="1698480" y="2128680"/>
            <a:ext cx="1028880" cy="3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9"/>
          <p:cNvSpPr/>
          <p:nvPr/>
        </p:nvSpPr>
        <p:spPr>
          <a:xfrm flipH="1">
            <a:off x="5089320" y="1674720"/>
            <a:ext cx="1525320" cy="1973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10"/>
          <p:cNvSpPr/>
          <p:nvPr/>
        </p:nvSpPr>
        <p:spPr>
          <a:xfrm flipH="1">
            <a:off x="5506560" y="2692440"/>
            <a:ext cx="1179720" cy="1177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AutoShape 11"/>
          <p:cNvSpPr/>
          <p:nvPr/>
        </p:nvSpPr>
        <p:spPr>
          <a:xfrm>
            <a:off x="317520" y="189000"/>
            <a:ext cx="1366920" cy="6427800"/>
          </a:xfrm>
          <a:custGeom>
            <a:avLst/>
            <a:gdLst>
              <a:gd name="textAreaLeft" fmla="*/ 66600 w 1366920"/>
              <a:gd name="textAreaRight" fmla="*/ 1300320 w 1366920"/>
              <a:gd name="textAreaTop" fmla="*/ 66600 h 6427800"/>
              <a:gd name="textAreaBottom" fmla="*/ 6361200 h 6427800"/>
            </a:gdLst>
            <a:ahLst/>
            <a:rect l="textAreaLeft" t="textAreaTop" r="textAreaRight" b="textAreaBottom"/>
            <a:pathLst>
              <a:path w="21600" h="101551">
                <a:moveTo>
                  <a:pt x="3600" y="0"/>
                </a:moveTo>
                <a:arcTo wR="3600" hR="3600" stAng="16200000" swAng="-5400000"/>
                <a:lnTo>
                  <a:pt x="0" y="97951"/>
                </a:lnTo>
                <a:arcTo wR="3600" hR="3600" stAng="10800000" swAng="-5400000"/>
                <a:lnTo>
                  <a:pt x="18000" y="1015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2"/>
          <p:cNvSpPr/>
          <p:nvPr/>
        </p:nvSpPr>
        <p:spPr>
          <a:xfrm flipH="1" flipV="1">
            <a:off x="5492880" y="5011560"/>
            <a:ext cx="1193760" cy="78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3"/>
          <p:cNvSpPr/>
          <p:nvPr/>
        </p:nvSpPr>
        <p:spPr>
          <a:xfrm flipH="1" flipV="1">
            <a:off x="5479920" y="4384440"/>
            <a:ext cx="1208160" cy="1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26"/>
          <p:cNvSpPr/>
          <p:nvPr/>
        </p:nvSpPr>
        <p:spPr>
          <a:xfrm>
            <a:off x="6697800" y="3586320"/>
            <a:ext cx="250164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«Урдом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20"/>
          <p:cNvSpPr/>
          <p:nvPr/>
        </p:nvSpPr>
        <p:spPr>
          <a:xfrm flipH="1" flipV="1">
            <a:off x="1700280" y="4541400"/>
            <a:ext cx="108720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WordArt 22"/>
          <p:cNvSpPr txBox="1"/>
          <p:nvPr/>
        </p:nvSpPr>
        <p:spPr>
          <a:xfrm rot="5400000">
            <a:off x="-1946520" y="3052440"/>
            <a:ext cx="596592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солидированный бюджет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1EAD-EBCC-40FA-AFC7-C9FE5474006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BE43-98BC-4924-A149-6D4A5738BA8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11040" y="0"/>
            <a:ext cx="552456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Межбюджетные отношения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9" name="AutoShape 3"/>
          <p:cNvSpPr/>
          <p:nvPr/>
        </p:nvSpPr>
        <p:spPr>
          <a:xfrm>
            <a:off x="493560" y="2720880"/>
            <a:ext cx="3675240" cy="3256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4"/>
          <p:cNvSpPr/>
          <p:nvPr/>
        </p:nvSpPr>
        <p:spPr>
          <a:xfrm>
            <a:off x="4815000" y="927000"/>
            <a:ext cx="3809880" cy="9241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ангель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5"/>
          <p:cNvSpPr/>
          <p:nvPr/>
        </p:nvSpPr>
        <p:spPr>
          <a:xfrm rot="20130000">
            <a:off x="2117520" y="1858680"/>
            <a:ext cx="2698560" cy="342720"/>
          </a:xfrm>
          <a:prstGeom prst="leftRightArrow">
            <a:avLst>
              <a:gd name="adj1" fmla="val 50000"/>
              <a:gd name="adj2" fmla="val 15675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6"/>
          <p:cNvSpPr/>
          <p:nvPr/>
        </p:nvSpPr>
        <p:spPr>
          <a:xfrm rot="5400000">
            <a:off x="6461280" y="2084760"/>
            <a:ext cx="571680" cy="341640"/>
          </a:xfrm>
          <a:prstGeom prst="leftRightArrow">
            <a:avLst>
              <a:gd name="adj1" fmla="val 50000"/>
              <a:gd name="adj2" fmla="val 3331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7"/>
          <p:cNvSpPr/>
          <p:nvPr/>
        </p:nvSpPr>
        <p:spPr>
          <a:xfrm>
            <a:off x="4827600" y="2666880"/>
            <a:ext cx="3908520" cy="1190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ский муниципальны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8"/>
          <p:cNvSpPr/>
          <p:nvPr/>
        </p:nvSpPr>
        <p:spPr>
          <a:xfrm>
            <a:off x="4991040" y="4675320"/>
            <a:ext cx="3741840" cy="191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еления Ленского рай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дом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фронов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зьмин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йгин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AutoShape 9"/>
          <p:cNvSpPr/>
          <p:nvPr/>
        </p:nvSpPr>
        <p:spPr>
          <a:xfrm rot="5400000">
            <a:off x="6451560" y="4098960"/>
            <a:ext cx="641520" cy="342720"/>
          </a:xfrm>
          <a:prstGeom prst="leftRightArrow">
            <a:avLst>
              <a:gd name="adj1" fmla="val 50000"/>
              <a:gd name="adj2" fmla="val 3726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6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4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9000"/>
                            </p:stCondLst>
                            <p:childTnLst>
                              <p:par>
                                <p:cTn id="3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32DA-A014-49A3-AF6F-D3A1DF77DB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A77E-563C-4AC6-8FEF-39A9939FD79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онсолидированный бюджет 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Ленского  район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199" name=""/>
          <p:cNvGraphicFramePr/>
          <p:nvPr/>
        </p:nvGraphicFramePr>
        <p:xfrm>
          <a:off x="431640" y="1947960"/>
          <a:ext cx="8371080" cy="3778200"/>
        </p:xfrm>
        <a:graphic>
          <a:graphicData uri="http://schemas.openxmlformats.org/drawingml/2006/table">
            <a:tbl>
              <a:tblPr/>
              <a:tblGrid>
                <a:gridCol w="2229120"/>
                <a:gridCol w="2063520"/>
                <a:gridCol w="2108160"/>
                <a:gridCol w="1970280"/>
              </a:tblGrid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5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1992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9201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6032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6888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3610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1132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5 104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4 408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5 100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6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9A9E-E265-41D4-8DCD-62BA2C9DE71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15E6-73C6-49A6-8B8F-308448A911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36320" y="-360"/>
            <a:ext cx="817236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могает формировать доходную часть бюдже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3" name="Picture 5" descr="mota_ru_0020701-crop"/>
          <p:cNvPicPr/>
          <p:nvPr/>
        </p:nvPicPr>
        <p:blipFill>
          <a:blip r:embed="rId1"/>
          <a:stretch/>
        </p:blipFill>
        <p:spPr>
          <a:xfrm>
            <a:off x="0" y="2171880"/>
            <a:ext cx="2719440" cy="2530440"/>
          </a:xfrm>
          <a:prstGeom prst="rect">
            <a:avLst/>
          </a:prstGeom>
          <a:ln w="0">
            <a:noFill/>
          </a:ln>
        </p:spPr>
      </p:pic>
      <p:sp>
        <p:nvSpPr>
          <p:cNvPr id="1204" name="Rectangle 6"/>
          <p:cNvSpPr/>
          <p:nvPr/>
        </p:nvSpPr>
        <p:spPr>
          <a:xfrm>
            <a:off x="439920" y="668160"/>
            <a:ext cx="311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налогоплательщ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доходная часть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( отчисление налогов и сбор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Picture 9" descr="p_35848_1_gallerybig"/>
          <p:cNvPicPr/>
          <p:nvPr/>
        </p:nvPicPr>
        <p:blipFill>
          <a:blip r:embed="rId2"/>
          <a:stretch/>
        </p:blipFill>
        <p:spPr>
          <a:xfrm>
            <a:off x="3844800" y="1498680"/>
            <a:ext cx="2698920" cy="2908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206" name="Picture 12" descr="1251836862_3d-character-114"/>
          <p:cNvPicPr/>
          <p:nvPr/>
        </p:nvPicPr>
        <p:blipFill>
          <a:blip r:embed="rId3"/>
          <a:stretch/>
        </p:blipFill>
        <p:spPr>
          <a:xfrm>
            <a:off x="7350120" y="3465360"/>
            <a:ext cx="1951200" cy="2909880"/>
          </a:xfrm>
          <a:prstGeom prst="rect">
            <a:avLst/>
          </a:prstGeom>
          <a:ln w="0">
            <a:noFill/>
          </a:ln>
        </p:spPr>
      </p:pic>
      <p:sp>
        <p:nvSpPr>
          <p:cNvPr id="1207" name="AutoShape 15"/>
          <p:cNvSpPr/>
          <p:nvPr/>
        </p:nvSpPr>
        <p:spPr>
          <a:xfrm>
            <a:off x="2754360" y="2470320"/>
            <a:ext cx="915840" cy="463320"/>
          </a:xfrm>
          <a:prstGeom prst="rightArrowCallout">
            <a:avLst>
              <a:gd name="adj1" fmla="val 25002"/>
              <a:gd name="adj2" fmla="val 25000"/>
              <a:gd name="adj3" fmla="val 32945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AutoShape 16"/>
          <p:cNvSpPr/>
          <p:nvPr/>
        </p:nvSpPr>
        <p:spPr>
          <a:xfrm rot="5400000">
            <a:off x="6962760" y="2457360"/>
            <a:ext cx="1130400" cy="1409760"/>
          </a:xfrm>
          <a:custGeom>
            <a:avLst/>
            <a:gdLst>
              <a:gd name="textAreaLeft" fmla="*/ 650520 w 1130400"/>
              <a:gd name="textAreaRight" fmla="*/ 954000 w 1130400"/>
              <a:gd name="textAreaTop" fmla="*/ 190080 h 1409760"/>
              <a:gd name="textAreaBottom" fmla="*/ 603360 h 1409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17"/>
          <p:cNvSpPr/>
          <p:nvPr/>
        </p:nvSpPr>
        <p:spPr>
          <a:xfrm>
            <a:off x="755640" y="4950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лучает социальные гарантии –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расходная часть бюджета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(образование,  культура, физическая культура и спорт, социальные льготы и другие направления социальных гарантий насел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18"/>
          <p:cNvSpPr/>
          <p:nvPr/>
        </p:nvSpPr>
        <p:spPr>
          <a:xfrm>
            <a:off x="6845400" y="1406520"/>
            <a:ext cx="290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как получ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социальных гаран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4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Беккер Ж.С</cp:lastModifiedBy>
  <dcterms:modified xsi:type="dcterms:W3CDTF">2024-03-25T08:14:43Z</dcterms:modified>
  <cp:revision>1125</cp:revision>
  <dc:subject/>
  <dc:title>Бюджет для граждан на 2014 год</dc:title>
</cp:coreProperties>
</file>