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9840" y="741240"/>
            <a:ext cx="533556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E72-E696-437A-98A3-2E381811F3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00200" y="741240"/>
            <a:ext cx="5335560" cy="3694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954-A244-460A-8413-47F6543D65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5FFD-3EA1-46C1-9F94-3B2FAA18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EF4-6FD2-4832-BF1C-AD10287B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D95-9F71-42EB-8E38-866FC768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D4F-236E-460A-AAAF-8633F4C3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CC7-4165-4F2C-AFDD-48F7F9F0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51D5-6E5F-4920-8E51-672C61B6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5CD-9F6E-4BB6-AB45-5515CF8A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B39-2F79-4B3D-8D56-8270994A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F66-ACD6-45A6-A6EC-FCB005F0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8A8-5D63-42B8-B125-1BE2B98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79E-E760-403D-905D-2BDEB90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CFD-95E6-4E29-985B-3C13A0D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C7B-36B1-4967-A9C6-F13DEA2B1CF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9CA8-95C1-4B72-A7EE-5861440CBD9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F306-EF1D-4B34-8D9B-D0093392C9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8683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2840040"/>
            <a:ext cx="2851200" cy="1782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146400"/>
            <a:ext cx="2795760" cy="173052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311880" y="2863800"/>
            <a:ext cx="3200400" cy="172080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2246040" y="1885680"/>
            <a:ext cx="1035000" cy="882720"/>
          </a:xfrm>
          <a:custGeom>
            <a:avLst/>
            <a:gdLst>
              <a:gd name="textAreaLeft" fmla="*/ 141120 w 1035000"/>
              <a:gd name="textAreaRight" fmla="*/ 722160 w 103500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901" hR="21600" stAng="10800000" swAng="-5400000"/>
                <a:lnTo>
                  <a:pt x="12119" y="21600"/>
                </a:lnTo>
                <a:arcTo wR="5901" hR="21600" stAng="5400000" swAng="-820565"/>
                <a:lnTo>
                  <a:pt x="19624" y="16129"/>
                </a:lnTo>
                <a:lnTo>
                  <a:pt x="14910" y="0"/>
                </a:lnTo>
                <a:lnTo>
                  <a:pt x="6244" y="16129"/>
                </a:lnTo>
                <a:lnTo>
                  <a:pt x="9825" y="16129"/>
                </a:lnTo>
                <a:arcTo wR="5901" hR="21600" stAng="4579435" swAng="243853"/>
                <a:lnTo>
                  <a:pt x="9010" y="18358"/>
                </a:lnTo>
                <a:arcTo wR="5901" hR="21600" stAng="5976713" swAng="4823287"/>
                <a:close/>
              </a:path>
              <a:path fill="darkenLess" w="21600" h="21600">
                <a:moveTo>
                  <a:pt x="0" y="0"/>
                </a:moveTo>
                <a:arcTo wR="5901" hR="21600" stAng="10800000" swAng="-5400000"/>
                <a:lnTo>
                  <a:pt x="12119" y="21600"/>
                </a:lnTo>
                <a:arcTo wR="5901" hR="21600" stAng="5400000" swAng="576713"/>
                <a:lnTo>
                  <a:pt x="9010" y="18358"/>
                </a:lnTo>
                <a:arcTo wR="5901" hR="21600" stAng="5976713" swAng="4823287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427800" y="2031840"/>
            <a:ext cx="1274760" cy="609840"/>
          </a:xfrm>
          <a:custGeom>
            <a:avLst/>
            <a:gdLst>
              <a:gd name="textAreaLeft" fmla="*/ 205920 w 1274760"/>
              <a:gd name="textAreaRight" fmla="*/ 918000 w 127476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79" hR="21600" stAng="10800000" swAng="5400000"/>
                <a:lnTo>
                  <a:pt x="12065" y="0"/>
                </a:lnTo>
                <a:arcTo wR="6979" hR="21600" stAng="-5400000" swAng="723497"/>
                <a:lnTo>
                  <a:pt x="18470" y="3582"/>
                </a:lnTo>
                <a:lnTo>
                  <a:pt x="16501" y="21600"/>
                </a:lnTo>
                <a:lnTo>
                  <a:pt x="8272" y="3582"/>
                </a:lnTo>
                <a:lnTo>
                  <a:pt x="10828" y="3582"/>
                </a:lnTo>
                <a:arcTo wR="6979" hR="21600" stAng="-4676503" swAng="-291180"/>
                <a:lnTo>
                  <a:pt x="9522" y="1485"/>
                </a:lnTo>
                <a:arcTo wR="6979" hR="21600" stAng="-5832317" swAng="-4967683"/>
                <a:close/>
              </a:path>
              <a:path fill="darkenLess" w="21600" h="21600">
                <a:moveTo>
                  <a:pt x="0" y="21600"/>
                </a:moveTo>
                <a:arcTo wR="6979" hR="21600" stAng="10800000" swAng="5400000"/>
                <a:lnTo>
                  <a:pt x="6979" y="0"/>
                </a:lnTo>
                <a:arcTo wR="6979" hR="21600" stAng="-5400000" swAng="432317"/>
                <a:lnTo>
                  <a:pt x="9522" y="1485"/>
                </a:lnTo>
                <a:arcTo wR="6979" hR="21600" stAng="-5832317" swAng="-4967683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18000" y="2568600"/>
            <a:ext cx="447840" cy="492120"/>
          </a:xfrm>
          <a:prstGeom prst="downArrow">
            <a:avLst>
              <a:gd name="adj1" fmla="val 50000"/>
              <a:gd name="adj2" fmla="val 24989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343080" y="5410080"/>
            <a:ext cx="2755800" cy="533520"/>
          </a:xfrm>
          <a:prstGeom prst="roundRect">
            <a:avLst>
              <a:gd name="adj" fmla="val 1309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2022 год – 861255,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3517920" y="5372280"/>
            <a:ext cx="2692440" cy="545760"/>
          </a:xfrm>
          <a:prstGeom prst="roundRect">
            <a:avLst>
              <a:gd name="adj" fmla="val 1309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2023 год –  842165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6794640" y="5384880"/>
            <a:ext cx="2692440" cy="546120"/>
          </a:xfrm>
          <a:prstGeom prst="roundRect">
            <a:avLst>
              <a:gd name="adj" fmla="val 1309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2024 год – 874417,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86C-6AC2-4F64-8B27-3E96035A98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385920"/>
            <a:ext cx="91393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П"Профилактика безнадзорности и правонарушений несовершеннолетних на территории МО "Ленский муниципальный район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802040" y="3900600"/>
            <a:ext cx="49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22                   2023                   2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93680" y="4005360"/>
            <a:ext cx="425124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0"/>
          <p:cNvSpPr/>
          <p:nvPr/>
        </p:nvSpPr>
        <p:spPr>
          <a:xfrm>
            <a:off x="193680" y="5084640"/>
            <a:ext cx="4276800" cy="1150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508640" y="1979640"/>
            <a:ext cx="506700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2 год –1487,4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3 год –1773,7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4 год – 1925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406440" y="179064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0"/>
          <p:cNvSpPr/>
          <p:nvPr/>
        </p:nvSpPr>
        <p:spPr>
          <a:xfrm>
            <a:off x="856296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87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0"/>
          <p:cNvSpPr/>
          <p:nvPr/>
        </p:nvSpPr>
        <p:spPr>
          <a:xfrm>
            <a:off x="4943520" y="427212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477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0"/>
          <p:cNvSpPr/>
          <p:nvPr/>
        </p:nvSpPr>
        <p:spPr>
          <a:xfrm>
            <a:off x="6772320" y="4297320"/>
            <a:ext cx="117792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725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50"/>
          <p:cNvSpPr/>
          <p:nvPr/>
        </p:nvSpPr>
        <p:spPr>
          <a:xfrm>
            <a:off x="8537400" y="5478480"/>
            <a:ext cx="117828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9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0"/>
          <p:cNvSpPr/>
          <p:nvPr/>
        </p:nvSpPr>
        <p:spPr>
          <a:xfrm>
            <a:off x="5006880" y="55040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0"/>
          <p:cNvSpPr/>
          <p:nvPr/>
        </p:nvSpPr>
        <p:spPr>
          <a:xfrm>
            <a:off x="6810480" y="55166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8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 «Развитие сферы культуры в Ленском район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305240" y="40892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22                    2023                     20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0"/>
          <p:cNvSpPr/>
          <p:nvPr/>
        </p:nvSpPr>
        <p:spPr>
          <a:xfrm>
            <a:off x="279360" y="4483080"/>
            <a:ext cx="378468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0"/>
          <p:cNvSpPr/>
          <p:nvPr/>
        </p:nvSpPr>
        <p:spPr>
          <a:xfrm>
            <a:off x="7886880" y="4546440"/>
            <a:ext cx="1296720" cy="444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2938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4344840" y="511812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5641,1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0"/>
          <p:cNvSpPr/>
          <p:nvPr/>
        </p:nvSpPr>
        <p:spPr>
          <a:xfrm>
            <a:off x="279360" y="5156280"/>
            <a:ext cx="383544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ультурно-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0"/>
          <p:cNvSpPr/>
          <p:nvPr/>
        </p:nvSpPr>
        <p:spPr>
          <a:xfrm>
            <a:off x="7896240" y="5803920"/>
            <a:ext cx="1312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0345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4383000" y="5803920"/>
            <a:ext cx="1204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357,8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0" y="2730600"/>
            <a:ext cx="32893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0"/>
          <p:cNvSpPr/>
          <p:nvPr/>
        </p:nvSpPr>
        <p:spPr>
          <a:xfrm>
            <a:off x="7877160" y="5181480"/>
            <a:ext cx="1325520" cy="393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0292,7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4356000" y="4521240"/>
            <a:ext cx="125748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960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266760" y="5803920"/>
            <a:ext cx="387360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6146640" y="513072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8743,0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6172200" y="577836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948,8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6146640" y="455940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2065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0" y="2984400"/>
            <a:ext cx="9728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22 год – 66,0 млн.руб. 2023 год – 70,8 млн.руб. 2024 год – 73,6 млн.руб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4" descr="C:\Users\Кривошеина ТА\Desktop\vIHDxSdEAXw.jpg"/>
          <p:cNvPicPr/>
          <p:nvPr/>
        </p:nvPicPr>
        <p:blipFill>
          <a:blip r:embed="rId1"/>
          <a:stretch/>
        </p:blipFill>
        <p:spPr>
          <a:xfrm>
            <a:off x="4997520" y="806400"/>
            <a:ext cx="3938400" cy="26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C:\Users\Кривошеина ТА\Desktop\lhnWevnqSsc.jpg"/>
          <p:cNvPicPr/>
          <p:nvPr/>
        </p:nvPicPr>
        <p:blipFill>
          <a:blip r:embed="rId2"/>
          <a:stretch/>
        </p:blipFill>
        <p:spPr>
          <a:xfrm>
            <a:off x="380880" y="852480"/>
            <a:ext cx="393696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3C8C-A7D0-462D-A2E0-8287652186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П"Развитие физической культуры, спорта, туризма, повышение эффективности реализации молодежной и семейной политики в МО "Ленский муниципальный район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5283360" y="825480"/>
            <a:ext cx="383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2 год – 4261,4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3 год –5010,0 тыс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4 год -  5191,3 тыс.руб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0"/>
          <p:cNvSpPr/>
          <p:nvPr/>
        </p:nvSpPr>
        <p:spPr>
          <a:xfrm>
            <a:off x="266760" y="4381560"/>
            <a:ext cx="4648320" cy="2222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2 год – 2585,5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3 год –3020,1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4 год -3282,9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5003640" y="2616120"/>
            <a:ext cx="4470480" cy="22608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2 год –0,0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3 год   –208,0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4 год -114,8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507960" y="1587600"/>
            <a:ext cx="3564000" cy="23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283360" y="49910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C4A5-25F0-463A-9C21-F65F169F8C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МО Ленский муниципа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П"Ремонт и содержание сети автомобильных дорог, находящихся в собственности МО "Ленский муниципальный район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66D7-1317-42CB-987E-3C36C4412A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90440" y="1244520"/>
            <a:ext cx="9207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22 год – 15,7 млн.руб.   2023 год-19,5 млн.руб.  2024 год -18,8 млн. руб.</a:t>
            </a: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9"/>
          <p:cNvSpPr/>
          <p:nvPr/>
        </p:nvSpPr>
        <p:spPr>
          <a:xfrm>
            <a:off x="241200" y="212076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1"/>
          <p:cNvSpPr/>
          <p:nvPr/>
        </p:nvSpPr>
        <p:spPr>
          <a:xfrm flipH="1">
            <a:off x="4140360" y="598176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279360" y="2959200"/>
            <a:ext cx="3848040" cy="3670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Users\Кривошеина ТА\Desktop\12648.jpg"/>
          <p:cNvPicPr/>
          <p:nvPr/>
        </p:nvPicPr>
        <p:blipFill>
          <a:blip r:embed="rId2"/>
          <a:stretch/>
        </p:blipFill>
        <p:spPr>
          <a:xfrm>
            <a:off x="4165560" y="2133720"/>
            <a:ext cx="5295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785-6CE3-440F-A563-5EA5C8F182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27"/>
          <p:cNvSpPr/>
          <p:nvPr/>
        </p:nvSpPr>
        <p:spPr>
          <a:xfrm>
            <a:off x="619200" y="1511280"/>
            <a:ext cx="8880480" cy="50418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 муниципальной служ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 МО «Ленский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униципальный район» и муниципальным долго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О «Ленский муниципальный район»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«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7600" y="1774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 "Управление муниципальными финансами МО "Ленский муниципальный район" и муниципальным долгом МО "Ленский муниципальный район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7057-CB64-41D7-9A9F-F6A8F469C0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486400" y="1163520"/>
            <a:ext cx="40464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2 год – 21,8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3 год – 23,3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4 год – 22,9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0" descr="C:\Users\Кривошеина ТА\Desktop\d5417b99-ad72-40d2-9.jpg"/>
          <p:cNvPicPr/>
          <p:nvPr/>
        </p:nvPicPr>
        <p:blipFill>
          <a:blip r:embed="rId1"/>
          <a:stretch/>
        </p:blipFill>
        <p:spPr>
          <a:xfrm>
            <a:off x="5486400" y="3441600"/>
            <a:ext cx="415620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ACDC-7F8D-413E-8B70-DBCD61BEFF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Object 4" descr=""/>
          <p:cNvPicPr/>
          <p:nvPr/>
        </p:nvPicPr>
        <p:blipFill>
          <a:blip r:embed="rId1"/>
          <a:stretch/>
        </p:blipFill>
        <p:spPr>
          <a:xfrm>
            <a:off x="4406760" y="-34920"/>
            <a:ext cx="6058080" cy="2838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программные расходы -3,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62040" y="90180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раммная часть бюджета –96,7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 2023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0"/>
          <p:cNvSpPr/>
          <p:nvPr/>
        </p:nvSpPr>
        <p:spPr>
          <a:xfrm>
            <a:off x="422280" y="1908000"/>
            <a:ext cx="5330880" cy="6699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569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0"/>
          <p:cNvSpPr/>
          <p:nvPr/>
        </p:nvSpPr>
        <p:spPr>
          <a:xfrm>
            <a:off x="399960" y="2844720"/>
            <a:ext cx="5988240" cy="66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989,4 тыс.рублей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0"/>
          <p:cNvSpPr/>
          <p:nvPr/>
        </p:nvSpPr>
        <p:spPr>
          <a:xfrm>
            <a:off x="393840" y="3733920"/>
            <a:ext cx="5524200" cy="10411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Защита населения и территории от чрезвычай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итуаций природного  и техногенно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характера, пожарная безопас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363,2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50"/>
          <p:cNvSpPr/>
          <p:nvPr/>
        </p:nvSpPr>
        <p:spPr>
          <a:xfrm>
            <a:off x="447840" y="5119560"/>
            <a:ext cx="4365360" cy="6717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00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403200" y="87948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23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7617-3983-459C-9AFD-069755A144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4191120" y="2120760"/>
            <a:ext cx="1971720" cy="97488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"/>
          <p:cNvSpPr/>
          <p:nvPr/>
        </p:nvSpPr>
        <p:spPr>
          <a:xfrm>
            <a:off x="4205160" y="3225960"/>
            <a:ext cx="1973520" cy="93492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ff3300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5"/>
          <p:cNvSpPr/>
          <p:nvPr/>
        </p:nvSpPr>
        <p:spPr>
          <a:xfrm>
            <a:off x="1884240" y="1214280"/>
            <a:ext cx="3638520" cy="394344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440"/>
              <a:gd name="textAreaBottom" fmla="*/ 3943800 h 394344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d99694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09520" y="51213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842,2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0" y="762120"/>
            <a:ext cx="233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834,8 м.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023240" y="164772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,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186520" y="35830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7,4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938840" y="5165640"/>
            <a:ext cx="471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,0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48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0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505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511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D5A-8EBC-4D2C-A973-E428C0C7C2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0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3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500"/>
                            </p:stCondLst>
                            <p:childTnLst>
                              <p:par>
                                <p:cTn id="5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900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09D-43E5-44DB-97DD-B51A368739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49160" y="1257480"/>
          <a:ext cx="8407440" cy="5603760"/>
        </p:xfrm>
        <a:graphic>
          <a:graphicData uri="http://schemas.openxmlformats.org/drawingml/2006/table">
            <a:tbl>
              <a:tblPr/>
              <a:tblGrid>
                <a:gridCol w="3571920"/>
                <a:gridCol w="1594080"/>
                <a:gridCol w="1614240"/>
                <a:gridCol w="1627200"/>
              </a:tblGrid>
              <a:tr h="68220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22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отчет)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23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рогноз)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24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пл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СХОДЫ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125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216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44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государственные вопро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9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2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2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эконом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98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1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лищно-коммунальное хозяй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74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5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8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497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307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145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льтура и кинематограф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22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7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6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циальная полити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75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6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74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ая культура и спор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4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служивание муниципального дол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5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64800" rIns="64800" tIns="32400" bIns="324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бюджетные трансфер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6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EA2-72DA-4032-AB63-93B044598F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350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91960"/>
            <a:ext cx="89154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Диаграмма 4"/>
          <p:cNvGraphicFramePr/>
          <p:nvPr/>
        </p:nvGraphicFramePr>
        <p:xfrm>
          <a:off x="444600" y="876240"/>
          <a:ext cx="9347040" cy="584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876240"/>
                    <a:ext cx="934704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A556-8BA9-407A-B825-8B970C72F1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7920" y="152280"/>
            <a:ext cx="89154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СУДАРСТВЕН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Диаграмма 4" descr=""/>
          <p:cNvPicPr/>
          <p:nvPr/>
        </p:nvPicPr>
        <p:blipFill>
          <a:blip r:embed="rId1"/>
          <a:stretch/>
        </p:blipFill>
        <p:spPr>
          <a:xfrm>
            <a:off x="317520" y="698400"/>
            <a:ext cx="9016920" cy="6210360"/>
          </a:xfrm>
          <a:prstGeom prst="rect">
            <a:avLst/>
          </a:prstGeom>
          <a:ln w="0">
            <a:noFill/>
          </a:ln>
        </p:spPr>
      </p:pic>
      <p:sp>
        <p:nvSpPr>
          <p:cNvPr id="73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904-6BED-4D4E-B04A-FCFD74BC29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5545-3AA1-4257-AD01-73E3BAC408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E15-F6E1-45E5-B115-65C6E769BC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2032-DE87-4E06-824B-684343B07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888840" y="1473120"/>
            <a:ext cx="8801280" cy="520704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образования Ленского 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«Ленский муниципальный район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сферы культуры МО «Ленский муниципальный район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на территории МО Ленский муниципальный рай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МО Ле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DDF3-1879-4754-A69C-8C2D69EF56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172200" y="1003320"/>
            <a:ext cx="35053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2 год –585,0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3 год –583,1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4 год –621,4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униципальная  программа  "Развитие образования Ленского  муниципального района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C:\Users\Кривошеина ТА\Desktop\SgGeJRKnDE0.jpg"/>
          <p:cNvPicPr/>
          <p:nvPr/>
        </p:nvPicPr>
        <p:blipFill>
          <a:blip r:embed="rId1"/>
          <a:stretch/>
        </p:blipFill>
        <p:spPr>
          <a:xfrm>
            <a:off x="5514840" y="2575080"/>
            <a:ext cx="41752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П «Развитие образования Ленского муниципального района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95360" y="1193760"/>
          <a:ext cx="9105840" cy="5372280"/>
        </p:xfrm>
        <a:graphic>
          <a:graphicData uri="http://schemas.openxmlformats.org/drawingml/2006/table">
            <a:tbl>
              <a:tblPr/>
              <a:tblGrid>
                <a:gridCol w="3208320"/>
                <a:gridCol w="1757160"/>
                <a:gridCol w="2070360"/>
                <a:gridCol w="207000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83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35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3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10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223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66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5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1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6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52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4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9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5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9" name="Номер слайда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26BE-94F2-43BF-A7F8-AB92F1475F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D32C-B0D9-4084-9F43-8D596E986B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30120" y="228600"/>
            <a:ext cx="9576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МП«Развитие местного самоуправления в МО «Ленский муниципальный район» и поддержка социально ориентированных некоммерческих организаций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5680" y="1622520"/>
            <a:ext cx="4584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079960" y="1562040"/>
            <a:ext cx="4419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9"/>
          <p:cNvSpPr/>
          <p:nvPr/>
        </p:nvSpPr>
        <p:spPr>
          <a:xfrm>
            <a:off x="317520" y="4255920"/>
            <a:ext cx="400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Скругленный прямоугольник 14"/>
          <p:cNvSpPr/>
          <p:nvPr/>
        </p:nvSpPr>
        <p:spPr>
          <a:xfrm>
            <a:off x="469800" y="1536840"/>
            <a:ext cx="3975120" cy="25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Calibri"/>
              </a:rPr>
              <a:t>Старшее поко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плата проезда в общественном транспор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2 год- 4,6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3 год- 12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4 год –12,6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кругленный прямоугольник 15"/>
          <p:cNvSpPr/>
          <p:nvPr/>
        </p:nvSpPr>
        <p:spPr>
          <a:xfrm>
            <a:off x="673200" y="4280040"/>
            <a:ext cx="8915400" cy="207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Times New Roman"/>
              </a:rPr>
              <a:t>Содействие развитию социально-ориентированных некоммерческих организ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22 год- 337,7 тыс.рублей                                   2023 год- 108,6 тыс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24 год – 250,0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кругленный прямоугольник 16"/>
          <p:cNvSpPr/>
          <p:nvPr/>
        </p:nvSpPr>
        <p:spPr>
          <a:xfrm>
            <a:off x="4495680" y="1523880"/>
            <a:ext cx="4686480" cy="2438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Развитие территориального общественного 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2 год- 1390,3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3 год- 1362,0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4 год – 1362,0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23-03-10T11:47:58Z</dcterms:modified>
  <cp:revision>1482</cp:revision>
  <dc:subject/>
  <dc:title>Бюджет для граждан на 2014 год</dc:title>
</cp:coreProperties>
</file>