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3D0-663D-4DD4-BFA7-5FF55435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E9B-BE01-42D5-8EA5-DE99709D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19B56-3D60-4464-8399-5F6113FD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A4362-18F4-4605-8EFC-834EF1BF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E10CC-028F-4149-B02F-6B86C6CD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DE9E1-99F2-477F-AFD0-214406FE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AEDD2-0CC2-4F21-B54F-08FA465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7A6FF-2037-4114-A2F2-A4330E4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CEF59-5FD9-47B6-B446-2F0678FD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AF5FF-AED4-4ECC-B3FE-3FF8AEE3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F8278-16E7-42C3-B5BA-3A7AF74E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964E5-4587-407B-B1A0-85308159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BE8-1234-47F9-99F9-26AC8693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73722-5BB1-40DA-91EB-91844BFC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71FBD-FAA9-4E42-AD6A-4BCC824F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8C7F6-5EF1-4A0A-AC0C-0DE8021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B2EE8-69FD-4B05-9A8B-2BA1E47A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12AB-D112-4473-A649-B8E7F96F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1256A-3124-48FA-8490-6EF901A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2B907-06F9-489D-B699-1E27A0C3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ADDB2-9D3A-4ADF-A97A-C117764B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B123A-7496-4592-B97F-755C60A2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E0AAB-3AF4-4087-9540-50E44A7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465-6352-45FF-8CC6-BD98DCD36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CBAAF-9D48-40BB-91B9-B0950801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F3884-17B4-4DDC-963C-E59D742C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6F9B6-907E-413F-AFE9-597BFFFA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F77BD-9BD5-4D8B-A0CB-BB5F0BC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48012-1492-45CA-ABE4-ACBC67D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E0E9C-B08D-4C82-AE2B-A6DA2A3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0935C-3E30-41C4-AA56-BFC971F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906F6-E572-4C86-87FD-DC01DF1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BCA75-BD41-4A38-B47A-EC2AE9E5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96690-C818-4E58-AB36-CBBF0349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C99D-B088-4FA7-BA7D-6FEF3493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1C007-3F87-4B1C-A20C-929DD099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015B-4DC8-45CF-8DAF-DF1D1182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50E19-0519-4D76-A0EE-E351E2C6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5F436-853E-4DAD-948F-CC7758F8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05F5E-99FB-4AF5-99AA-7F673BB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1DBC3-DE98-4E20-9C04-49AFD69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4ABA5-DDDD-48CE-8B93-2C516518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ADA93-A00D-4BD7-89B8-818C6B7B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03340-590E-4666-9BBA-293BC3B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776841-A2A4-4D63-9C06-8AF8628D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9CC8-F8D2-4131-B0B6-9A0AAAEF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CF3D0-F51B-4C52-9F6B-B7E7CC0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622DC-4052-4975-94EE-81537104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67ED2-A0BF-4F98-9CA0-5FAC952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297C2-C232-4FAD-9381-33864511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9EA81-5DDF-4B9E-85BF-A644400A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2E02A-84F6-4DFA-A7CF-910AC079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4F2A0-0E8E-4993-A6D5-0EF90B8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A2955-36D8-4AEA-8B90-3769D7F2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F3FCE8-1F5A-4731-A313-6629A85A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86847-3DBE-4153-BDD1-542EBF29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D418-CC04-4A4D-8184-EA094FF2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90EE82-E072-4C48-AC43-983E7003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96F6E-3F5A-47C2-B163-7CB24428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6D4FD-C897-472D-B638-E470847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47602-D38A-4CD0-837B-B8B137C5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D401E-027A-4C13-8682-DD41F5E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7733E-7B9A-489B-826B-FFA6C12A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6A71C-4DBD-4A6B-98DF-702A6DA0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9E85F-066C-424E-BD44-131D1DFB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939CA-64D4-4353-9229-547102C2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81D1C-5AC3-439A-9949-296A355F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0A02-2935-4654-9AB0-C8D43A39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A444B-A8AB-44A2-BA1A-34CA8A00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E880F-CB49-42F6-B320-D6052D4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2C395-7376-4D3B-AFF8-D4A338B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5184D-E666-49A8-B7B4-83109EB2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4355B-C554-4120-B523-54C6FE6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AF4BF-9D0D-42EA-92A7-BAF8E14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C1FF9-D087-46A9-8FE3-B924398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FCF57-4091-413D-9468-FBEF3B1D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A3336-190C-4E29-BAD6-E7F17408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E884B-EF40-4FAB-9647-6BA15088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38F-381F-4355-B3F3-110AB68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7A2442-3D0B-4A23-8768-B91E92E3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5B1DA-1A70-492C-87A2-D6C40CBD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D81A84-8379-4C4F-9282-ED9481D5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B50C79-290F-425E-9FE9-5291D35A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430578-9D31-48AD-BD65-B0735D97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58832C-C63E-442A-85D2-2EB792E4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790BF-75C9-4375-A215-BB9B424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08B26-7535-486D-8F63-89495534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762CD-AA85-4F7E-A972-09F1603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2A70F9-900A-4061-BBB3-1C45BE13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EE62-091F-4027-9278-8E806AF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96BD4-3655-47D0-B3E0-95120E5F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7F47-3A99-4336-AB00-4ABE193E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A65-0241-495A-AB93-3523387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95F1-C778-4BA5-95F0-03812F2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950-6933-47DC-BE22-2475ED66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24A7-2468-4A27-B6BF-0FE4DA9A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E38A-BCF1-401A-B8DD-E9326E87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2CC-F932-4623-ABBB-1D43E665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01FC-EFFF-463F-9310-C29CFAF4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CD0B-7466-4B38-96CF-6E8CE2BA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47F6-F3A1-4EA9-9189-58C47B87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0710E-77FD-4617-919D-965626C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4469-77C5-4461-9277-715C18E0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9AE-A07E-48D7-80CD-22CD094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41EF-31AF-4559-AD48-DA7AEB9B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202A7-7DA1-47C3-96AB-BE5D7F7A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DA5F-DA68-40BF-BAB8-D41ACA73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714C-814B-4B15-BDCD-BE0E26F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337F-AF81-4191-A9E9-894F6E21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D3DB-D5DE-41A0-8F8A-107AB427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F0FE-51AB-4416-9E8E-46BD2AB7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0061-CDD6-4E1F-A6EE-912AD344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B815-9DC8-4A84-82D4-FD3A208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758D-0381-4724-BF9C-C8141D4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517-910C-419A-891F-D36AFB47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5C61-D048-487F-8863-F0E94FAA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9A632-0B44-4BB4-A3EA-2481481F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DDBD0-8AE5-4654-B0BC-3D60E406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FF6B-6318-4D3A-BFE0-1CE422D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94195-C70F-4695-A7CA-CBAA0F3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9D2BC-5F6D-4D28-AAE5-DF205C67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D353-981B-43E7-A1CB-D53EE5A3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0FE6-0117-497C-9536-825BB122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D2A58-2717-4552-9B8A-6F3EC889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BF05-7BA8-4B0D-8F66-AFB51F74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498-55FF-4548-B8BF-A9BE095E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1230F-FA47-44B9-B7E4-FB016F2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8F087-C303-4FE7-AA36-6DA48BEF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8D5E6-E0AD-430B-AA0C-B7DEB281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2F8E-3899-469A-8D6A-8A83C9BE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A5FA-81AF-428D-917B-9149EED5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4F0C-BB96-43EB-9EC7-823E3398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7E8E-27E4-45B3-B879-F29945B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B549-F024-4653-B541-85B9632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4DCB-3689-4AEE-91FE-9C45FA8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6174E-0FCA-49FC-8F91-DEA36BFD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53F-69CC-4227-ACDF-105DE92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34190-7625-4AB1-A1CD-DB22396A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31495-ED32-4B8E-BA7F-0DF04889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20C1C-8A2A-4A38-A4FF-C49E56C0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5C21-12BB-4F5F-A60D-A7DF2A03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8083-CCF8-4F33-9AEA-CF0C29B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D96F3-ADFC-4DA2-BF54-3F62B329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2998-EA17-4FA3-A08F-93F8CBC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8D691-6CE5-4883-9D96-764D3C4B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7823-8273-492C-A6F5-24E4376B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FC856-7CED-4133-8D14-FB0087AE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F0D-BDC4-43EB-AF6B-124572CA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7404-B282-4D66-9159-EB8C7399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E920-2892-4D5A-A927-B91A9C34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B127-D213-4168-9CC3-B57F4A95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FF122-5C6F-452F-BB23-AC66DE7C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1419-F4DA-458F-A78F-E8067C68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E9DA-6CED-413D-AF72-5654741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80FC4-B2C5-4C5F-B106-FC66A89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85E54-7C28-4CE8-8F46-7EABD163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2FE17-8ED9-4564-BFA4-98DE4CF9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4B09D-24C0-471A-B11F-B8776656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E92-EC76-4466-91CB-2A4F80FE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30F0F-7E61-4689-B15C-1DE2288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8530-21D0-4C73-96F3-DAAEF9F9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AB8F-EBA5-4FF0-AE28-3FD269D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3B47-A97A-4719-9A0A-6292A19A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959A7-39A2-4D20-91F4-BF0392E1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54B13-1355-45D8-AEB4-1D0A8C87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1ADD8-9BE2-402D-9091-D2BC0328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8CE2D-5D24-44DA-BB20-33B141F4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8B6C-A820-4AF1-8FD2-E6200A63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3AF52-073E-4076-9CD1-0B7E0A01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FB8-D378-4BFD-9625-4CFF83D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6EBD4-44F3-43F1-A5CA-774561DC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0B38-E841-4CB8-9234-E183C65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F9A7-EBE2-4B8B-934E-2683840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22A30-E291-4677-AD73-E5B23E9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A5C9-FAA9-4075-9A74-0966D816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16A11-FCFB-4268-81B9-F79AB631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4FC5-A9CA-4689-85F1-00365FA9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035CF-9970-43B2-8816-0355B66E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33EC4-CE3E-4517-AF9F-E3A841D3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D8C59-E724-42A3-A73E-258DBCC8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986-B552-4C84-865C-652FF6BC500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5027-4CC4-4ABD-94C6-14F58289D3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B6A-9F36-4368-B5E9-E0E91FEF003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5AE-9CC7-41DE-A1A8-7C39DC08B0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DC9F-AAA8-4C9B-AE81-CBB9C86669C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B76F-7A69-49BB-8308-8C9FBE43A0E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8FA0-9FDC-451E-9A93-74CE18947DC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EBF9-0500-43B8-AB18-F4DCE7F1B7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7520-7403-4E30-AEA0-07970F918D2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A74D-F7E2-4F80-B932-D54285AD31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6F1-C7D3-4CF6-B210-6DF4E59F33E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CB87-4CCF-43E1-AC3C-BBE9DFA3CE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A400-5423-4903-93C2-AA457777F87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6DF-1ED2-4DEC-87EB-A379B006F1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CAF-8E91-4824-AE9B-BF01A9B1531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C469-B020-4AF5-93E2-4B1DCF4AC7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3A3-D15A-412D-AC3C-0BC9FEA3890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A541-F9A4-406B-944D-CD3227A7E3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9FBF-80A3-4042-A633-775490A68C12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C685-89ED-4435-BD2A-4B0FB18202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1055-916A-4B21-9B1F-16DC049EA56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FCAA-B969-44CA-B280-533AC7BFD8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2B3E-77CC-4E20-9260-A33BA79916C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6417-B9F9-4952-AEDD-043BCA9BC7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BCB-D18A-499D-B7B6-740E666D0B6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3F6-349B-4E34-856A-82CFFEEC3C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92EF-5A53-4F1F-B637-A5BBE558CDC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5E78-8831-4477-9E18-F67CFC6885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8F23-D8DE-4464-B961-06E419853D9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B79E-70EA-4E2D-A832-0494B04802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5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7036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гражда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отчет 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02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AB2-D5EF-4E17-ABF7-4E4C0498FE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6F1-7DBA-4B28-8AA7-FF722994CA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571680" y="2690640"/>
          <a:ext cx="8586720" cy="311796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 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415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737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787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25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660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628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18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01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09C-2FF1-4992-BDE3-D198B1BF21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F263-A5D4-4792-9052-FC891F3B438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21-2023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68200" y="1219320"/>
          <a:ext cx="8977320" cy="5391000"/>
        </p:xfrm>
        <a:graphic>
          <a:graphicData uri="http://schemas.openxmlformats.org/drawingml/2006/table">
            <a:tbl>
              <a:tblPr/>
              <a:tblGrid>
                <a:gridCol w="5208840"/>
                <a:gridCol w="1287360"/>
                <a:gridCol w="1247760"/>
                <a:gridCol w="388800"/>
                <a:gridCol w="405000"/>
                <a:gridCol w="439560"/>
              </a:tblGrid>
              <a:tr h="46260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1 год 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2 год    ис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84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73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66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62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628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7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3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16,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75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67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1017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678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2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8660,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,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85,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1628,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1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62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01,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00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000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8,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9" name="Rectangle 151"/>
          <p:cNvSpPr/>
          <p:nvPr/>
        </p:nvSpPr>
        <p:spPr>
          <a:xfrm>
            <a:off x="7859880" y="952560"/>
            <a:ext cx="677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403F-3F85-4DB1-8428-3005B9C5B0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B852-F986-4637-AFF6-00E4D377A9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1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6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E8D-1D82-4F3D-8189-58636ED34F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527A-D245-4FA5-A95C-0D1544A631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34" name="Object 4" descr=""/>
          <p:cNvPicPr/>
          <p:nvPr/>
        </p:nvPicPr>
        <p:blipFill>
          <a:blip r:embed="rId1"/>
          <a:stretch/>
        </p:blipFill>
        <p:spPr>
          <a:xfrm>
            <a:off x="-192240" y="925560"/>
            <a:ext cx="8658360" cy="52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2ACC-A9B0-42DA-9D11-1C99641C07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8C5A-342A-4CC1-83EB-777C357440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3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220680" y="841320"/>
          <a:ext cx="8400960" cy="567216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сельскохозяйствен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9" name="Object 6" descr=""/>
          <p:cNvPicPr/>
          <p:nvPr/>
        </p:nvPicPr>
        <p:blipFill>
          <a:blip r:embed="rId1"/>
          <a:stretch/>
        </p:blipFill>
        <p:spPr>
          <a:xfrm>
            <a:off x="-457200" y="-15840"/>
            <a:ext cx="10944360" cy="7056360"/>
          </a:xfrm>
          <a:prstGeom prst="rect">
            <a:avLst/>
          </a:prstGeom>
          <a:ln w="0">
            <a:noFill/>
          </a:ln>
        </p:spPr>
      </p:pic>
      <p:sp>
        <p:nvSpPr>
          <p:cNvPr id="124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8156-3328-4F55-A131-A1B0CAEFB3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15D6-D2C2-41A1-A183-2B4B9B5556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21 - 2024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8" dur="2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90B2-55A7-4512-B2FB-63DBCFFE28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F21-29D9-4FA9-9B8F-52BEFD95C4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6" name=""/>
          <p:cNvGraphicFramePr/>
          <p:nvPr/>
        </p:nvGraphicFramePr>
        <p:xfrm>
          <a:off x="190440" y="1009800"/>
          <a:ext cx="8282160" cy="585936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920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98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71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2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0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4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2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169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7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17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13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6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8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6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C880-14CA-442A-B325-8DE1DC85C1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E44-71A4-4376-B5BA-866088A4AA3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з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-396720" y="814320"/>
            <a:ext cx="10690200" cy="667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ject 4" descr=""/>
          <p:cNvPicPr/>
          <p:nvPr/>
        </p:nvPicPr>
        <p:blipFill>
          <a:blip r:embed="rId1"/>
          <a:stretch/>
        </p:blipFill>
        <p:spPr>
          <a:xfrm>
            <a:off x="-406440" y="-231840"/>
            <a:ext cx="11088720" cy="691992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D363-8023-4054-8654-CF588781FE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85160" y="61182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DEB-9752-4CF9-8082-097F5478F3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80680" y="188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з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32FA-C167-4C64-831E-A635E4A9EB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0A27-0A05-4B88-8BDB-82E014B931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9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9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0"/>
                            </p:stCondLst>
                            <p:childTnLst>
                              <p:par>
                                <p:cTn id="5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6793-159A-4D3E-BED2-A489156A55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2718-D666-4BA6-9CCA-DD419EED9C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200"/>
                            </p:stCondLst>
                            <p:childTnLst>
                              <p:par>
                                <p:cTn id="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75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750"/>
                            </p:stCondLst>
                            <p:childTnLst>
                              <p:par>
                                <p:cTn id="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670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720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50"/>
                            </p:stCondLst>
                            <p:childTnLst>
                              <p:par>
                                <p:cTn id="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5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37D9-F2D8-4035-8812-042DB1E276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1C21-D8EE-45D1-929C-DF9831225B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9" name="Object 4" descr=""/>
          <p:cNvPicPr/>
          <p:nvPr/>
        </p:nvPicPr>
        <p:blipFill>
          <a:blip r:embed="rId1"/>
          <a:stretch/>
        </p:blipFill>
        <p:spPr>
          <a:xfrm>
            <a:off x="-587520" y="660240"/>
            <a:ext cx="10914120" cy="661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323F-2BAC-4315-A8B7-CF8194F42F8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143-99A6-4727-B11A-7C1B5DB2EE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3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77,7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95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6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9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6,4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AutoShape 27"/>
          <p:cNvSpPr/>
          <p:nvPr/>
        </p:nvSpPr>
        <p:spPr>
          <a:xfrm>
            <a:off x="347040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42,0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324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7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30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70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9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74600" y="3837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отчета об исполнении бюджета муниципального образования «Ленский  муниципальный район» в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назначаются публичные слушания.  Положение о проведении общественных обсуждений или публичных  слушаний в МО«Ленский  муниципальный район», утверждено решением Собрания депутатов МО «Ленский муниципальный район» от 10.04.2019 года № 60-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5.12.20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г. №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0B88-1EC2-4AE9-A5EE-2D297929B3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E216-D73B-4854-ACC2-405DB35BCE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F7C0-73F5-471F-BD42-CDEA750A60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9695-5477-4EFE-8E1A-C89BA7D93F2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4048-534A-49BC-B4E2-DD66B6375A8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A782-C2CA-431E-A7D3-E7C7B1B7BF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9000"/>
                            </p:stCondLst>
                            <p:childTnLst>
                              <p:par>
                                <p:cTn id="3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AD3F-9CE2-462D-A346-4EE39457E8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3B49-A957-4797-9509-DAACB9EECD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42184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202104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 испо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5758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933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1992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02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1586,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6888,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61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653,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4,5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63C-37D8-42E6-9439-4DC7CED7BA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F010-FFA7-4F48-95BD-C5050B1C8D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Беккер Ж.С</cp:lastModifiedBy>
  <dcterms:modified xsi:type="dcterms:W3CDTF">2024-03-21T09:24:39Z</dcterms:modified>
  <cp:revision>1099</cp:revision>
  <dc:subject/>
  <dc:title>Бюджет для граждан на 2014 год</dc:title>
</cp:coreProperties>
</file>