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0E8D-2725-41FF-8098-7FDAC054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481-325B-483E-AA5C-AD1547E0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CF04F-8E4C-4917-8DC9-29D9E377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53187-4E08-4256-B31C-1E20A8D4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959F3-B10E-4DA0-B9AE-5C7BB101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96F8B-9B3A-4EFD-A5E5-A70C57CB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646E8-A72E-4E97-A2CE-7E5EAE14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5640D-8540-4BEE-9DA6-205CA524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251B1-0ECA-4698-BD75-F44D314C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EDA33-C584-4C1B-9D97-DDFBBC60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A1D28-61CE-44A0-A876-3043FDF6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900C9-F02B-490B-A595-11CC4EA5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772-E6B4-47C6-8A26-63B95255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34A24-C07C-4009-8DA9-0FCAE2E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CA33C-8A4F-4D60-B8F5-D175E9D9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01854-6979-4B21-9B5A-8541D73E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13CBF-FDCC-4F38-8CEE-17A697CE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0EF3F-EDA6-4B39-8D7E-5A3DA1C7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6EEEF-049C-486E-9958-910D6597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E0E68-6E7D-4534-8F3D-E295AD38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D108F-9B02-4FAC-9F3B-CC3DB5F4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65056-861A-4721-A14F-C3D743E7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BAFCC-63E5-4474-8922-F0534BB9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F71-353E-4BD6-8972-719FDF72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92ACF-3AC1-46A1-903B-CCEE380F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F20B4-AE07-42E6-99D8-D992FEF3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E7AA1-98C9-4454-9D25-6B6E2B8B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5DA0E-04DE-435A-9A7F-043D770D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8098C-B995-418F-934D-2351614C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BF5EC-DF1B-4482-9A1C-07E4ED73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F7B69-4DAC-4C84-B5CE-81AA389F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D6441-3B2D-4322-B304-BB15A67F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03058-E493-41B0-BB43-EDC0DD58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263DF-1331-4E1D-A83B-F5AD619F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1408-4B7C-44DB-A62F-8B69161A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6B40D-5064-4209-AA2D-8F305D6D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A8652-6920-454B-B817-D42DB829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394C5-91D8-488C-857F-4F939E15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179FB-AC74-4A17-9426-C9D89468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2D9BF-F70A-4EB1-B9E3-108CA85B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8C6CC-A59B-4757-99EA-10FFA2D3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79CDB-166D-4B17-8A1C-C48C007C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F7B51-2DEB-4D3C-9222-90EBFFF5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0053D-1F7E-4EC6-AA95-DB9EC4F4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C0A8A-E0E6-46DB-BD87-5FF5C353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38A6-625B-45C6-82C4-D19B87B4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04C7D-898D-4577-82D0-969DB631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6ADE4-AE58-4B9D-8210-B8C029FB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EDB33-5E51-4343-9850-22C3FACB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FB90B-A483-4D6A-B9AE-0984CBD0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82F33-DCBB-4967-BE83-833DF2E2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7C7E1-9A3C-465E-B456-87D5DEF8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6FEAEC-6033-4A53-A12B-8C7BAE0C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A7CF1-02AE-4F1C-8459-E3B1C07F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F4DF9-933B-4592-A62A-29CF9AB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07442-2318-4AB9-9251-F1B7AE3E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50A6-40E8-4BFB-8E42-117D435E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DA696-1F67-483D-B588-B72F744B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80885-1A32-45D7-91FC-53D8B1DB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C0486-1EE6-4F8E-A7FC-E6767E22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84DD0-9A01-4663-81B1-71875B9C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E7CD4-D0FD-4009-A566-5E8C011A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11267-8F80-494C-BCAA-AD082F6F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1ADD6-9832-44D8-AB39-6DD16CFDD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80CDF6-39F7-4364-BBD1-E15A2B07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3086A-FC92-4A8C-B1B7-894E248A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8095A-5E8D-47EF-A891-DDA519E4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8854-038A-432D-AB97-0074BBA5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E1807-24D4-437E-9F3A-C6D63B92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B48835-DAFD-44E1-9D0A-8D85AE76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D4B36-4D84-48C7-9017-6B2667C9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A25A7-B994-4419-8870-D8EFEFC2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07B51-FC12-41E4-BF67-029EFB4C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1A385-1316-4FAD-9510-F86CD36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7234B-67C7-48DD-8B87-0521B59E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505CC-196E-4C3D-8EBF-36224EF7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BF3F9-96AF-4BE9-95CC-F3729D89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E5A613-5311-4F4B-9FC8-5540FF6A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83BC-8E59-426B-8F80-03046D6D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DDF9F-1CE0-4E59-9A7F-4FB7D9E0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C4C78C-246F-45C6-93A6-FBB6B9C6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33289-9725-40A4-931F-9B1F9CF0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E3ED2-D140-4662-A995-9B61E5B6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B8133-9BB5-4491-A831-3E4EFBA5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9C27B-ED0F-49E7-8800-1904CC57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455C6-CB55-4CA8-B90D-456F6D86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5CA45-EFAD-4630-862C-CAD28161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02FC8-6517-47AE-8BBC-F88D2EA0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31998-634F-4C17-A6BC-EF0D5112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F31C-371A-4E54-B907-9559B622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E5653-1C5B-4C79-AEC0-95B67970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4A21-58C8-484E-AA6D-9EE476C8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4E36-7B9E-46D9-94AC-C6088857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EE07-90C3-47EA-872B-8BAB926D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818D-F98A-4E75-A651-1A178168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7648-957F-471A-BD03-D125BC84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9ED0-A710-43FD-B5B1-F7069A71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7F77-7153-4F34-BBE1-D42A7240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E415C-B7F2-410F-89D0-7872DBD2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C74E-AAAD-4C1B-8772-282DD489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5094A-07CC-4B09-9533-2A62E3C5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9FAA-CE10-4347-91F5-323E2EF5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026F9-8ECB-4B1C-ABF8-B5782151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684-7D32-4C1B-BF22-680C3AAE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CE7A0-A502-4F5D-82DE-48B26924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63EF-E0AF-41A0-BF3A-3E9E1CFC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8C05-D05E-4630-85BC-D578B9EF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092D6-5FC7-424B-A84D-61EE1AF2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C73D-1270-4295-B420-7DABB5EA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743B-5930-4DBB-A4A0-5A90C025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F8ECD-1BD4-453B-A950-31DEA16F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946B-4280-4A93-86FD-CB2655A8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5D25C-20C9-4D70-B99F-B8A96EAA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F64F-04BD-45E7-9071-1C0EEBE8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643-C306-4D78-80DF-35A02FFC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8C6C-52E4-4F39-8537-D90DAB1D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8BB10-6979-4C20-BFFE-9313644D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EBCEA-98F0-4E97-955A-D8A08457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66545-EF7E-40C4-A505-86EB0BB8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82A30-6703-4421-9340-32E65037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D0B5-95E5-4C9C-A513-5D4391D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23948-4971-4725-8224-F754C6A8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350B4-3A20-4FB2-B006-EB51EB32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2990-EEA2-4652-BEB6-1EE240AA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FB92A-DE74-4E93-9713-0000DC3E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EF8-D782-4F6C-85A1-20F7115D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1A3E1-EB45-4A63-99D2-8131DD6C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69F30-C605-4D50-B286-BDE59708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03957-A52E-4D19-9DDE-9BD271DF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5BE1B-9C74-4992-A04A-60F163F3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50CB8-5305-43B7-AF8B-FCDEBC80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79D82-2AF0-42F5-AD33-7B6C0E9F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1B943-5706-4964-A4ED-49025323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5C15B-40AF-4096-A4B3-1D93EDF1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8A6FB-E7BA-4808-ADC5-3025CF44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54000-8D5C-48B1-9495-1F9A809D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298-8EE8-435D-B7AF-10351189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08820-1E2F-4E03-ACD0-888DC56A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16A3E-2432-4AFA-8926-EBCDB10E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19F96-1F1B-4C7F-A86D-EDE8D6F0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8229F-5EEC-4F0A-89F6-38CBCE13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5B978-BE93-455F-BCDD-EBD67C77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F4D9E-85D5-4340-8FC3-71FD82A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8BFA6-A23D-45CF-9149-1945DBF9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E35AF-EC80-472A-B958-DF52650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A689-0B42-4C37-8078-93906AF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D64B4-F66E-4D15-A9A0-E98C6F61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287-D309-4E99-9750-47D95431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0D19-8646-489E-B0BC-DDF87C42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D89A4-00CB-407C-9908-CAF535F6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79310-B207-4D29-B0EE-673A3D41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85903-700B-44EA-B51C-AAD7C5E7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5117F-4D81-4C6B-B646-CE5F597F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F9004-D3B1-4B99-98FD-B922D51E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DF1AC-B0F7-4EFA-868D-CA98781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59E3B-BE6A-4DEE-94CF-B698249F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F94AB-30AE-4A8E-A891-733B2615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6DB18-8F9F-4716-8006-C5192195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CF1-350B-4AC9-BB8D-07CA183E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F7F49-EA82-435C-9C5E-0B284724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3AC36-852E-4A7C-964F-A28F661E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D2BFF-8F78-40FD-A8B0-11341EBF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9AF46-E7BC-4445-A07E-70F35CCC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68C17-E9C9-4C35-828C-AB5C821E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EDAAB-BA2F-4A2F-B6DE-75AB2A6F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CCF84-77C7-4E02-AAD3-79865C13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1C924-258A-4ACF-9B39-0EB5BC58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BA616-75B5-46C1-B0B3-DAD60800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EA02F-9ED5-4BF6-B082-7A4A9FB1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CF3-E9BE-4FD0-9C47-7BEF7883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B919C-C41C-4AF5-B705-9CE48E3A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1F209-746E-4D4F-B0D2-99A6C2E6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36084-B476-4336-9ED4-38315157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8B7A9-667D-472D-9303-61C579F8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D5E3B-C499-4300-B8DE-841A413E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4C41E-FA75-4384-94E1-F081B38B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2E2FE-DB3F-41DA-AAD7-BFA5BF29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E0981-E7B1-4958-833E-E19114F2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AA9F1-BC43-47D6-8926-945446BE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958F9-7006-465F-BB20-15B8B27A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520D-0DCA-4AEA-A229-F29B258898D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2795-E9AA-4E25-9023-A14A563880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AF39-A8DD-4E9A-9CF1-41B24CC80BA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CD9C-0892-44CC-8996-78A5A77013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AB93-4F10-4D8E-8C22-222C0170117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7B04-4DA9-442C-9D20-30D7DDD0889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DF77-E606-4979-A45A-EDA54F1C822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5A48-B739-4B01-82B9-2F6A7F9EFD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A2C9-A05D-4D57-8814-7253D86F843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A692-F853-4DF8-98C2-9FE06D3EDD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25EA-69B3-4C64-A5A1-5C9B4C9D8B6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6FB6-09B6-40A5-A2D6-C63142AA15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89D1-FC41-401D-8FF8-0597CC56883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8795-AC80-4431-B7A1-E14129E9EB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0940-93E7-4DD6-9CEA-3F0A994FDD8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404C-A505-4FBB-BBF4-ACA25D5A3C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3AD9-D4A5-46A9-A5E1-BFB4101D065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D606-8AB9-47B0-97E9-8EA66A2087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4D95-88A8-4ADF-A44A-5F335F9EFBB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493B-E6BE-4227-8BE5-E48FE91610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4CD6-C4B2-4387-8B2B-477D7C4066C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831F-A092-48D7-A327-1208E43EFCF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63A4-A392-42E1-9DAF-E070137DF9C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5C76-EF40-4358-9A0F-F5F5A6AB2A2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0A6B-009F-467B-8D1A-69F9C7C222D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6593-8CB6-4A6A-9B81-00C0536864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23F9-BB88-4F32-B13C-3BAEF24FCE8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433F-E53D-406C-86ED-09F96D029E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6159-6E69-4B17-9B85-6231B440226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BB39-F1AF-4C0B-9A9F-F6C30B8FD6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22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88FA-D9D4-41EF-A57A-9E7CDE366E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9FE6-B179-4B2E-8E00-104414D5DB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90160" y="1450440"/>
            <a:ext cx="9333000" cy="149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3  году  бюджетная  и налоговая политика в предстоящем периоде  направлена на достижение национальных целей и стратегических задач, установленных Указом Президента Российской Федерации  от 7 мая 2018 года № 204 «О национальных целях и стратегических задачах развития Российской Федерации на период до 2024 года»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71240" y="3328920"/>
            <a:ext cx="8915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Необходимые условия для реализации бюджетной политики н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Реализация мер по обеспечению устойчивости и  сбалансированности бюджета  МО «Ленский муниципальный район»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При формировании бюджетных расходов на 2023 год использован «консервативный» (базовый) вариант прогноза социально-экономического развития МО «Ленский муниципальный район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"/>
          <p:cNvSpPr/>
          <p:nvPr/>
        </p:nvSpPr>
        <p:spPr>
          <a:xfrm>
            <a:off x="519120" y="331920"/>
            <a:ext cx="7772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 и 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Основные направления бюджетной политик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495000" y="171900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эффективности бюджетных рас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концентрация ресурсов на наиболее значимых действующих расходных обязательствах МО «Ленский муниципальный район» , принятие новых расходных обязательств на основе взвешенной оценки и при условии финансового обеспечения действующих расходных обязатель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использование внутренних резервов муниципального сект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создание условий для повышения качества предоставления муниципальных услу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повышение  эффективности процедур проведения закупок товаров ,  работ, услуг для обеспечения муниципальных нуж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развитие системы финансового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66"/>
                </a:solidFill>
                <a:latin typeface="Times New Roman"/>
              </a:rPr>
              <a:t>обеспечение прозрачности и открытости муниципальных финанс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543B-322A-42C1-B119-954BD52584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5EFE-F763-4431-9B40-AADD4E46DC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FEFC-08F3-4D72-AAA6-8B56D445DE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571680" y="2690640"/>
          <a:ext cx="8586720" cy="3033720"/>
        </p:xfrm>
        <a:graphic>
          <a:graphicData uri="http://schemas.openxmlformats.org/drawingml/2006/table">
            <a:tbl>
              <a:tblPr/>
              <a:tblGrid>
                <a:gridCol w="2145960"/>
                <a:gridCol w="2187720"/>
                <a:gridCol w="2106720"/>
                <a:gridCol w="214632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3 360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4 820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 812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 178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2 165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 417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1 818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 344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 60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540C-B929-4354-9941-A766C6344D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341A-1846-49B2-A77F-6899AD655D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858528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Показатели социально – экономического развития </a:t>
            </a:r>
            <a:br>
              <a:rPr sz="2800"/>
            </a:br>
            <a:r>
              <a:rPr b="1" lang="ru-RU" sz="2800" spc="-1" strike="noStrike">
                <a:solidFill>
                  <a:srgbClr val="330066"/>
                </a:solidFill>
                <a:latin typeface="Times New Roman"/>
              </a:rPr>
              <a:t>Ленского района в 2021 – 2025 годах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414360" y="1770120"/>
          <a:ext cx="8932680" cy="5038560"/>
        </p:xfrm>
        <a:graphic>
          <a:graphicData uri="http://schemas.openxmlformats.org/drawingml/2006/table">
            <a:tbl>
              <a:tblPr/>
              <a:tblGrid>
                <a:gridCol w="2778120"/>
                <a:gridCol w="1108080"/>
                <a:gridCol w="1108080"/>
                <a:gridCol w="1306440"/>
                <a:gridCol w="1252440"/>
                <a:gridCol w="13795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1 год (отч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 год (оцен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3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024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5 год (прогноз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Численность постоянного населения (среднегодовая), тыс.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Индекс потребительских цен, % к декабрю прошлог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вод в действие жилых домов, кв.м общей площад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31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09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8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60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списочная численность работников организаций  без субъектов малого и среднего предпринима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0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6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Среднемесячная заработная плата одного работника крупных и средних предприятий и некоммерческих организаций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675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628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927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7287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6952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Величина прожиточного минимума в среднем на душу населения в месяц, руб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40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563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14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6658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7191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Уровень безработицы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,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,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2888-AA85-4037-88D7-91D36F7A535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202F-9E00-4075-AF78-A7B9A537A34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на 202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-202</a:t>
            </a:r>
            <a:r>
              <a:rPr b="1" lang="en-US" sz="2400" spc="-1" strike="noStrike">
                <a:solidFill>
                  <a:srgbClr val="330066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годы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30" name=""/>
          <p:cNvGraphicFramePr/>
          <p:nvPr/>
        </p:nvGraphicFramePr>
        <p:xfrm>
          <a:off x="0" y="1114560"/>
          <a:ext cx="9180360" cy="6253200"/>
        </p:xfrm>
        <a:graphic>
          <a:graphicData uri="http://schemas.openxmlformats.org/drawingml/2006/table">
            <a:tbl>
              <a:tblPr/>
              <a:tblGrid>
                <a:gridCol w="4292640"/>
                <a:gridCol w="1303200"/>
                <a:gridCol w="1233720"/>
                <a:gridCol w="434880"/>
                <a:gridCol w="361800"/>
                <a:gridCol w="392400"/>
                <a:gridCol w="1161720"/>
              </a:tblGrid>
              <a:tr h="462600"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 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ект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7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4 82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 8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16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0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8 02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244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34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3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58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2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676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320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3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973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12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2 16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441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616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5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marL="533520" indent="-53352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7 34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9 6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4 47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4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 6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47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39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4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47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5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94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42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8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90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734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94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5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31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825E-171E-4127-B202-DAB55605A86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2EE3-7742-464A-8D74-D108BFA0AD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10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CD7F-C112-49F7-BE42-12548718C4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1251-D6B6-4553-BB3E-B847DB8426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на 2023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46" name="Object 4" descr=""/>
          <p:cNvPicPr/>
          <p:nvPr/>
        </p:nvPicPr>
        <p:blipFill>
          <a:blip r:embed="rId1"/>
          <a:stretch/>
        </p:blipFill>
        <p:spPr>
          <a:xfrm>
            <a:off x="-431640" y="714240"/>
            <a:ext cx="9165960" cy="579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33A-491A-4114-9D8C-4D93FFAFB8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ECF4-C72F-4715-B2B7-0681308905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17480" y="204480"/>
            <a:ext cx="78724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300"/>
            </a:b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РАСПРЕДЕЛЕНИЕ НАЛОГОВ по бюджетам с 1 января  2023 года ( в процентах)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220680" y="841320"/>
          <a:ext cx="8400960" cy="5870520"/>
        </p:xfrm>
        <a:graphic>
          <a:graphicData uri="http://schemas.openxmlformats.org/drawingml/2006/table">
            <a:tbl>
              <a:tblPr/>
              <a:tblGrid>
                <a:gridCol w="3581280"/>
                <a:gridCol w="1249560"/>
                <a:gridCol w="1261800"/>
                <a:gridCol w="1263960"/>
                <a:gridCol w="104436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бластно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 на доходы физических лиц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по патент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Транспортный налог с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 (в зависимости от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Местные налоги (налог на имущество физических лиц и земельный нал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 (до раз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ые помещения (в зависимости от собственност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на окружающую  ср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Object 6" descr=""/>
          <p:cNvPicPr/>
          <p:nvPr/>
        </p:nvPicPr>
        <p:blipFill>
          <a:blip r:embed="rId1"/>
          <a:stretch/>
        </p:blipFill>
        <p:spPr>
          <a:xfrm>
            <a:off x="-606600" y="-203040"/>
            <a:ext cx="11452320" cy="7564320"/>
          </a:xfrm>
          <a:prstGeom prst="rect">
            <a:avLst/>
          </a:prstGeom>
          <a:ln w="0">
            <a:noFill/>
          </a:ln>
        </p:spPr>
      </p:pic>
      <p:sp>
        <p:nvSpPr>
          <p:cNvPr id="125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29EE-DDF9-47F4-B44A-84ADAFF7BD9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6C0D-95F2-4FF8-9BD3-91B699AFB8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21920" y="331560"/>
            <a:ext cx="81723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2021-2024 год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43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3A28-66DD-4ED7-859C-FD66D0DD38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1746-8ABF-4D25-9020-F9C0A39CF7F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190440" y="1009800"/>
          <a:ext cx="8282160" cy="5859360"/>
        </p:xfrm>
        <a:graphic>
          <a:graphicData uri="http://schemas.openxmlformats.org/drawingml/2006/table">
            <a:tbl>
              <a:tblPr/>
              <a:tblGrid>
                <a:gridCol w="3390840"/>
                <a:gridCol w="1231920"/>
                <a:gridCol w="1251000"/>
                <a:gridCol w="1222560"/>
                <a:gridCol w="118584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гн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920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381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73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30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5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96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7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10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 на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0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36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36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4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6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1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53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7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7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8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57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423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1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95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13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6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10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737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43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8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8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37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2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12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2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27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0712-2E93-489E-BDF7-E7F7CE50FE1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E374-0FBA-4B9D-A49D-6E43A818F58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856B-D389-499F-8D6C-F644B0F82E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353D-52AB-4CB8-85BB-3EDFF7DC9FB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23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62" name="Object 4" descr=""/>
          <p:cNvPicPr/>
          <p:nvPr/>
        </p:nvPicPr>
        <p:blipFill>
          <a:blip r:embed="rId1"/>
          <a:stretch/>
        </p:blipFill>
        <p:spPr>
          <a:xfrm>
            <a:off x="-650880" y="560520"/>
            <a:ext cx="11198160" cy="718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Object 4" descr=""/>
          <p:cNvPicPr/>
          <p:nvPr/>
        </p:nvPicPr>
        <p:blipFill>
          <a:blip r:embed="rId1"/>
          <a:stretch/>
        </p:blipFill>
        <p:spPr>
          <a:xfrm>
            <a:off x="-609480" y="-152280"/>
            <a:ext cx="11596680" cy="7427880"/>
          </a:xfrm>
          <a:prstGeom prst="rect">
            <a:avLst/>
          </a:prstGeom>
          <a:ln w="0">
            <a:noFill/>
          </a:ln>
        </p:spPr>
      </p:pic>
      <p:sp>
        <p:nvSpPr>
          <p:cNvPr id="126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A66-A8CD-4A8A-AD0A-B792B809A7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81F3-BD0A-4100-8D14-11A3AED50A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23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EC50-6865-42B2-AE3F-FC07169610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3E81-755D-44DF-BCEC-B0E2A79944D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1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000"/>
                            </p:stCondLst>
                            <p:childTnLst>
                              <p:par>
                                <p:cTn id="60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0"/>
                            </p:stCondLst>
                            <p:childTnLst>
                              <p:par>
                                <p:cTn id="6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E06E-BA49-4E42-A741-240ABDFE8E1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373-10ED-4F6D-9362-6D51AA0D66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на 2023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81" name="Object 4" descr=""/>
          <p:cNvPicPr/>
          <p:nvPr/>
        </p:nvPicPr>
        <p:blipFill>
          <a:blip r:embed="rId1"/>
          <a:stretch/>
        </p:blipFill>
        <p:spPr>
          <a:xfrm>
            <a:off x="-841320" y="406440"/>
            <a:ext cx="11422080" cy="712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BD75-F6FE-4F7F-A4B8-0320AFA702E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93B4-8F06-40FA-A25A-5AF0AC5F48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66400" y="285480"/>
            <a:ext cx="2997000" cy="11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инансовая  </a:t>
            </a:r>
            <a:br>
              <a:rPr sz="3500"/>
            </a:b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поддержк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5" name="AutoShape 5"/>
          <p:cNvSpPr/>
          <p:nvPr/>
        </p:nvSpPr>
        <p:spPr>
          <a:xfrm rot="5400000">
            <a:off x="948960" y="1390320"/>
            <a:ext cx="1297080" cy="3195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26,4 млн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AutoShape 27"/>
          <p:cNvSpPr/>
          <p:nvPr/>
        </p:nvSpPr>
        <p:spPr>
          <a:xfrm>
            <a:off x="19368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2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AutoShape 27"/>
          <p:cNvSpPr/>
          <p:nvPr/>
        </p:nvSpPr>
        <p:spPr>
          <a:xfrm>
            <a:off x="19368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299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AutoShape 27"/>
          <p:cNvSpPr/>
          <p:nvPr/>
        </p:nvSpPr>
        <p:spPr>
          <a:xfrm>
            <a:off x="193680" y="4941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9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AutoShape 27"/>
          <p:cNvSpPr/>
          <p:nvPr/>
        </p:nvSpPr>
        <p:spPr>
          <a:xfrm>
            <a:off x="19368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AutoShape 5"/>
          <p:cNvSpPr/>
          <p:nvPr/>
        </p:nvSpPr>
        <p:spPr>
          <a:xfrm rot="5400000">
            <a:off x="4317480" y="1390320"/>
            <a:ext cx="1297080" cy="3195720"/>
          </a:xfrm>
          <a:prstGeom prst="pi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03,2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AutoShape 27"/>
          <p:cNvSpPr/>
          <p:nvPr/>
        </p:nvSpPr>
        <p:spPr>
          <a:xfrm>
            <a:off x="3470400" y="394668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11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AutoShape 27"/>
          <p:cNvSpPr/>
          <p:nvPr/>
        </p:nvSpPr>
        <p:spPr>
          <a:xfrm>
            <a:off x="347040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314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AutoShape 27"/>
          <p:cNvSpPr/>
          <p:nvPr/>
        </p:nvSpPr>
        <p:spPr>
          <a:xfrm>
            <a:off x="3529080" y="502920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7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AutoShape 27"/>
          <p:cNvSpPr/>
          <p:nvPr/>
        </p:nvSpPr>
        <p:spPr>
          <a:xfrm>
            <a:off x="347040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AutoShape 5"/>
          <p:cNvSpPr/>
          <p:nvPr/>
        </p:nvSpPr>
        <p:spPr>
          <a:xfrm rot="5400000">
            <a:off x="7659360" y="1377720"/>
            <a:ext cx="1296720" cy="31957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728,3 млн.р</a:t>
            </a: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27"/>
          <p:cNvSpPr/>
          <p:nvPr/>
        </p:nvSpPr>
        <p:spPr>
          <a:xfrm>
            <a:off x="6745320" y="393372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ccff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Дотации – 1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27"/>
          <p:cNvSpPr/>
          <p:nvPr/>
        </p:nvSpPr>
        <p:spPr>
          <a:xfrm>
            <a:off x="6745320" y="4437000"/>
            <a:ext cx="2965320" cy="432000"/>
          </a:xfrm>
          <a:prstGeom prst="roundRect">
            <a:avLst>
              <a:gd name="adj" fmla="val 16667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сидии – 326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27"/>
          <p:cNvSpPr/>
          <p:nvPr/>
        </p:nvSpPr>
        <p:spPr>
          <a:xfrm>
            <a:off x="6702480" y="5000760"/>
            <a:ext cx="2965320" cy="431640"/>
          </a:xfrm>
          <a:prstGeom prst="roundRect">
            <a:avLst>
              <a:gd name="adj" fmla="val 16667"/>
            </a:avLst>
          </a:prstGeom>
          <a:solidFill>
            <a:srgbClr val="cc99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Субвенции – 387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27"/>
          <p:cNvSpPr/>
          <p:nvPr/>
        </p:nvSpPr>
        <p:spPr>
          <a:xfrm>
            <a:off x="6745320" y="5445000"/>
            <a:ext cx="2965320" cy="1197000"/>
          </a:xfrm>
          <a:prstGeom prst="roundRect">
            <a:avLst>
              <a:gd name="adj" fmla="val 16667"/>
            </a:avLst>
          </a:prstGeom>
          <a:solidFill>
            <a:srgbClr val="66ffcc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И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Межбюдже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трансферты – 3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20" descr="2014-04-09dengi_sybsidii"/>
          <p:cNvPicPr/>
          <p:nvPr/>
        </p:nvPicPr>
        <p:blipFill>
          <a:blip r:embed="rId1"/>
          <a:stretch/>
        </p:blipFill>
        <p:spPr>
          <a:xfrm>
            <a:off x="4065480" y="0"/>
            <a:ext cx="459756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1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90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189000" y="412560"/>
            <a:ext cx="8726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Ленского  района утверждается в форме решения Собрания депутатов муниципального образования «Ленский  муниципальный район» о бюджете на очередной финансовый г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просу рассмотрения проекта бюджета муниципального образования «Ленский  муниципальный район» на 2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 назначаются публичные слушания.  Положение о порядке организации и проведения публичных слушаний в муниципальном образовании «Ленский  муниципальный район», утверждено решением Собрания депутатов от 27.10.2010 года № 6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 на 2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 утвержден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шением Собрания депутатов муниципального образования «Ленский  муниципальный район» от 15.12.202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. №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-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8D18-AF22-4A33-A6A5-2759CEBB060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25B1-F8F3-4056-BA22-89F999EDB3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9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40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8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9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50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1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2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4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10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9968-9459-4DEB-95AB-EF0C33AA16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2FA0-9A91-4B00-80F6-CF4E3E7326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2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29C9-271A-43DE-99E9-3DBB934953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F632-2422-4A1E-AED4-FF8AF27CC8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9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6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4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9000"/>
                            </p:stCondLst>
                            <p:childTnLst>
                              <p:par>
                                <p:cTn id="3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B8DE-2E7C-409F-B789-2F3736BE49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7524-F46F-4AFE-B9A9-C343767C3A1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431640" y="1947960"/>
          <a:ext cx="8371080" cy="3778200"/>
        </p:xfrm>
        <a:graphic>
          <a:graphicData uri="http://schemas.openxmlformats.org/drawingml/2006/table">
            <a:tbl>
              <a:tblPr/>
              <a:tblGrid>
                <a:gridCol w="2229120"/>
                <a:gridCol w="2063520"/>
                <a:gridCol w="2108160"/>
                <a:gridCol w="197028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9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 919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5 520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1 046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3 264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5 125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1 818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 344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 60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2547-66CB-400B-A6DD-674182B5DF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129F-5D59-4688-ACEC-94FB2D0C9DC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3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4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6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4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7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Пользователь Windows</cp:lastModifiedBy>
  <dcterms:modified xsi:type="dcterms:W3CDTF">2023-03-27T12:08:13Z</dcterms:modified>
  <cp:revision>1091</cp:revision>
  <dc:subject/>
  <dc:title>Бюджет для граждан на 2014 год</dc:title>
</cp:coreProperties>
</file>