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6.png" ContentType="image/png"/>
  <Override PartName="/ppt/media/image12.jpeg" ContentType="image/jpe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17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08F3-B9FA-43B7-B3D8-E4DAB06D8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F07D-1C52-40D2-81F2-99511DDB2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58CEC3-7603-47BB-9E1E-0309909E0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2C79AA-C718-4843-9DA3-4F84C8C59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ECC2A2-9FC3-42E6-AA82-0E480BB68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E9062A-33F3-45C8-8279-FCF372BF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95E5C5-D5B1-43B5-BFB2-357265AF1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662369-9C60-4A8C-9CAC-8A7A2110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0197E1-068E-4CA3-9DC4-447301B49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F33889-084F-4877-9BE1-BD740EE44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2CB6EA-477D-43B5-B18F-B01D6639B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A61D32-475E-4D11-B27A-B17F6C6D0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6290-F20A-4DC1-B18F-C1899CE3C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35EF00-4D4B-4395-BEC1-17B5A109E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754114-B7CA-46F7-BBDD-AB08A8694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18F005-8E38-4D5A-8F29-EFCAA4024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E9DF77-CBFC-40BB-8754-70F937185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362079-3808-48D6-A03B-189867E2E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A9B905-7D41-4E53-AF27-6A0D23991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D318E5-B19A-4723-8BC8-300A707F5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6DD5EB-8969-42E4-A883-FBDA640C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8854BA-3C50-4B41-A749-10441488F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11BD36-635E-405C-8607-2D9F4A84E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645F-2937-4BD9-B8E9-462F3D8F8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78E05E-6766-4C38-B23E-55736B6EC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C28DD9-14F1-413D-B284-EC8724FA8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3771FF-9420-415B-9931-525DD5AC0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DBF336-76CA-4F9C-AD76-3534D0A5B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108D7E-0312-4648-8033-0FDE10568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256A31-A516-49A5-9EEA-CEA58796C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A79EB4-F4CF-41CF-B0AF-9810305A8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BD1FA5-5D97-4DB5-90E3-66D0E949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E76CB6-14B9-488B-ABBD-6E42D20F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1A5D84-AE88-4B47-82AD-125B155A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D7D96-5B5E-496E-87F5-8D9A207AD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55F9A4-211A-4A75-AFCC-22CF16E9B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40C590-D1F5-4A16-A26C-9AD823078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6E7885-B8BA-4E9B-AED0-64DB97890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D21325-4132-4092-8C80-B77261C4C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5456DE-8AE5-45A5-BF71-968C9603E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057CF9-C04E-44DC-B1C5-0745619D3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637DC0-EA39-4A7C-9585-949758319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CE6910-528A-4336-978C-F39D1E0B6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9D44D7-618B-4A47-9DAC-B20F15827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057980-340D-4EB6-B1FC-0A20E89F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8D5D6-289A-4A04-93CD-097EB3C44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E88DD1-1533-49B8-9B31-DA73C1C8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378033-5A7B-4F9B-B09D-B42E2A59D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D25E5D-791F-4B1D-B811-BCFB254DD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523BCA-671A-4CF8-A619-2CF148FC2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2D1579-43C2-4CD1-8817-AD1E266D1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C81217-192B-4C32-BC1A-6C37775B6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1C7411-1D90-416D-874B-5923B8412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BCFA7C-69B7-42A0-AD31-F02B09DBC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BF16CA-41F5-42F7-968C-7576C2C03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0C99A6-BBDA-4FF5-8FEB-0AB9819F9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EB48A-43A5-40DC-8A62-435EC542C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C37EA5-A5EE-4318-9905-059B39F3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E42E64-CB36-40C5-A112-13C3E763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364276-7DE0-4630-89D2-8174EBC2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D041DF-EE4A-4698-AADD-E0D516BB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7E630B-AB61-4837-A43B-98D60EC38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6FB32E-638B-47B3-9C12-69CCD0F3B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598E11-70AA-4BD9-A334-E70472113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C679E8-9D19-45A0-9946-F8F7D3C89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183CBB-6D3B-40EC-ACB7-102C4E22B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A11F69-0304-4C1F-83A2-695E7C483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9A23B-0965-44BD-BFE6-EBB86F199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27741C-2873-4FFE-A136-77D5B1F42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91AAAA-3E84-46C0-B28C-14589F464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2CBCBD-161B-4266-A485-81CDB5469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EE6642-B1E9-4510-9298-0ABD6234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95E9F6-E2C7-4249-B837-2088E7A3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D83D8A-45B3-46D8-AFD8-B5871851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8C7BE0-9B43-45DB-A6A7-56843F87E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F5A7BC-42B2-45D9-8EA8-9F5BC25F1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0EC400-4C0E-48F4-94F2-34A8AA52F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8E5C8C-4359-4647-9244-20CDDF7A2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A02BE-BD69-4C15-B582-00F188959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6A23FA-3C51-4066-A42B-3740C754D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13BE35-E51E-404E-8714-787CDF156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A14EE5-398A-4B9C-A07D-2D81D9A92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720C83-4482-4FC3-B1A5-FE5E7E2C3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832EB0-A7F8-47BB-B311-B29CE328B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23FF84-91D5-4C3B-A9A7-44FF3EF8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F32B0C-8E72-4498-B607-ED4C8D226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935BDF-6635-4BD2-B6DE-3B07D1E7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E8BF19-A3B1-4AAD-A0B5-999D0555F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6CCB42-6A4B-461A-A7EB-9E0E84AC0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CEFFE-A924-4D07-AAD3-D22713BC0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548B22-FBC5-4D4E-A3AE-709D993B9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71113-5E16-418E-B3AB-7AF7E93A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BA8C-6F06-4ED5-AFFE-91FA15973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238E8-C282-49F6-8C31-51EEFD3C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029E9-5050-4F76-93CF-C41D6DF7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E27B4-51E7-4A00-A062-A3BE5A274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24D88-1C85-4EC1-9EAA-365E15520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89ECD-07D3-49F8-AC76-55BB31B57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658E5-B788-4EC5-A316-CF5355F0B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8F8AB-D863-4F9C-8C19-6F62631BE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C33D5-1BA5-41D3-9F8C-11FEE31AD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F09FA-FE5C-42AD-B72E-D902CFCD8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D73F0-70FD-4CBA-8D04-2757498A8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622E-DB58-426F-AD63-01E7360B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58D6E-F851-460C-923D-C8F450FE2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7171D-740A-4DDC-8CC6-2BE044FB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28EA6-EF55-409C-BEFF-A4B78288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F6946-3514-4B8D-91AC-B336CE78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D19A2-6E58-4C6F-B466-BED226FCB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F9B0E-CF98-4EB9-B0E3-DD96C3865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A20CB-238E-401E-AB11-79AABEA2B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4A95C-01D9-4606-A126-5360F58A7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71F74-40FC-49BA-B1BA-432CE3ACA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B4BE4-93E9-49C4-8611-CDB0006C3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1569-8195-446E-B9DC-F3A676C4A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46C1F-1CA1-4729-B18C-5B4B01958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AE2248-441F-47BA-A0D0-F16805FA3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5817F-F596-4483-97DF-5666D6796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F151E-49BD-4CE4-91B5-1435D5A8F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EDA60-B311-46F5-9FD0-55498AE3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33EBA-00F1-4EAF-B346-076276AB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28BE0-DD35-40A0-8BA1-5C1912C51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4ABC9-3C24-4C5B-980F-C68F18CED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78EC4-2858-4DDB-AC2A-DA30257AA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4E8D6-97AB-4495-BAA9-8DA2B90E2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327C-CB7E-41F2-82BB-4AD61D443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44D54-202B-429D-84FF-3573178F6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0BB7D-246B-422D-9BC3-9BE91EEDD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E67C2-CF45-4180-BA31-F6373B681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9057C-DDF7-4900-A6D5-2BA61E97D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03DBE-00D0-4741-BCE2-F9CCA5AFF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7D4A7-5CD0-4E66-BA00-AA6892A8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4F678D-6789-4D57-9F5D-D25D3931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BA050-ED83-4D94-888B-5C8D3D20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570FB-DC32-4D36-9661-108E64C3C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8264C-61E9-43C8-9E8E-96838ED4E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7975-3AD7-47EB-A2D6-E1AA9CC6F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5CE7D-3BED-4FE8-9087-946B9FF09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A47D3-2AC7-499D-B2E9-897577D19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404C1-27C4-41B7-91E3-3BD9A5D0C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28948-72F7-4EEC-97E4-298714F38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30C8C-54EB-4E82-A7B9-B71798E76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CC9C8-0CE6-4001-9B6E-DA73DAB5F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19AE4-CCB6-42AD-869B-E8B84E9D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1CD64-4938-4431-BB88-41476BD1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658414-F968-4BBB-815A-8B240B70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97913-DCEA-41A8-BB77-2D0671ED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F11D-EEE3-4526-AB38-B89A2FE9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1BC661-63CC-47E6-B69F-F550E74F5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55EB62-4C9E-421D-9525-A3AFFBB20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B8336-7099-4F1F-B98A-AD7E634AE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F98F89-F262-4298-85D4-EFFEAF0B1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F60336-29D8-4F81-B3F5-7CF6D59DE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A91E8C-F74E-4426-A787-8F91B0BB4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C69A0-6A44-40D0-9A43-857D0FEEA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FCE0D0-2302-4A70-ADCA-0E8C6373B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F2484-ECF1-4AFE-8728-8837DD98E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DC348-A6F3-4A2E-B668-58B969E4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FE33-3C5F-4606-B54A-527855F5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DE4D8-431C-43A5-ABBC-1A6BE05D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85BBF8-F82D-4DA1-88E9-08C0FAED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50A521-C919-4AB9-942B-504E9C8DE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286A42-AC6E-4EC2-BBBA-683C5F842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826E9E-0F11-4551-B137-2949F4C6D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E7154B-DECD-42AA-9C54-9F2BCBFFA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C377A6-5DA7-4CDF-8064-279C4A9CC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5799CC-7D58-4BC8-8BEF-99F1E1BC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88A578-EA06-4CFC-9677-02A174C40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5A8067-B4DE-4639-BBE2-040E5641D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A3A8-A0FD-4557-84D3-8DCD0A95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495000" y="122400"/>
            <a:ext cx="817236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503847-7DC9-4C8C-BF8E-361B80931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E5B0E5-B029-4529-9C5B-81707EA3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B496B5-96EB-4A57-ABB4-38636FAC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33A7A1-1AA4-4697-85A8-5EDFBA174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95000" y="4023720"/>
            <a:ext cx="89154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712892-8BAB-4A7C-9128-B51BD939B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5063400" y="171936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950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5063400" y="4023720"/>
            <a:ext cx="4350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E4C747-CFB6-4E1C-A6BE-F56C2D6E0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50964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6524280" y="171936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9500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50964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6524280" y="4023720"/>
            <a:ext cx="287064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0E18E4-4429-43ED-95FF-7633A14CA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680978-5992-4552-A750-E67292F26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8A7034-CA52-47C1-88C8-2438EE748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3E38C6-007C-4397-A197-4DB03DCC2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03E1C-4045-4C4A-89ED-D976B7B30CAC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B7DB7-7A4E-4114-86DC-E801311A478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7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8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669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28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0F43B-1671-4558-BE77-24D1A144332C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29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30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7D444-6991-4134-B574-26BB85D5D6A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743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 type="dt" idx="31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804C5-2926-4B19-ACAC-57470B421C4A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 type="ftr" idx="3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 type="sldNum" idx="33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65538-2172-4E7E-8028-5937B43BE7A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6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817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 type="dt" idx="34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C6A5C-5407-4061-9F49-707AF93B4A2D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 type="ftr" idx="3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 type="sldNum" idx="36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58B5A-0F2A-401C-A67B-8C4A25BC606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891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 type="dt" idx="37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4E24B-F6FE-41D6-9455-46F6918F3D60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 type="ftr" idx="38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 type="sldNum" idx="39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54394-A154-4840-8D74-0C2235D36A6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4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965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 type="dt" idx="40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271BC-01D7-4696-AD1B-30B09CB82F31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 type="ftr" idx="41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 type="sldNum" idx="42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D8A77-DD38-4C0E-A9DE-D28E2F462A4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8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1039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 type="dt" idx="43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F1B57-457B-4CFE-B5D3-996EE8CC63D3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 type="ftr" idx="44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 type="sldNum" idx="45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EFDB4-8C0A-47FE-A5E0-45C32630DCE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92468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8116920" y="2992320"/>
            <a:ext cx="1450080" cy="2189160"/>
            <a:chOff x="8116920" y="2992320"/>
            <a:chExt cx="1450080" cy="2189160"/>
          </a:xfrm>
        </p:grpSpPr>
        <p:sp>
          <p:nvSpPr>
            <p:cNvPr id="76" name="Oval 9"/>
            <p:cNvSpPr/>
            <p:nvPr/>
          </p:nvSpPr>
          <p:spPr>
            <a:xfrm>
              <a:off x="8116920" y="299232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8425080" y="299232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732880" y="299232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8116920" y="327672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8425080" y="327672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732880" y="327672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9040680" y="3276720"/>
              <a:ext cx="21816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8116920" y="356076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8425080" y="3560760"/>
              <a:ext cx="21816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732880" y="3560760"/>
              <a:ext cx="21816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9040680" y="3560760"/>
              <a:ext cx="21816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9348840" y="3560760"/>
              <a:ext cx="21816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8116920" y="3843360"/>
              <a:ext cx="21816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8425080" y="3843360"/>
              <a:ext cx="21816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732880" y="3843360"/>
              <a:ext cx="21816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9040680" y="3843360"/>
              <a:ext cx="21816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8116920" y="4127400"/>
              <a:ext cx="21816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8425080" y="4127400"/>
              <a:ext cx="21816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732880" y="4127400"/>
              <a:ext cx="21816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9040680" y="4127400"/>
              <a:ext cx="21816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9348840" y="4127400"/>
              <a:ext cx="21816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8116920" y="4411800"/>
              <a:ext cx="21816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8425080" y="4411800"/>
              <a:ext cx="21816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732880" y="4411800"/>
              <a:ext cx="21816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9040680" y="4411800"/>
              <a:ext cx="21816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8116920" y="4695840"/>
              <a:ext cx="21816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8425080" y="4695840"/>
              <a:ext cx="21816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732880" y="4695840"/>
              <a:ext cx="21816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9040680" y="4695840"/>
              <a:ext cx="21816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8425080" y="4979880"/>
              <a:ext cx="21816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9040680" y="4979880"/>
              <a:ext cx="21816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30120" y="2819520"/>
            <a:ext cx="89154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9065A-7F68-4493-937B-33C42E56A2FA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003FB-F969-4CEF-88AC-CFAA00FE96B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151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7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86A8F-56DE-4148-A6A6-17D0392ED397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8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9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B322C-1071-4840-B3F9-E02F1CE6D79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225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0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C8D0A-1BD3-4E4A-9DD1-71ADA70DEB88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11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12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1FF2D-2D0C-43F2-8E29-1FD0776E5AC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299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13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861D9-D762-4B62-913D-5BC6DDD1D385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14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15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44C03-6AA0-463E-AE0C-B3649726FEE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373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16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C37DC-4F19-4A78-A85E-38F7ADCBAD66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17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18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43FD4-1377-4871-B4E2-8209FDA58B4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447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19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69FDF-EA20-4188-B861-6F101A939B91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20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21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6AD1D-A782-4C96-A30B-9CA47D94E32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521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dt" idx="22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E900A-7A6A-42E6-9F58-1E7F8463B69F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ftr" idx="23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sldNum" idx="24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EBB53-96EF-4695-9E17-C66CAF6266C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Line 2"/>
          <p:cNvSpPr/>
          <p:nvPr/>
        </p:nvSpPr>
        <p:spPr>
          <a:xfrm>
            <a:off x="862632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Group 8"/>
          <p:cNvGrpSpPr/>
          <p:nvPr/>
        </p:nvGrpSpPr>
        <p:grpSpPr>
          <a:xfrm>
            <a:off x="8832960" y="152280"/>
            <a:ext cx="858240" cy="1295280"/>
            <a:chOff x="8832960" y="152280"/>
            <a:chExt cx="858240" cy="1295280"/>
          </a:xfrm>
        </p:grpSpPr>
        <p:sp>
          <p:nvSpPr>
            <p:cNvPr id="595" name="Oval 9"/>
            <p:cNvSpPr/>
            <p:nvPr/>
          </p:nvSpPr>
          <p:spPr>
            <a:xfrm>
              <a:off x="88329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Oval 10"/>
            <p:cNvSpPr/>
            <p:nvPr/>
          </p:nvSpPr>
          <p:spPr>
            <a:xfrm>
              <a:off x="9014760" y="15228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Oval 11"/>
            <p:cNvSpPr/>
            <p:nvPr/>
          </p:nvSpPr>
          <p:spPr>
            <a:xfrm>
              <a:off x="9196920" y="152280"/>
              <a:ext cx="9900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Oval 12"/>
            <p:cNvSpPr/>
            <p:nvPr/>
          </p:nvSpPr>
          <p:spPr>
            <a:xfrm>
              <a:off x="88329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13"/>
            <p:cNvSpPr/>
            <p:nvPr/>
          </p:nvSpPr>
          <p:spPr>
            <a:xfrm>
              <a:off x="9014760" y="320040"/>
              <a:ext cx="12996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14"/>
            <p:cNvSpPr/>
            <p:nvPr/>
          </p:nvSpPr>
          <p:spPr>
            <a:xfrm>
              <a:off x="9196920" y="320040"/>
              <a:ext cx="99000" cy="11556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15"/>
            <p:cNvSpPr/>
            <p:nvPr/>
          </p:nvSpPr>
          <p:spPr>
            <a:xfrm>
              <a:off x="9379080" y="320040"/>
              <a:ext cx="129960" cy="11556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Oval 16"/>
            <p:cNvSpPr/>
            <p:nvPr/>
          </p:nvSpPr>
          <p:spPr>
            <a:xfrm>
              <a:off x="88329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Oval 17"/>
            <p:cNvSpPr/>
            <p:nvPr/>
          </p:nvSpPr>
          <p:spPr>
            <a:xfrm>
              <a:off x="9014760" y="488160"/>
              <a:ext cx="129960" cy="109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Oval 18"/>
            <p:cNvSpPr/>
            <p:nvPr/>
          </p:nvSpPr>
          <p:spPr>
            <a:xfrm>
              <a:off x="9196920" y="488160"/>
              <a:ext cx="9900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9"/>
            <p:cNvSpPr/>
            <p:nvPr/>
          </p:nvSpPr>
          <p:spPr>
            <a:xfrm>
              <a:off x="9379080" y="488160"/>
              <a:ext cx="129960" cy="109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20"/>
            <p:cNvSpPr/>
            <p:nvPr/>
          </p:nvSpPr>
          <p:spPr>
            <a:xfrm>
              <a:off x="9561240" y="488160"/>
              <a:ext cx="129960" cy="1094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21"/>
            <p:cNvSpPr/>
            <p:nvPr/>
          </p:nvSpPr>
          <p:spPr>
            <a:xfrm>
              <a:off x="8832960" y="655920"/>
              <a:ext cx="12996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22"/>
            <p:cNvSpPr/>
            <p:nvPr/>
          </p:nvSpPr>
          <p:spPr>
            <a:xfrm>
              <a:off x="9014760" y="65592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23"/>
            <p:cNvSpPr/>
            <p:nvPr/>
          </p:nvSpPr>
          <p:spPr>
            <a:xfrm>
              <a:off x="9196920" y="655920"/>
              <a:ext cx="9900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24"/>
            <p:cNvSpPr/>
            <p:nvPr/>
          </p:nvSpPr>
          <p:spPr>
            <a:xfrm>
              <a:off x="9379080" y="65592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25"/>
            <p:cNvSpPr/>
            <p:nvPr/>
          </p:nvSpPr>
          <p:spPr>
            <a:xfrm>
              <a:off x="88329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26"/>
            <p:cNvSpPr/>
            <p:nvPr/>
          </p:nvSpPr>
          <p:spPr>
            <a:xfrm>
              <a:off x="9014760" y="824040"/>
              <a:ext cx="12996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7"/>
            <p:cNvSpPr/>
            <p:nvPr/>
          </p:nvSpPr>
          <p:spPr>
            <a:xfrm>
              <a:off x="9196920" y="824040"/>
              <a:ext cx="9900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8"/>
            <p:cNvSpPr/>
            <p:nvPr/>
          </p:nvSpPr>
          <p:spPr>
            <a:xfrm>
              <a:off x="9379080" y="824040"/>
              <a:ext cx="12996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9"/>
            <p:cNvSpPr/>
            <p:nvPr/>
          </p:nvSpPr>
          <p:spPr>
            <a:xfrm>
              <a:off x="9561240" y="824040"/>
              <a:ext cx="12996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30"/>
            <p:cNvSpPr/>
            <p:nvPr/>
          </p:nvSpPr>
          <p:spPr>
            <a:xfrm>
              <a:off x="8832960" y="992160"/>
              <a:ext cx="12996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31"/>
            <p:cNvSpPr/>
            <p:nvPr/>
          </p:nvSpPr>
          <p:spPr>
            <a:xfrm>
              <a:off x="9014760" y="992160"/>
              <a:ext cx="12996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32"/>
            <p:cNvSpPr/>
            <p:nvPr/>
          </p:nvSpPr>
          <p:spPr>
            <a:xfrm>
              <a:off x="9196920" y="992160"/>
              <a:ext cx="9900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33"/>
            <p:cNvSpPr/>
            <p:nvPr/>
          </p:nvSpPr>
          <p:spPr>
            <a:xfrm>
              <a:off x="9379080" y="992160"/>
              <a:ext cx="12996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34"/>
            <p:cNvSpPr/>
            <p:nvPr/>
          </p:nvSpPr>
          <p:spPr>
            <a:xfrm>
              <a:off x="88329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35"/>
            <p:cNvSpPr/>
            <p:nvPr/>
          </p:nvSpPr>
          <p:spPr>
            <a:xfrm>
              <a:off x="9014760" y="1159920"/>
              <a:ext cx="129960" cy="11196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36"/>
            <p:cNvSpPr/>
            <p:nvPr/>
          </p:nvSpPr>
          <p:spPr>
            <a:xfrm>
              <a:off x="9196920" y="1159920"/>
              <a:ext cx="9900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37"/>
            <p:cNvSpPr/>
            <p:nvPr/>
          </p:nvSpPr>
          <p:spPr>
            <a:xfrm>
              <a:off x="9379080" y="1159920"/>
              <a:ext cx="129960" cy="11196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Oval 38"/>
            <p:cNvSpPr/>
            <p:nvPr/>
          </p:nvSpPr>
          <p:spPr>
            <a:xfrm>
              <a:off x="901476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Oval 39"/>
            <p:cNvSpPr/>
            <p:nvPr/>
          </p:nvSpPr>
          <p:spPr>
            <a:xfrm>
              <a:off x="9379080" y="1328040"/>
              <a:ext cx="12996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495000" y="1719360"/>
            <a:ext cx="89154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dt" idx="25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BAFC8-37B4-4944-9DA7-C10B6265C96E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ftr" idx="26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 type="sldNum" idx="27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05949-634B-435A-A33B-9ACD0A536A5C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ubTitle"/>
          </p:nvPr>
        </p:nvSpPr>
        <p:spPr>
          <a:xfrm>
            <a:off x="2499840" y="6237360"/>
            <a:ext cx="6861240" cy="62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808080"/>
                </a:solidFill>
                <a:latin typeface="Arial"/>
              </a:rPr>
              <a:t>К решению о бюджете МО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808080"/>
                </a:solidFill>
                <a:latin typeface="Arial"/>
              </a:rPr>
              <a:t>«Ленский муниципальный район»   на 2019 го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2" name="Picture 3" descr=""/>
          <p:cNvPicPr/>
          <p:nvPr/>
        </p:nvPicPr>
        <p:blipFill>
          <a:blip r:embed="rId1"/>
          <a:stretch/>
        </p:blipFill>
        <p:spPr>
          <a:xfrm>
            <a:off x="333360" y="922320"/>
            <a:ext cx="3043080" cy="186516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1113" name="Rectangle 4"/>
          <p:cNvSpPr/>
          <p:nvPr/>
        </p:nvSpPr>
        <p:spPr>
          <a:xfrm>
            <a:off x="272880" y="2955960"/>
            <a:ext cx="3235320" cy="28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Бюджет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для</a:t>
            </a:r>
            <a:br>
              <a:rPr sz="5400"/>
            </a:br>
            <a:r>
              <a:rPr b="1" lang="ru-RU" sz="5400" spc="-1" strike="noStrike">
                <a:solidFill>
                  <a:srgbClr val="cc0000"/>
                </a:solidFill>
                <a:latin typeface="Times New Roman"/>
              </a:rPr>
              <a:t>граждан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4" name="Picture 6" descr="101392442_Internetportal8"/>
          <p:cNvPicPr/>
          <p:nvPr/>
        </p:nvPicPr>
        <p:blipFill>
          <a:blip r:embed="rId2"/>
          <a:stretch/>
        </p:blipFill>
        <p:spPr>
          <a:xfrm>
            <a:off x="3925800" y="3165480"/>
            <a:ext cx="3873600" cy="2577960"/>
          </a:xfrm>
          <a:prstGeom prst="rect">
            <a:avLst/>
          </a:prstGeom>
          <a:ln w="0">
            <a:noFill/>
          </a:ln>
        </p:spPr>
      </p:pic>
      <p:sp>
        <p:nvSpPr>
          <p:cNvPr id="1115" name="Text Box 7"/>
          <p:cNvSpPr/>
          <p:nvPr/>
        </p:nvSpPr>
        <p:spPr>
          <a:xfrm>
            <a:off x="3427560" y="434880"/>
            <a:ext cx="4236840" cy="22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униципальное образова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ЕНСКИЙ МУНИЦИПАЛЬНЫЙ РАЙОН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6" name="Рисунок 6" descr="https://pp.vk.me/c304214/v304214092/19a0/hIVh7_KEJoA.jpg"/>
          <p:cNvPicPr/>
          <p:nvPr/>
        </p:nvPicPr>
        <p:blipFill>
          <a:blip r:embed="rId3"/>
          <a:stretch/>
        </p:blipFill>
        <p:spPr>
          <a:xfrm>
            <a:off x="7550280" y="493560"/>
            <a:ext cx="2023920" cy="226404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600"/>
                            </p:stCondLst>
                            <p:childTnLst>
                              <p:par>
                                <p:cTn id="1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9" dur="20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6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1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6DB97-A61A-46F4-A97F-51D1722B7F8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27DED-91B6-467B-9E09-175FB34E47E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390240" y="334800"/>
            <a:ext cx="7840440" cy="77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Times New Roman"/>
              </a:rPr>
              <a:t>Основные параметры бюджетной системы МО «Ленский муниципальный район» за 2020 год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217" name=""/>
          <p:cNvGraphicFramePr/>
          <p:nvPr/>
        </p:nvGraphicFramePr>
        <p:xfrm>
          <a:off x="1015920" y="1609560"/>
          <a:ext cx="8535960" cy="4876920"/>
        </p:xfrm>
        <a:graphic>
          <a:graphicData uri="http://schemas.openxmlformats.org/drawingml/2006/table">
            <a:tbl>
              <a:tblPr/>
              <a:tblGrid>
                <a:gridCol w="6235920"/>
                <a:gridCol w="2300040"/>
              </a:tblGrid>
              <a:tr h="38592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сполнение за 2020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23184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ходы -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4290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5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налоговые  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 025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неналоговые дох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 332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безвозмездные поступ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8 93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ходы - всего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27 783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3049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з н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расходы на обслуживание муниципального долг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8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 межбюджетные трансфер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 906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фицит (-), профицит(+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6 50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1924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сточники финансирования дефицита бюджета - всего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650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430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кредиты - всего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0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 т.ч. - получ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 8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погаш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29 8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изменение остатков средств бюдж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3 507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noFill/>
                  </a:tcPr>
                </a:tc>
              </a:tr>
              <a:tr h="2304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ношение дефицита бюджета к доходам,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9999"/>
                      </a:solidFill>
                    </a:lnL>
                    <a:lnR w="5760">
                      <a:solidFill>
                        <a:srgbClr val="669999"/>
                      </a:solidFill>
                    </a:lnR>
                    <a:lnT w="5760">
                      <a:solidFill>
                        <a:srgbClr val="669999"/>
                      </a:solidFill>
                    </a:lnT>
                    <a:lnB w="5760">
                      <a:solidFill>
                        <a:srgbClr val="669999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1218" name="Rectangle 151"/>
          <p:cNvSpPr/>
          <p:nvPr/>
        </p:nvSpPr>
        <p:spPr>
          <a:xfrm>
            <a:off x="7873920" y="1316160"/>
            <a:ext cx="677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ыс.руб</a:t>
            </a:r>
            <a:r>
              <a:rPr b="0" lang="ru-RU" sz="1000" spc="-1" strike="noStrike">
                <a:solidFill>
                  <a:srgbClr val="669999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500"/>
                            </p:stCondLst>
                            <p:childTnLst>
                              <p:par>
                                <p:cTn id="4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6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5BC27-8D8B-4C9E-A0CB-750A35A6FC2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2DFBA-5C7E-4BFB-B2E4-C44CDAF594D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990720" y="193320"/>
            <a:ext cx="6540480" cy="51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Доходы бюджета района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507960" y="941400"/>
            <a:ext cx="7747200" cy="5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330066"/>
                </a:solidFill>
                <a:latin typeface="Arial"/>
              </a:rPr>
              <a:t>Доходы районного бюджета образуются за счет налоговых и неналоговых доходов, а также за счет безвозмездных поступлений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AutoShape 5"/>
          <p:cNvSpPr/>
          <p:nvPr/>
        </p:nvSpPr>
        <p:spPr>
          <a:xfrm>
            <a:off x="3782880" y="1647720"/>
            <a:ext cx="2341800" cy="10969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12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оходы бюдж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Rectangle 6"/>
          <p:cNvSpPr/>
          <p:nvPr/>
        </p:nvSpPr>
        <p:spPr>
          <a:xfrm>
            <a:off x="465120" y="3798720"/>
            <a:ext cx="2703600" cy="23083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алоговые доходы – поступления от уплаты налогов, установленных Налоговым кодексом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Rectangle 7"/>
          <p:cNvSpPr/>
          <p:nvPr/>
        </p:nvSpPr>
        <p:spPr>
          <a:xfrm>
            <a:off x="3490920" y="3786120"/>
            <a:ext cx="2727360" cy="2303640"/>
          </a:xfrm>
          <a:prstGeom prst="rect">
            <a:avLst/>
          </a:prstGeom>
          <a:solidFill>
            <a:srgbClr val="ff99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еналоговые доходы – поступления от уплаты пошлин и сборов, установленных законодательством РФ, арендных платежей и штрафов за нарушение законодатель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Rectangle 8"/>
          <p:cNvSpPr/>
          <p:nvPr/>
        </p:nvSpPr>
        <p:spPr>
          <a:xfrm>
            <a:off x="6566040" y="3780000"/>
            <a:ext cx="3030480" cy="2315880"/>
          </a:xfrm>
          <a:prstGeom prst="rect">
            <a:avLst/>
          </a:prstGeom>
          <a:solidFill>
            <a:srgbClr val="99ccff"/>
          </a:solidFill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езвозмездные поступления - поступления от других бюджетов (межбюджетные трансферты), организаций, граждан (кроме налоговых и неналоговых доход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AutoShape 9"/>
          <p:cNvSpPr/>
          <p:nvPr/>
        </p:nvSpPr>
        <p:spPr>
          <a:xfrm rot="2727000">
            <a:off x="7105320" y="2233800"/>
            <a:ext cx="1701720" cy="609480"/>
          </a:xfrm>
          <a:custGeom>
            <a:avLst/>
            <a:gdLst>
              <a:gd name="textAreaLeft" fmla="*/ 312480 w 1701720"/>
              <a:gd name="textAreaRight" fmla="*/ 1238400 w 170172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939" hR="21600" stAng="10800000" swAng="5400000"/>
                <a:lnTo>
                  <a:pt x="11748" y="0"/>
                </a:lnTo>
                <a:arcTo wR="7939" hR="21600" stAng="-5400000" swAng="819454"/>
                <a:lnTo>
                  <a:pt x="18040" y="3582"/>
                </a:lnTo>
                <a:lnTo>
                  <a:pt x="17782" y="21600"/>
                </a:lnTo>
                <a:lnTo>
                  <a:pt x="10403" y="3582"/>
                </a:lnTo>
                <a:lnTo>
                  <a:pt x="12317" y="3582"/>
                </a:lnTo>
                <a:arcTo wR="7939" hR="21600" stAng="-4580546" swAng="-508080"/>
                <a:lnTo>
                  <a:pt x="9843" y="631"/>
                </a:lnTo>
                <a:arcTo wR="7939" hR="21600" stAng="-5711375" swAng="-5088625"/>
                <a:close/>
              </a:path>
              <a:path fill="darkenLess" w="21600" h="21600">
                <a:moveTo>
                  <a:pt x="0" y="21600"/>
                </a:moveTo>
                <a:arcTo wR="7939" hR="21600" stAng="10800000" swAng="5400000"/>
                <a:lnTo>
                  <a:pt x="7939" y="0"/>
                </a:lnTo>
                <a:arcTo wR="7939" hR="21600" stAng="-5400000" swAng="311375"/>
                <a:lnTo>
                  <a:pt x="9843" y="631"/>
                </a:lnTo>
                <a:arcTo wR="7939" hR="21600" stAng="-5711375" swAng="-5088625"/>
                <a:close/>
              </a:path>
            </a:pathLst>
          </a:custGeom>
          <a:solidFill>
            <a:srgbClr val="99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AutoShape 10"/>
          <p:cNvSpPr/>
          <p:nvPr/>
        </p:nvSpPr>
        <p:spPr>
          <a:xfrm rot="7661400">
            <a:off x="1419480" y="2137680"/>
            <a:ext cx="1611360" cy="882360"/>
          </a:xfrm>
          <a:custGeom>
            <a:avLst/>
            <a:gdLst>
              <a:gd name="textAreaLeft" fmla="*/ 285120 w 1611360"/>
              <a:gd name="textAreaRight" fmla="*/ 1154520 w 1611360"/>
              <a:gd name="textAreaTop" fmla="*/ 118080 h 882360"/>
              <a:gd name="textAreaBottom" fmla="*/ 764280 h 88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650" hR="21600" stAng="10800000" swAng="-5400000"/>
                <a:lnTo>
                  <a:pt x="11648" y="21600"/>
                </a:lnTo>
                <a:arcTo wR="7650" hR="21600" stAng="5400000" swAng="-1050565"/>
                <a:lnTo>
                  <a:pt x="19038" y="16129"/>
                </a:lnTo>
                <a:lnTo>
                  <a:pt x="17299" y="0"/>
                </a:lnTo>
                <a:lnTo>
                  <a:pt x="10436" y="16129"/>
                </a:lnTo>
                <a:lnTo>
                  <a:pt x="12738" y="16129"/>
                </a:lnTo>
                <a:arcTo wR="7650" hR="21600" stAng="4349435" swAng="721967"/>
                <a:lnTo>
                  <a:pt x="9649" y="20850"/>
                </a:lnTo>
                <a:arcTo wR="7650" hR="21600" stAng="5728598" swAng="5071402"/>
                <a:close/>
              </a:path>
              <a:path fill="darkenLess" w="21600" h="21600">
                <a:moveTo>
                  <a:pt x="0" y="0"/>
                </a:moveTo>
                <a:arcTo wR="7650" hR="21600" stAng="10800000" swAng="-5400000"/>
                <a:lnTo>
                  <a:pt x="11648" y="21600"/>
                </a:lnTo>
                <a:arcTo wR="7650" hR="21600" stAng="5400000" swAng="328598"/>
                <a:lnTo>
                  <a:pt x="9649" y="20850"/>
                </a:lnTo>
                <a:arcTo wR="7650" hR="21600" stAng="5728598" swAng="5071402"/>
                <a:close/>
              </a:path>
            </a:pathLst>
          </a:custGeom>
          <a:solidFill>
            <a:srgbClr val="ccffcc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AutoShape 11"/>
          <p:cNvSpPr/>
          <p:nvPr/>
        </p:nvSpPr>
        <p:spPr>
          <a:xfrm>
            <a:off x="4557600" y="2992320"/>
            <a:ext cx="766800" cy="492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cc"/>
          </a:solidFill>
          <a:ln w="158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0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10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1000" fill="hold"/>
                                        <p:tgtEl>
                                          <p:spTgt spid="1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500"/>
                                        <p:tgtEl>
                                          <p:spTgt spid="1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500"/>
                            </p:stCondLst>
                            <p:childTnLst>
                              <p:par>
                                <p:cTn id="43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2" dur="10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2500"/>
                            </p:stCondLst>
                            <p:childTnLst>
                              <p:par>
                                <p:cTn id="4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3000"/>
                            </p:stCondLst>
                            <p:childTnLst>
                              <p:par>
                                <p:cTn id="4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10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45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5500"/>
                            </p:stCondLst>
                            <p:childTnLst>
                              <p:par>
                                <p:cTn id="4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1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6000"/>
                            </p:stCondLst>
                            <p:childTnLst>
                              <p:par>
                                <p:cTn id="4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1000"/>
                                        <p:tgtEl>
                                          <p:spTgt spid="1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4BF0C-C95B-4766-A770-13B5027B028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3AB47-3BE1-4DCF-B015-4E03D2906AA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41440" y="276120"/>
            <a:ext cx="9128160" cy="71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Структура доходов бюджета за 2020 год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233" name="Object 4" descr=""/>
          <p:cNvPicPr/>
          <p:nvPr/>
        </p:nvPicPr>
        <p:blipFill>
          <a:blip r:embed="rId1"/>
          <a:stretch/>
        </p:blipFill>
        <p:spPr>
          <a:xfrm>
            <a:off x="1797120" y="2073240"/>
            <a:ext cx="7391160" cy="338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10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000"/>
                            </p:stCondLst>
                            <p:childTnLst>
                              <p:par>
                                <p:cTn id="4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20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2D03B-CE27-433F-BED5-F34810C889D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EBEC7-E9B9-4ED1-9C23-6BFF30C3C9D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Text Box 2"/>
          <p:cNvSpPr/>
          <p:nvPr/>
        </p:nvSpPr>
        <p:spPr>
          <a:xfrm>
            <a:off x="193680" y="241200"/>
            <a:ext cx="8299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Собственные доходы  бюджета М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7" name=""/>
          <p:cNvGraphicFramePr/>
          <p:nvPr/>
        </p:nvGraphicFramePr>
        <p:xfrm>
          <a:off x="1757520" y="1066680"/>
          <a:ext cx="6289560" cy="5554800"/>
        </p:xfrm>
        <a:graphic>
          <a:graphicData uri="http://schemas.openxmlformats.org/drawingml/2006/table">
            <a:tbl>
              <a:tblPr/>
              <a:tblGrid>
                <a:gridCol w="3381840"/>
                <a:gridCol w="1228680"/>
                <a:gridCol w="1247760"/>
                <a:gridCol w="216000"/>
                <a:gridCol w="216000"/>
              </a:tblGrid>
              <a:tr h="69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показат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отч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0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отч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НДФ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81 817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93 49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Налоги на совокупный до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9 06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8 326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Налоги на товары, реализуемые на территории РФ ( акциз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6 99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6 61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Государственная пош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 58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 588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Арендные платежи за земельные участ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 89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3 419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Арендные платежи за муниципальное имуще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5 747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5 33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Плата за негативное воздействие сре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 253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 403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Доходы от продажи материальных и нематериальных акти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25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 916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Штраф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 13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 63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Прочие налоговые и неналоговые доход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e6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-4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 62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B7BC1-1E34-4B1F-A30A-C82C336051D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BF33C-B6CD-4FB2-AB83-DF70ADBE96D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509400" y="264960"/>
            <a:ext cx="7869240" cy="98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Структура налоговых доходов бюджета  МО на 2020 год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241" name="Object 4" descr=""/>
          <p:cNvPicPr/>
          <p:nvPr/>
        </p:nvPicPr>
        <p:blipFill>
          <a:blip r:embed="rId1"/>
          <a:stretch/>
        </p:blipFill>
        <p:spPr>
          <a:xfrm>
            <a:off x="415800" y="2278080"/>
            <a:ext cx="9064800" cy="374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10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000"/>
                            </p:stCondLst>
                            <p:childTnLst>
                              <p:par>
                                <p:cTn id="4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8113F-7B00-42C1-8319-36868AECEF8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1E333-7F6F-428A-B2E0-32920F565CC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09120" y="296640"/>
            <a:ext cx="7875720" cy="74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Структура неналоговых доходов бюджета  МО на 2020 год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245" name="Object 4" descr=""/>
          <p:cNvPicPr/>
          <p:nvPr/>
        </p:nvPicPr>
        <p:blipFill>
          <a:blip r:embed="rId1"/>
          <a:stretch/>
        </p:blipFill>
        <p:spPr>
          <a:xfrm>
            <a:off x="326880" y="1963800"/>
            <a:ext cx="9463320" cy="376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10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000"/>
                            </p:stCondLst>
                            <p:childTnLst>
                              <p:par>
                                <p:cTn id="4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9FDF7-04B7-411D-9597-6E5DDC4EB3D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34018-5D48-433D-BB64-7BCB593DD8E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AutoShape 4"/>
          <p:cNvSpPr/>
          <p:nvPr/>
        </p:nvSpPr>
        <p:spPr>
          <a:xfrm>
            <a:off x="3330720" y="1889280"/>
            <a:ext cx="3213000" cy="16761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Формы межбюджет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трансфер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507600" y="223560"/>
            <a:ext cx="8172360" cy="67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Межбюджетные трансферты – </a:t>
            </a:r>
            <a:br>
              <a:rPr sz="2400"/>
            </a:br>
            <a:r>
              <a:rPr b="1" lang="ru-RU" sz="2400" spc="-1" strike="noStrike">
                <a:solidFill>
                  <a:srgbClr val="330066"/>
                </a:solidFill>
                <a:latin typeface="Arial"/>
              </a:rPr>
              <a:t>основной вид безвозмездных поступлений</a:t>
            </a:r>
            <a:endParaRPr b="1" lang="en-US" sz="2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50" name="AutoShape 17"/>
          <p:cNvSpPr/>
          <p:nvPr/>
        </p:nvSpPr>
        <p:spPr>
          <a:xfrm>
            <a:off x="3065400" y="4319640"/>
            <a:ext cx="3645000" cy="2286000"/>
          </a:xfrm>
          <a:custGeom>
            <a:avLst/>
            <a:gdLst>
              <a:gd name="textAreaLeft" fmla="*/ 147960 w 3645000"/>
              <a:gd name="textAreaRight" fmla="*/ 3497040 w 3645000"/>
              <a:gd name="textAreaTop" fmla="*/ 147960 h 2286000"/>
              <a:gd name="textAreaBottom" fmla="*/ 2138040 h 2286000"/>
            </a:gdLst>
            <a:ahLst/>
            <a:rect l="textAreaLeft" t="textAreaTop" r="textAreaRight" b="textAreaBottom"/>
            <a:pathLst>
              <a:path w="34439" h="21600">
                <a:moveTo>
                  <a:pt x="0" y="0"/>
                </a:moveTo>
                <a:lnTo>
                  <a:pt x="34439" y="0"/>
                </a:lnTo>
                <a:lnTo>
                  <a:pt x="34439" y="21600"/>
                </a:lnTo>
                <a:lnTo>
                  <a:pt x="0" y="21600"/>
                </a:lnTo>
                <a:close/>
              </a:path>
              <a:path fill="lightenLess" w="34439" h="21600">
                <a:moveTo>
                  <a:pt x="0" y="0"/>
                </a:moveTo>
                <a:lnTo>
                  <a:pt x="34439" y="0"/>
                </a:lnTo>
                <a:lnTo>
                  <a:pt x="33039" y="1400"/>
                </a:lnTo>
                <a:lnTo>
                  <a:pt x="1400" y="1400"/>
                </a:lnTo>
                <a:close/>
              </a:path>
              <a:path fill="darken" w="34439" h="21600">
                <a:moveTo>
                  <a:pt x="34439" y="0"/>
                </a:moveTo>
                <a:lnTo>
                  <a:pt x="34439" y="21600"/>
                </a:lnTo>
                <a:lnTo>
                  <a:pt x="33039" y="20200"/>
                </a:lnTo>
                <a:lnTo>
                  <a:pt x="33039" y="1400"/>
                </a:lnTo>
                <a:close/>
              </a:path>
              <a:path fill="darkenLess" w="34439" h="21600">
                <a:moveTo>
                  <a:pt x="344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39" y="20200"/>
                </a:lnTo>
                <a:close/>
              </a:path>
              <a:path fill="lighten" w="344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Субвенция – целевые средств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предоставляются 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финансирова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полномочий, переданны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другому уровню в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Line 19"/>
          <p:cNvSpPr/>
          <p:nvPr/>
        </p:nvSpPr>
        <p:spPr>
          <a:xfrm flipH="1">
            <a:off x="4816080" y="3649680"/>
            <a:ext cx="3240" cy="55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AutoShape 21"/>
          <p:cNvSpPr/>
          <p:nvPr/>
        </p:nvSpPr>
        <p:spPr>
          <a:xfrm>
            <a:off x="231840" y="3479760"/>
            <a:ext cx="2644560" cy="2001960"/>
          </a:xfrm>
          <a:prstGeom prst="flowChartProcess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Дотации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предоставляются без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определения конкрет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цели их использ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Line 22"/>
          <p:cNvSpPr/>
          <p:nvPr/>
        </p:nvSpPr>
        <p:spPr>
          <a:xfrm flipH="1">
            <a:off x="1676520" y="2649600"/>
            <a:ext cx="1473120" cy="6141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Rectangle 23"/>
          <p:cNvSpPr/>
          <p:nvPr/>
        </p:nvSpPr>
        <p:spPr>
          <a:xfrm>
            <a:off x="204840" y="934920"/>
            <a:ext cx="819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жбюджетные трансферты – денежные средства, перечисляемые из одного бюджета бюджетной системы другому бюдже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AutoShape 13"/>
          <p:cNvSpPr/>
          <p:nvPr/>
        </p:nvSpPr>
        <p:spPr>
          <a:xfrm>
            <a:off x="6967440" y="3513240"/>
            <a:ext cx="2729160" cy="2003400"/>
          </a:xfrm>
          <a:prstGeom prst="flowChartProcess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Субсидия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целевые средств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предоставляются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целя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софинансир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расход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Arial"/>
              </a:rPr>
              <a:t>других бюдже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Line 15"/>
          <p:cNvSpPr/>
          <p:nvPr/>
        </p:nvSpPr>
        <p:spPr>
          <a:xfrm>
            <a:off x="6632640" y="2657520"/>
            <a:ext cx="1670040" cy="725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1000"/>
                                        <p:tgtEl>
                                          <p:spTgt spid="1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000"/>
                            </p:stCondLst>
                            <p:childTnLst>
                              <p:par>
                                <p:cTn id="50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1" dur="1000"/>
                                        <p:tgtEl>
                                          <p:spTgt spid="1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2000"/>
                            </p:stCondLst>
                            <p:childTnLst>
                              <p:par>
                                <p:cTn id="5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3000"/>
                            </p:stCondLst>
                            <p:childTnLst>
                              <p:par>
                                <p:cTn id="5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1" dur="1000"/>
                                        <p:tgtEl>
                                          <p:spTgt spid="1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4" dur="1000"/>
                                        <p:tgtEl>
                                          <p:spTgt spid="1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4000"/>
                            </p:stCondLst>
                            <p:childTnLst>
                              <p:par>
                                <p:cTn id="52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28" dur="1000"/>
                                        <p:tgtEl>
                                          <p:spTgt spid="1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10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1AC2E-744F-4A76-88D8-20FEE5112C4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876F-9920-47AE-9268-01FBA85B86B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95080" y="246240"/>
            <a:ext cx="7877160" cy="90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Структура безвозмездных поступлений бюджета  МО за 2020 год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260" name="Object 4" descr=""/>
          <p:cNvPicPr/>
          <p:nvPr/>
        </p:nvPicPr>
        <p:blipFill>
          <a:blip r:embed="rId1"/>
          <a:stretch/>
        </p:blipFill>
        <p:spPr>
          <a:xfrm>
            <a:off x="225360" y="2381400"/>
            <a:ext cx="9288360" cy="317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0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1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1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20836-6C33-432F-8CAD-B17A3970E48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8CCBF-D1F6-46FE-8BF7-A82D93F01B7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749160" y="213840"/>
            <a:ext cx="89028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Что такое бюджет?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20" name="Rectangle 3"/>
          <p:cNvSpPr/>
          <p:nvPr/>
        </p:nvSpPr>
        <p:spPr>
          <a:xfrm>
            <a:off x="193680" y="3632040"/>
            <a:ext cx="93632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</a:rPr>
              <a:t>БЮДЖЕТ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(от старонормандского </a:t>
            </a: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bougette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– кошель, сумка, кожаный мешок) – план доходов и расходов, предназначенный для финансирования задач и функций государства и местного самоуправле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Rectangle 4"/>
          <p:cNvSpPr/>
          <p:nvPr/>
        </p:nvSpPr>
        <p:spPr>
          <a:xfrm>
            <a:off x="193680" y="901080"/>
            <a:ext cx="2263680" cy="23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ДОХ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это поступающие в бюджет денежные средства (налоги юридических и физических лиц, административные платежи и сборы, безвозмездные поступления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Rectangle 6"/>
          <p:cNvSpPr/>
          <p:nvPr/>
        </p:nvSpPr>
        <p:spPr>
          <a:xfrm>
            <a:off x="6130800" y="882000"/>
            <a:ext cx="2484720" cy="23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РАСХ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это выплачиваемые из бюджета денежные средства (социальные выплаты населению, содержание муниципальных учреждений (образование, культура и другие) капитальное строительство и другие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Line 7"/>
          <p:cNvSpPr/>
          <p:nvPr/>
        </p:nvSpPr>
        <p:spPr>
          <a:xfrm flipH="1">
            <a:off x="2736360" y="5230800"/>
            <a:ext cx="5446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Line 8"/>
          <p:cNvSpPr/>
          <p:nvPr/>
        </p:nvSpPr>
        <p:spPr>
          <a:xfrm>
            <a:off x="6365880" y="5232240"/>
            <a:ext cx="5475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Rectangle 9"/>
          <p:cNvSpPr/>
          <p:nvPr/>
        </p:nvSpPr>
        <p:spPr>
          <a:xfrm>
            <a:off x="271440" y="4668840"/>
            <a:ext cx="249732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ПРОФИЦИТ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бюджета - э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превышение доходов над расхода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Rectangle 10"/>
          <p:cNvSpPr/>
          <p:nvPr/>
        </p:nvSpPr>
        <p:spPr>
          <a:xfrm>
            <a:off x="6892920" y="4748040"/>
            <a:ext cx="257508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ДЕФИЦИТ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юджет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- это 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превышение расходов над доходам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7" name="Picture 13" descr="2014-04-09dengi_sybsidii"/>
          <p:cNvPicPr/>
          <p:nvPr/>
        </p:nvPicPr>
        <p:blipFill>
          <a:blip r:embed="rId1"/>
          <a:stretch/>
        </p:blipFill>
        <p:spPr>
          <a:xfrm>
            <a:off x="2684520" y="912960"/>
            <a:ext cx="3143160" cy="248760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4" descr="весы-бюджет2212"/>
          <p:cNvPicPr/>
          <p:nvPr/>
        </p:nvPicPr>
        <p:blipFill>
          <a:blip r:embed="rId2"/>
          <a:stretch/>
        </p:blipFill>
        <p:spPr>
          <a:xfrm>
            <a:off x="3360600" y="4500720"/>
            <a:ext cx="2884680" cy="164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4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200"/>
                            </p:stCondLst>
                            <p:childTnLst>
                              <p:par>
                                <p:cTn id="4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750"/>
                            </p:stCondLst>
                            <p:childTnLst>
                              <p:par>
                                <p:cTn id="5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7750"/>
                            </p:stCondLst>
                            <p:childTnLst>
                              <p:par>
                                <p:cTn id="6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6700"/>
                            </p:stCondLst>
                            <p:childTnLst>
                              <p:par>
                                <p:cTn id="6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7200"/>
                            </p:stCondLst>
                            <p:childTnLst>
                              <p:par>
                                <p:cTn id="7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50"/>
                            </p:stCondLst>
                            <p:childTnLst>
                              <p:par>
                                <p:cTn id="8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0550"/>
                            </p:stCondLst>
                            <p:childTnLst>
                              <p:par>
                                <p:cTn id="9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5E003-5E62-46B3-982B-F96A6CB8E8D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A3816-2C25-46D0-93F0-B3882C698F3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-668520" y="203040"/>
            <a:ext cx="10296360" cy="416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Какие бывают бюджеты?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2" name="Rectangle 3"/>
          <p:cNvSpPr/>
          <p:nvPr/>
        </p:nvSpPr>
        <p:spPr>
          <a:xfrm>
            <a:off x="662040" y="907920"/>
            <a:ext cx="16365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юджет семь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Line 4"/>
          <p:cNvSpPr/>
          <p:nvPr/>
        </p:nvSpPr>
        <p:spPr>
          <a:xfrm flipH="1">
            <a:off x="2707920" y="868320"/>
            <a:ext cx="770040" cy="317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Line 5"/>
          <p:cNvSpPr/>
          <p:nvPr/>
        </p:nvSpPr>
        <p:spPr>
          <a:xfrm>
            <a:off x="4952880" y="765000"/>
            <a:ext cx="0" cy="936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Line 6"/>
          <p:cNvSpPr/>
          <p:nvPr/>
        </p:nvSpPr>
        <p:spPr>
          <a:xfrm>
            <a:off x="6051600" y="820800"/>
            <a:ext cx="782640" cy="36828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Rectangle 7"/>
          <p:cNvSpPr/>
          <p:nvPr/>
        </p:nvSpPr>
        <p:spPr>
          <a:xfrm>
            <a:off x="3314880" y="1844280"/>
            <a:ext cx="319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юджеты публично-правовых образов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Rectangle 8"/>
          <p:cNvSpPr/>
          <p:nvPr/>
        </p:nvSpPr>
        <p:spPr>
          <a:xfrm>
            <a:off x="6784920" y="822240"/>
            <a:ext cx="21146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юд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рганиз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8" name="Picture 10" descr=""/>
          <p:cNvPicPr/>
          <p:nvPr/>
        </p:nvPicPr>
        <p:blipFill>
          <a:blip r:embed="rId1"/>
          <a:stretch/>
        </p:blipFill>
        <p:spPr>
          <a:xfrm>
            <a:off x="428760" y="3722760"/>
            <a:ext cx="2566800" cy="1643040"/>
          </a:xfrm>
          <a:prstGeom prst="rect">
            <a:avLst/>
          </a:prstGeom>
          <a:ln w="28440">
            <a:solidFill>
              <a:srgbClr val="00ffff"/>
            </a:solidFill>
            <a:miter/>
          </a:ln>
        </p:spPr>
      </p:pic>
      <p:sp>
        <p:nvSpPr>
          <p:cNvPr id="1139" name="Line 12"/>
          <p:cNvSpPr/>
          <p:nvPr/>
        </p:nvSpPr>
        <p:spPr>
          <a:xfrm>
            <a:off x="6016680" y="2781360"/>
            <a:ext cx="779400" cy="71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Line 13"/>
          <p:cNvSpPr/>
          <p:nvPr/>
        </p:nvSpPr>
        <p:spPr>
          <a:xfrm>
            <a:off x="4943520" y="278136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Line 14"/>
          <p:cNvSpPr/>
          <p:nvPr/>
        </p:nvSpPr>
        <p:spPr>
          <a:xfrm flipH="1">
            <a:off x="3079440" y="2781360"/>
            <a:ext cx="78084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Rectangle 15"/>
          <p:cNvSpPr/>
          <p:nvPr/>
        </p:nvSpPr>
        <p:spPr>
          <a:xfrm>
            <a:off x="222120" y="5534280"/>
            <a:ext cx="2886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федеральный бюджет, бюджеты государственных внебюджетных фондов РФ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Rectangle 16"/>
          <p:cNvSpPr/>
          <p:nvPr/>
        </p:nvSpPr>
        <p:spPr>
          <a:xfrm>
            <a:off x="3549600" y="5385240"/>
            <a:ext cx="28861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убъе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региональные бюджеты, бюджеты территориальных фондов ОМС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Rectangle 17"/>
          <p:cNvSpPr/>
          <p:nvPr/>
        </p:nvSpPr>
        <p:spPr>
          <a:xfrm>
            <a:off x="6899400" y="5609520"/>
            <a:ext cx="2728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униципальных образов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местные бюджет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Line 19"/>
          <p:cNvSpPr/>
          <p:nvPr/>
        </p:nvSpPr>
        <p:spPr>
          <a:xfrm>
            <a:off x="3470400" y="2565360"/>
            <a:ext cx="2808000" cy="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6" name="Picture 20" descr=""/>
          <p:cNvPicPr/>
          <p:nvPr/>
        </p:nvPicPr>
        <p:blipFill>
          <a:blip r:embed="rId2"/>
          <a:stretch/>
        </p:blipFill>
        <p:spPr>
          <a:xfrm>
            <a:off x="428760" y="1268280"/>
            <a:ext cx="2205000" cy="2230560"/>
          </a:xfrm>
          <a:prstGeom prst="rect">
            <a:avLst/>
          </a:prstGeom>
          <a:ln w="19080">
            <a:solidFill>
              <a:srgbClr val="00ccff"/>
            </a:solidFill>
            <a:miter/>
          </a:ln>
        </p:spPr>
      </p:pic>
      <p:pic>
        <p:nvPicPr>
          <p:cNvPr id="1147" name="Picture 24" descr="i"/>
          <p:cNvPicPr/>
          <p:nvPr/>
        </p:nvPicPr>
        <p:blipFill>
          <a:blip r:embed="rId3"/>
          <a:stretch/>
        </p:blipFill>
        <p:spPr>
          <a:xfrm>
            <a:off x="6964200" y="1452600"/>
            <a:ext cx="2495880" cy="1865160"/>
          </a:xfrm>
          <a:prstGeom prst="rect">
            <a:avLst/>
          </a:prstGeom>
          <a:ln w="28440">
            <a:solidFill>
              <a:srgbClr val="00ccff"/>
            </a:solidFill>
            <a:miter/>
          </a:ln>
        </p:spPr>
      </p:pic>
      <p:pic>
        <p:nvPicPr>
          <p:cNvPr id="1148" name="Picture 25" descr="karta_arhangelskaya_oblasti_po_rayonam-578x600"/>
          <p:cNvPicPr/>
          <p:nvPr/>
        </p:nvPicPr>
        <p:blipFill>
          <a:blip r:embed="rId4"/>
          <a:stretch/>
        </p:blipFill>
        <p:spPr>
          <a:xfrm>
            <a:off x="7020000" y="3691080"/>
            <a:ext cx="2428920" cy="1665000"/>
          </a:xfrm>
          <a:prstGeom prst="rect">
            <a:avLst/>
          </a:prstGeom>
          <a:ln w="28440">
            <a:solidFill>
              <a:srgbClr val="00ffff"/>
            </a:solidFill>
            <a:miter/>
          </a:ln>
        </p:spPr>
      </p:pic>
      <p:pic>
        <p:nvPicPr>
          <p:cNvPr id="1149" name="Picture 26" descr="111913170_large_article1408"/>
          <p:cNvPicPr/>
          <p:nvPr/>
        </p:nvPicPr>
        <p:blipFill>
          <a:blip r:embed="rId5"/>
          <a:stretch/>
        </p:blipFill>
        <p:spPr>
          <a:xfrm>
            <a:off x="3597120" y="3675240"/>
            <a:ext cx="2951280" cy="1672920"/>
          </a:xfrm>
          <a:prstGeom prst="rect">
            <a:avLst/>
          </a:prstGeom>
          <a:ln w="28440">
            <a:solidFill>
              <a:srgbClr val="00ffff"/>
            </a:solidFill>
            <a:miter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20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4" dur="10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7" dur="20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20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4" dur="2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8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10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9000"/>
                            </p:stCondLst>
                            <p:childTnLst>
                              <p:par>
                                <p:cTn id="1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20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6" dur="2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9" dur="20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300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20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7" dur="10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0" dur="20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20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9000"/>
                            </p:stCondLst>
                            <p:childTnLst>
                              <p:par>
                                <p:cTn id="15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8" dur="10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1" dur="20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1000"/>
                            </p:stCondLst>
                            <p:childTnLst>
                              <p:par>
                                <p:cTn id="1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20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3000"/>
                            </p:stCondLst>
                            <p:childTnLst>
                              <p:par>
                                <p:cTn id="16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9" dur="10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2" dur="20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2160" y="848880"/>
            <a:ext cx="8172360" cy="1832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0066"/>
                </a:solidFill>
                <a:latin typeface="Arial"/>
              </a:rPr>
              <a:t>Бюджетная система представляет собой совокупность отношений, возникающих между различными субъектами в процессе формирования доходов и осуществления расходов бюджетов всех уровней системы, осуществления государственных и муниципальных заимствований, регулирования государственного и муниципального долга, составления и рассмотрения проектов бюджетов системы, их утверждения и исполнения, контроля за их исполнением.</a:t>
            </a:r>
            <a:br>
              <a:rPr sz="1600"/>
            </a:b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151" name="Picture 4" descr="флаг"/>
          <p:cNvPicPr/>
          <p:nvPr/>
        </p:nvPicPr>
        <p:blipFill>
          <a:blip r:embed="rId1"/>
          <a:stretch/>
        </p:blipFill>
        <p:spPr>
          <a:xfrm>
            <a:off x="515880" y="2451240"/>
            <a:ext cx="8961480" cy="4074840"/>
          </a:xfrm>
          <a:prstGeom prst="rect">
            <a:avLst/>
          </a:prstGeom>
          <a:ln w="0">
            <a:noFill/>
          </a:ln>
        </p:spPr>
      </p:pic>
      <p:sp>
        <p:nvSpPr>
          <p:cNvPr id="1152" name="Text Box 6"/>
          <p:cNvSpPr/>
          <p:nvPr/>
        </p:nvSpPr>
        <p:spPr>
          <a:xfrm>
            <a:off x="754200" y="318960"/>
            <a:ext cx="76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66"/>
                </a:solidFill>
                <a:latin typeface="Arial"/>
              </a:rPr>
              <a:t>Бюджетная система Российской Фед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Text Box 7"/>
          <p:cNvSpPr/>
          <p:nvPr/>
        </p:nvSpPr>
        <p:spPr>
          <a:xfrm>
            <a:off x="2452680" y="2554200"/>
            <a:ext cx="57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Уровни бюджетной систем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AutoShape 8"/>
          <p:cNvSpPr/>
          <p:nvPr/>
        </p:nvSpPr>
        <p:spPr>
          <a:xfrm>
            <a:off x="3309840" y="3162240"/>
            <a:ext cx="4106880" cy="451080"/>
          </a:xfrm>
          <a:prstGeom prst="flowChartAlternateProcess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Text Box 9"/>
          <p:cNvSpPr/>
          <p:nvPr/>
        </p:nvSpPr>
        <p:spPr>
          <a:xfrm>
            <a:off x="3468600" y="3178080"/>
            <a:ext cx="37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ФЕДЕРАЛЬНЫЙ БЮД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AutoShape 11"/>
          <p:cNvSpPr/>
          <p:nvPr/>
        </p:nvSpPr>
        <p:spPr>
          <a:xfrm>
            <a:off x="1871640" y="3933720"/>
            <a:ext cx="6676920" cy="652680"/>
          </a:xfrm>
          <a:prstGeom prst="flowChartAlternateProcess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БЮДЖЕТЫ СУБЪЕКТОВ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AutoShape 12"/>
          <p:cNvSpPr/>
          <p:nvPr/>
        </p:nvSpPr>
        <p:spPr>
          <a:xfrm>
            <a:off x="3367080" y="4964040"/>
            <a:ext cx="3976560" cy="565200"/>
          </a:xfrm>
          <a:prstGeom prst="flowChartAlternateProcess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МЕСТНЫЕ БЮДЖ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AutoShape 13"/>
          <p:cNvSpPr/>
          <p:nvPr/>
        </p:nvSpPr>
        <p:spPr>
          <a:xfrm>
            <a:off x="274680" y="5889600"/>
            <a:ext cx="3397320" cy="669960"/>
          </a:xfrm>
          <a:prstGeom prst="flowChartAlternateProcess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бюдже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муниципальных райо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AutoShape 14"/>
          <p:cNvSpPr/>
          <p:nvPr/>
        </p:nvSpPr>
        <p:spPr>
          <a:xfrm>
            <a:off x="3846600" y="5862600"/>
            <a:ext cx="2814480" cy="711360"/>
          </a:xfrm>
          <a:prstGeom prst="flowChartAlternateProcess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бюджеты городских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сельских посе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AutoShape 16"/>
          <p:cNvSpPr/>
          <p:nvPr/>
        </p:nvSpPr>
        <p:spPr>
          <a:xfrm>
            <a:off x="6894360" y="5864400"/>
            <a:ext cx="2802240" cy="696600"/>
          </a:xfrm>
          <a:prstGeom prst="flowChartAlternateProcess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бюджеты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городских округ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AutoShape 17"/>
          <p:cNvSpPr/>
          <p:nvPr/>
        </p:nvSpPr>
        <p:spPr>
          <a:xfrm>
            <a:off x="5006880" y="3641760"/>
            <a:ext cx="479520" cy="2476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AutoShape 18"/>
          <p:cNvSpPr/>
          <p:nvPr/>
        </p:nvSpPr>
        <p:spPr>
          <a:xfrm>
            <a:off x="4978440" y="4645080"/>
            <a:ext cx="550800" cy="2746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Line 19"/>
          <p:cNvSpPr/>
          <p:nvPr/>
        </p:nvSpPr>
        <p:spPr>
          <a:xfrm>
            <a:off x="5238720" y="5516640"/>
            <a:ext cx="0" cy="333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Line 20"/>
          <p:cNvSpPr/>
          <p:nvPr/>
        </p:nvSpPr>
        <p:spPr>
          <a:xfrm>
            <a:off x="5254560" y="5661000"/>
            <a:ext cx="293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Line 21"/>
          <p:cNvSpPr/>
          <p:nvPr/>
        </p:nvSpPr>
        <p:spPr>
          <a:xfrm flipH="1">
            <a:off x="2003040" y="5646600"/>
            <a:ext cx="3220920" cy="14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Line 22"/>
          <p:cNvSpPr/>
          <p:nvPr/>
        </p:nvSpPr>
        <p:spPr>
          <a:xfrm>
            <a:off x="8188200" y="5645160"/>
            <a:ext cx="1584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Line 23"/>
          <p:cNvSpPr/>
          <p:nvPr/>
        </p:nvSpPr>
        <p:spPr>
          <a:xfrm flipH="1">
            <a:off x="1987200" y="5676840"/>
            <a:ext cx="28440" cy="14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10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10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10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4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10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1000"/>
                                        <p:tgtEl>
                                          <p:spTgt spid="1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6000"/>
                            </p:stCondLst>
                            <p:childTnLst>
                              <p:par>
                                <p:cTn id="20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5" dur="10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8" dur="1000"/>
                                        <p:tgtEl>
                                          <p:spTgt spid="1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7000"/>
                            </p:stCondLst>
                            <p:childTnLst>
                              <p:par>
                                <p:cTn id="2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1000"/>
                                        <p:tgtEl>
                                          <p:spTgt spid="1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8000"/>
                            </p:stCondLst>
                            <p:childTnLst>
                              <p:par>
                                <p:cTn id="21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10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1000"/>
                                        <p:tgtEl>
                                          <p:spTgt spid="1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9000"/>
                            </p:stCondLst>
                            <p:childTnLst>
                              <p:par>
                                <p:cTn id="2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10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1000"/>
                                        <p:tgtEl>
                                          <p:spTgt spid="1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10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10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3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1" dur="10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3000"/>
                            </p:stCondLst>
                            <p:childTnLst>
                              <p:par>
                                <p:cTn id="2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1000"/>
                                        <p:tgtEl>
                                          <p:spTgt spid="1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10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2980-FFD1-4A0B-AFA6-066603FA9E3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55D4A-7D74-42B7-B3D9-F732A7747F9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1152360" y="190440"/>
            <a:ext cx="626616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     </a:t>
            </a:r>
            <a:r>
              <a:rPr b="1" lang="ru-RU" sz="2600" spc="-1" strike="noStrike">
                <a:solidFill>
                  <a:srgbClr val="330066"/>
                </a:solidFill>
                <a:latin typeface="Arial"/>
              </a:rPr>
              <a:t>Консолидированный бюджет Ленского  района</a:t>
            </a:r>
            <a:endParaRPr b="1" lang="en-US" sz="2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1" name="Rectangle 3"/>
          <p:cNvSpPr/>
          <p:nvPr/>
        </p:nvSpPr>
        <p:spPr>
          <a:xfrm>
            <a:off x="6740640" y="5130720"/>
            <a:ext cx="2495520" cy="1300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0066"/>
                </a:solidFill>
                <a:latin typeface="Arial"/>
              </a:rPr>
              <a:t>Бюджет МО «Козьминское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Rectangle 4"/>
          <p:cNvSpPr/>
          <p:nvPr/>
        </p:nvSpPr>
        <p:spPr>
          <a:xfrm>
            <a:off x="6715080" y="2122560"/>
            <a:ext cx="2495520" cy="1285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0066"/>
                </a:solidFill>
                <a:latin typeface="Arial"/>
              </a:rPr>
              <a:t>Бюджет МО «Сафроновское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Rectangle 5"/>
          <p:cNvSpPr/>
          <p:nvPr/>
        </p:nvSpPr>
        <p:spPr>
          <a:xfrm>
            <a:off x="6697800" y="730080"/>
            <a:ext cx="2493720" cy="1285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0066"/>
                </a:solidFill>
                <a:latin typeface="Arial"/>
              </a:rPr>
              <a:t>Бюджет МО «Сойгинское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6"/>
          <p:cNvSpPr/>
          <p:nvPr/>
        </p:nvSpPr>
        <p:spPr>
          <a:xfrm>
            <a:off x="2817720" y="3713040"/>
            <a:ext cx="2610000" cy="15638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0066"/>
                </a:solidFill>
                <a:latin typeface="Arial"/>
              </a:rPr>
              <a:t>Бюджеты поселений Ленского район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Rectangle 7"/>
          <p:cNvSpPr/>
          <p:nvPr/>
        </p:nvSpPr>
        <p:spPr>
          <a:xfrm>
            <a:off x="2749680" y="1198440"/>
            <a:ext cx="2698560" cy="1562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0066"/>
                </a:solidFill>
                <a:latin typeface="Times New Roman"/>
              </a:rPr>
              <a:t>Бюджет МО «Ленский муниципальный район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Line 8"/>
          <p:cNvSpPr/>
          <p:nvPr/>
        </p:nvSpPr>
        <p:spPr>
          <a:xfrm flipH="1">
            <a:off x="1698480" y="2128680"/>
            <a:ext cx="1028880" cy="3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Line 9"/>
          <p:cNvSpPr/>
          <p:nvPr/>
        </p:nvSpPr>
        <p:spPr>
          <a:xfrm flipH="1">
            <a:off x="5089320" y="1674720"/>
            <a:ext cx="1525320" cy="1973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Line 10"/>
          <p:cNvSpPr/>
          <p:nvPr/>
        </p:nvSpPr>
        <p:spPr>
          <a:xfrm flipH="1">
            <a:off x="5506560" y="2692440"/>
            <a:ext cx="1179720" cy="117792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AutoShape 11"/>
          <p:cNvSpPr/>
          <p:nvPr/>
        </p:nvSpPr>
        <p:spPr>
          <a:xfrm>
            <a:off x="317520" y="189000"/>
            <a:ext cx="1366920" cy="6427800"/>
          </a:xfrm>
          <a:custGeom>
            <a:avLst/>
            <a:gdLst>
              <a:gd name="textAreaLeft" fmla="*/ 66600 w 1366920"/>
              <a:gd name="textAreaRight" fmla="*/ 1300320 w 1366920"/>
              <a:gd name="textAreaTop" fmla="*/ 66600 h 6427800"/>
              <a:gd name="textAreaBottom" fmla="*/ 6361200 h 6427800"/>
            </a:gdLst>
            <a:ahLst/>
            <a:rect l="textAreaLeft" t="textAreaTop" r="textAreaRight" b="textAreaBottom"/>
            <a:pathLst>
              <a:path w="21600" h="101551">
                <a:moveTo>
                  <a:pt x="3600" y="0"/>
                </a:moveTo>
                <a:arcTo wR="3600" hR="3600" stAng="16200000" swAng="-5400000"/>
                <a:lnTo>
                  <a:pt x="0" y="97951"/>
                </a:lnTo>
                <a:arcTo wR="3600" hR="3600" stAng="10800000" swAng="-5400000"/>
                <a:lnTo>
                  <a:pt x="18000" y="10155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Line 12"/>
          <p:cNvSpPr/>
          <p:nvPr/>
        </p:nvSpPr>
        <p:spPr>
          <a:xfrm flipH="1" flipV="1">
            <a:off x="5492880" y="5011560"/>
            <a:ext cx="1193760" cy="78264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Line 13"/>
          <p:cNvSpPr/>
          <p:nvPr/>
        </p:nvSpPr>
        <p:spPr>
          <a:xfrm flipH="1" flipV="1">
            <a:off x="5479920" y="4384440"/>
            <a:ext cx="1208160" cy="1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Rectangle 26"/>
          <p:cNvSpPr/>
          <p:nvPr/>
        </p:nvSpPr>
        <p:spPr>
          <a:xfrm>
            <a:off x="6697800" y="3586320"/>
            <a:ext cx="2501640" cy="1295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0066"/>
                </a:solidFill>
                <a:latin typeface="Arial"/>
              </a:rPr>
              <a:t>Бюджет МО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330066"/>
                </a:solidFill>
                <a:latin typeface="Arial"/>
              </a:rPr>
              <a:t>«Урдомское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Line 20"/>
          <p:cNvSpPr/>
          <p:nvPr/>
        </p:nvSpPr>
        <p:spPr>
          <a:xfrm flipH="1" flipV="1">
            <a:off x="1700280" y="4541400"/>
            <a:ext cx="1087200" cy="1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WordArt 22"/>
          <p:cNvSpPr txBox="1"/>
          <p:nvPr/>
        </p:nvSpPr>
        <p:spPr>
          <a:xfrm rot="5400000">
            <a:off x="-1946520" y="3052440"/>
            <a:ext cx="5965920" cy="466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нсолидированный бюджет</a:t>
            </a:r>
            <a:endParaRPr b="0" i="1" lang="en-US" sz="32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1000"/>
                                        <p:tgtEl>
                                          <p:spTgt spid="1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10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1000"/>
                                        <p:tgtEl>
                                          <p:spTgt spid="1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10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1000"/>
                                        <p:tgtEl>
                                          <p:spTgt spid="1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1000"/>
                                        <p:tgtEl>
                                          <p:spTgt spid="1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10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4000"/>
                            </p:stCondLst>
                            <p:childTnLst>
                              <p:par>
                                <p:cTn id="2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1000"/>
                                        <p:tgtEl>
                                          <p:spTgt spid="1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10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1000"/>
                                        <p:tgtEl>
                                          <p:spTgt spid="1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0" dur="1000"/>
                                        <p:tgtEl>
                                          <p:spTgt spid="1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60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1000"/>
                                        <p:tgtEl>
                                          <p:spTgt spid="1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7000"/>
                            </p:stCondLst>
                            <p:childTnLst>
                              <p:par>
                                <p:cTn id="30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3" dur="10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6" dur="1000"/>
                                        <p:tgtEl>
                                          <p:spTgt spid="1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CD752-B9F5-487C-8252-D6CA8247B64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763AE-3A9F-4A35-9FC0-38276222395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311040" y="0"/>
            <a:ext cx="5524560" cy="812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Межбюджетные отношения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8" name="AutoShape 3"/>
          <p:cNvSpPr/>
          <p:nvPr/>
        </p:nvSpPr>
        <p:spPr>
          <a:xfrm>
            <a:off x="493560" y="2720880"/>
            <a:ext cx="3675240" cy="325620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оссийская Федер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AutoShape 4"/>
          <p:cNvSpPr/>
          <p:nvPr/>
        </p:nvSpPr>
        <p:spPr>
          <a:xfrm>
            <a:off x="4815000" y="927000"/>
            <a:ext cx="3809880" cy="92412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рхангельская об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AutoShape 5"/>
          <p:cNvSpPr/>
          <p:nvPr/>
        </p:nvSpPr>
        <p:spPr>
          <a:xfrm rot="20130000">
            <a:off x="2117520" y="1858680"/>
            <a:ext cx="2698560" cy="342720"/>
          </a:xfrm>
          <a:prstGeom prst="leftRightArrow">
            <a:avLst>
              <a:gd name="adj1" fmla="val 50000"/>
              <a:gd name="adj2" fmla="val 15675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AutoShape 6"/>
          <p:cNvSpPr/>
          <p:nvPr/>
        </p:nvSpPr>
        <p:spPr>
          <a:xfrm rot="5400000">
            <a:off x="6461280" y="2084760"/>
            <a:ext cx="571680" cy="341640"/>
          </a:xfrm>
          <a:prstGeom prst="leftRightArrow">
            <a:avLst>
              <a:gd name="adj1" fmla="val 50000"/>
              <a:gd name="adj2" fmla="val 3331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AutoShape 7"/>
          <p:cNvSpPr/>
          <p:nvPr/>
        </p:nvSpPr>
        <p:spPr>
          <a:xfrm>
            <a:off x="4827600" y="2666880"/>
            <a:ext cx="3908520" cy="119088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Ленский муниципальный рай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AutoShape 8"/>
          <p:cNvSpPr/>
          <p:nvPr/>
        </p:nvSpPr>
        <p:spPr>
          <a:xfrm>
            <a:off x="4991040" y="4675320"/>
            <a:ext cx="3741840" cy="19112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селения Ленского райо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рдомс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афроновс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зьминско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йгинс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AutoShape 9"/>
          <p:cNvSpPr/>
          <p:nvPr/>
        </p:nvSpPr>
        <p:spPr>
          <a:xfrm rot="5400000">
            <a:off x="6451560" y="4098960"/>
            <a:ext cx="641520" cy="342720"/>
          </a:xfrm>
          <a:prstGeom prst="leftRightArrow">
            <a:avLst>
              <a:gd name="adj1" fmla="val 50000"/>
              <a:gd name="adj2" fmla="val 37263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000"/>
                            </p:stCondLst>
                            <p:childTnLst>
                              <p:par>
                                <p:cTn id="3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10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3000"/>
                            </p:stCondLst>
                            <p:childTnLst>
                              <p:par>
                                <p:cTn id="3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40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10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0"/>
                            </p:stCondLst>
                            <p:childTnLst>
                              <p:par>
                                <p:cTn id="3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1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6000"/>
                            </p:stCondLst>
                            <p:childTnLst>
                              <p:par>
                                <p:cTn id="33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35" dur="2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10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3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19879-D95B-4815-8038-BD4AC78B166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529E2-646C-48B6-9168-B090AE454DB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95000" y="122400"/>
            <a:ext cx="81723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Консолидированный бюджет </a:t>
            </a:r>
            <a:br>
              <a:rPr sz="3000"/>
            </a:br>
            <a:r>
              <a:rPr b="1" lang="ru-RU" sz="3000" spc="-1" strike="noStrike">
                <a:solidFill>
                  <a:srgbClr val="330066"/>
                </a:solidFill>
                <a:latin typeface="Arial"/>
              </a:rPr>
              <a:t>Ленского  района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198" name=""/>
          <p:cNvGraphicFramePr/>
          <p:nvPr/>
        </p:nvGraphicFramePr>
        <p:xfrm>
          <a:off x="1959120" y="1990800"/>
          <a:ext cx="6270480" cy="3778200"/>
        </p:xfrm>
        <a:graphic>
          <a:graphicData uri="http://schemas.openxmlformats.org/drawingml/2006/table">
            <a:tbl>
              <a:tblPr/>
              <a:tblGrid>
                <a:gridCol w="3527280"/>
                <a:gridCol w="2743200"/>
              </a:tblGrid>
              <a:tr h="101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2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ОХОД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9 695,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АСХОД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0 165,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рофицит + дефицит 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9 529,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1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350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D1E3E-DF56-4A4C-8021-DD966B50A1B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52631-80DC-441D-BBF3-3805CC01AA0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36320" y="-360"/>
            <a:ext cx="8172360" cy="5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могает формировать доходную часть бюджета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202" name="Picture 5" descr="mota_ru_0020701-crop"/>
          <p:cNvPicPr/>
          <p:nvPr/>
        </p:nvPicPr>
        <p:blipFill>
          <a:blip r:embed="rId1"/>
          <a:stretch/>
        </p:blipFill>
        <p:spPr>
          <a:xfrm>
            <a:off x="0" y="2171880"/>
            <a:ext cx="2719440" cy="2530440"/>
          </a:xfrm>
          <a:prstGeom prst="rect">
            <a:avLst/>
          </a:prstGeom>
          <a:ln w="0">
            <a:noFill/>
          </a:ln>
        </p:spPr>
      </p:pic>
      <p:sp>
        <p:nvSpPr>
          <p:cNvPr id="1203" name="Rectangle 6"/>
          <p:cNvSpPr/>
          <p:nvPr/>
        </p:nvSpPr>
        <p:spPr>
          <a:xfrm>
            <a:off x="439920" y="668160"/>
            <a:ext cx="31129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Гражданин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налогоплательщ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доходная часть бюдже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0066"/>
                </a:solidFill>
                <a:latin typeface="Arial"/>
              </a:rPr>
              <a:t>( отчисление налогов и сборо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4" name="Picture 9" descr="p_35848_1_gallerybig"/>
          <p:cNvPicPr/>
          <p:nvPr/>
        </p:nvPicPr>
        <p:blipFill>
          <a:blip r:embed="rId2"/>
          <a:stretch/>
        </p:blipFill>
        <p:spPr>
          <a:xfrm>
            <a:off x="3844800" y="1498680"/>
            <a:ext cx="2698920" cy="290808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1205" name="Picture 12" descr="1251836862_3d-character-114"/>
          <p:cNvPicPr/>
          <p:nvPr/>
        </p:nvPicPr>
        <p:blipFill>
          <a:blip r:embed="rId3"/>
          <a:stretch/>
        </p:blipFill>
        <p:spPr>
          <a:xfrm>
            <a:off x="7350120" y="3465360"/>
            <a:ext cx="1951200" cy="2909880"/>
          </a:xfrm>
          <a:prstGeom prst="rect">
            <a:avLst/>
          </a:prstGeom>
          <a:ln w="0">
            <a:noFill/>
          </a:ln>
        </p:spPr>
      </p:pic>
      <p:sp>
        <p:nvSpPr>
          <p:cNvPr id="1206" name="AutoShape 15"/>
          <p:cNvSpPr/>
          <p:nvPr/>
        </p:nvSpPr>
        <p:spPr>
          <a:xfrm>
            <a:off x="2754360" y="2470320"/>
            <a:ext cx="915840" cy="463320"/>
          </a:xfrm>
          <a:prstGeom prst="rightArrowCallout">
            <a:avLst>
              <a:gd name="adj1" fmla="val 25002"/>
              <a:gd name="adj2" fmla="val 25000"/>
              <a:gd name="adj3" fmla="val 32945"/>
              <a:gd name="adj4" fmla="val 6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AutoShape 16"/>
          <p:cNvSpPr/>
          <p:nvPr/>
        </p:nvSpPr>
        <p:spPr>
          <a:xfrm rot="5400000">
            <a:off x="6962760" y="2457360"/>
            <a:ext cx="1130400" cy="1409760"/>
          </a:xfrm>
          <a:custGeom>
            <a:avLst/>
            <a:gdLst>
              <a:gd name="textAreaLeft" fmla="*/ 650520 w 1130400"/>
              <a:gd name="textAreaRight" fmla="*/ 954000 w 1130400"/>
              <a:gd name="textAreaTop" fmla="*/ 190080 h 1409760"/>
              <a:gd name="textAreaBottom" fmla="*/ 603360 h 140976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Rectangle 17"/>
          <p:cNvSpPr/>
          <p:nvPr/>
        </p:nvSpPr>
        <p:spPr>
          <a:xfrm>
            <a:off x="755640" y="495000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Получает социальные гарантии – </a:t>
            </a:r>
            <a:r>
              <a:rPr b="1" lang="ru-RU" sz="1800" spc="-1" strike="noStrike">
                <a:solidFill>
                  <a:srgbClr val="330066"/>
                </a:solidFill>
                <a:latin typeface="Arial"/>
              </a:rPr>
              <a:t>расходная часть бюджета</a:t>
            </a: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 (образование,  культура, физическая культура и спорт, социальные льготы и другие направления социальных гарантий населению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Rectangle 18"/>
          <p:cNvSpPr/>
          <p:nvPr/>
        </p:nvSpPr>
        <p:spPr>
          <a:xfrm>
            <a:off x="6845400" y="1406520"/>
            <a:ext cx="290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ГРАЖДАН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как получа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социальных гарант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0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1" dur="10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5" dur="20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300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10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2" dur="10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40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10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0"/>
                            </p:stCondLst>
                            <p:childTnLst>
                              <p:par>
                                <p:cTn id="3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1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3" dur="10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6000"/>
                            </p:stCondLst>
                            <p:childTnLst>
                              <p:par>
                                <p:cTn id="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1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7000"/>
                            </p:stCondLst>
                            <p:childTnLst>
                              <p:par>
                                <p:cTn id="3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Rectangle 7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649E6-C2D1-4585-A752-E01DE932ABB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Номер слайда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8F622-264C-42B5-BA00-B1E849427BA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888840" y="495360"/>
            <a:ext cx="716760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Times New Roman"/>
              </a:rPr>
              <a:t>Основные  параметры бюджета МО «Ленский муниципальный район»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213" name=""/>
          <p:cNvGraphicFramePr/>
          <p:nvPr/>
        </p:nvGraphicFramePr>
        <p:xfrm>
          <a:off x="571680" y="2690640"/>
          <a:ext cx="7716600" cy="2982960"/>
        </p:xfrm>
        <a:graphic>
          <a:graphicData uri="http://schemas.openxmlformats.org/drawingml/2006/table">
            <a:tbl>
              <a:tblPr/>
              <a:tblGrid>
                <a:gridCol w="3821040"/>
                <a:gridCol w="3895560"/>
              </a:tblGrid>
              <a:tr h="68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02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ОХОД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4 290,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4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РАСХОДЫ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7 783,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рофицит + дефицит -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6 507,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0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3T10:56:41Z</dcterms:created>
  <dc:creator>user</dc:creator>
  <dc:description/>
  <dc:language>en-US</dc:language>
  <cp:lastModifiedBy>Пятиева</cp:lastModifiedBy>
  <dcterms:modified xsi:type="dcterms:W3CDTF">2021-04-29T13:48:03Z</dcterms:modified>
  <cp:revision>928</cp:revision>
  <dc:subject/>
  <dc:title>Бюджет для граждан на 2014 год</dc:title>
</cp:coreProperties>
</file>