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907588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99840" y="741240"/>
            <a:ext cx="5335560" cy="369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A7B-6963-41B7-9808-3BA3A3F32A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00200" y="741240"/>
            <a:ext cx="5335560" cy="36943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2840" y="4683240"/>
            <a:ext cx="5389560" cy="44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14920" y="93614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1F135-7CA7-4637-A7A7-BDC6236F1DE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E5D2-4FA5-481C-8629-5AF917B5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1ED0-BB32-4E70-8977-6D2300635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E5F3-12C8-43DA-8BB5-8DE45953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B5C5-51E8-4067-AD6A-16EF5780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2588-5548-4C67-B4FD-B2403B0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E6CF-682A-4C58-9350-BBEA6DF9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948D-C4A3-4C75-8185-895F763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5B91-EECB-4FA8-9619-238CDBA7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F9E4-C489-471E-8220-00B9023B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D33-7DA6-4AA2-BEF6-A5A9DCB3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A8D-34D2-431F-B6F7-03A7837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5D7F-3273-4E6E-9E4E-FA7D200F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BE05-AE3A-40CD-A459-4EA454F0DA60}" type="datetime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1B8C-4BCE-44D6-A169-95F113EE1C7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hyperlink" Target="http://images.yandex.ru/yandsearch?source=wiz&amp;fp=0&amp;img_url=http%3A%2F%2Fwww.bbc.co.uk%2Fradio4%2Fwomanshour%2Fmedia%2Fcarer_sized.jpg&amp;text=&#1086;&#1087;&#1077;&#1082;&#1072;%20&#1085;&#1072;&#1076;%20&#1089;&#1086;&#1074;&#1077;&#1088;&#1096;&#1077;&#1085;&#1085;&#1086;&#1083;&#1077;&#1090;&#1085;&#1080;&#1084;&#1080;%20&#1085;&#1077;&#1076;&#1077;&#1077;&#1089;&#1087;&#1086;&#1089;&#1086;&#1073;&#1085;&#1099;&#1084;&#1080;%20&#1074;%20&#1082;&#1072;&#1088;&#1090;&#1080;&#1085;&#1082;&#1072;&#1093;&amp;noreask=1&amp;pos=17&amp;lr=20&amp;rpt=simage&amp;nojs=1" TargetMode="External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343080"/>
            <a:ext cx="8915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Расходы районного бюдж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95000" y="922320"/>
            <a:ext cx="89154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191919"/>
                </a:solidFill>
                <a:latin typeface="Calibri"/>
              </a:rPr>
              <a:t>Расходы бюджета – выплачиваемые из бюджета  денежные средства, за исключением   средств, являющихся источниками финансирования дефицита бюджета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ED64-2F8E-4C35-8779-AC8BBE19BC7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4"/>
          <p:cNvSpPr/>
          <p:nvPr/>
        </p:nvSpPr>
        <p:spPr>
          <a:xfrm>
            <a:off x="287280" y="97776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782880" y="1697040"/>
            <a:ext cx="2341800" cy="109692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пределение расходов в районном бюдже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336600" y="3386160"/>
            <a:ext cx="2801880" cy="2612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функция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отраслев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3414600" y="3425760"/>
            <a:ext cx="2801880" cy="2613240"/>
          </a:xfrm>
          <a:prstGeom prst="rect">
            <a:avLst/>
          </a:prstGeom>
          <a:solidFill>
            <a:srgbClr val="ffff99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рганам местного самоуправления –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«ведомствен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413400" y="3435480"/>
            <a:ext cx="3108600" cy="2612880"/>
          </a:xfrm>
          <a:prstGeom prst="rect">
            <a:avLst/>
          </a:prstGeom>
          <a:solidFill>
            <a:srgbClr val="948a54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По муниципальным программам –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00"/>
                </a:solidFill>
                <a:latin typeface="Times New Roman"/>
              </a:rPr>
              <a:t>«программная» структура расход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9"/>
          <p:cNvSpPr/>
          <p:nvPr/>
        </p:nvSpPr>
        <p:spPr>
          <a:xfrm rot="7897200">
            <a:off x="1767600" y="2100600"/>
            <a:ext cx="1611360" cy="882720"/>
          </a:xfrm>
          <a:custGeom>
            <a:avLst/>
            <a:gdLst>
              <a:gd name="textAreaLeft" fmla="*/ 285120 w 1611360"/>
              <a:gd name="textAreaRight" fmla="*/ 1154520 w 16113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-1050565"/>
                <a:lnTo>
                  <a:pt x="19038" y="16129"/>
                </a:lnTo>
                <a:lnTo>
                  <a:pt x="17299" y="0"/>
                </a:lnTo>
                <a:lnTo>
                  <a:pt x="10436" y="16129"/>
                </a:lnTo>
                <a:lnTo>
                  <a:pt x="12738" y="16129"/>
                </a:lnTo>
                <a:arcTo wR="7650" hR="21600" stAng="4349435" swAng="721967"/>
                <a:lnTo>
                  <a:pt x="9649" y="20850"/>
                </a:lnTo>
                <a:arcTo wR="7650" hR="21600" stAng="5728598" swAng="5071402"/>
                <a:close/>
              </a:path>
              <a:path fill="darkenLess" w="21600" h="21600">
                <a:moveTo>
                  <a:pt x="0" y="0"/>
                </a:moveTo>
                <a:arcTo wR="7650" hR="21600" stAng="10800000" swAng="-5400000"/>
                <a:lnTo>
                  <a:pt x="11648" y="21600"/>
                </a:lnTo>
                <a:arcTo wR="7650" hR="21600" stAng="5400000" swAng="328598"/>
                <a:lnTo>
                  <a:pt x="9649" y="20850"/>
                </a:lnTo>
                <a:arcTo wR="7650" hR="21600" stAng="5728598" swAng="5071402"/>
                <a:close/>
              </a:path>
            </a:pathLst>
          </a:custGeom>
          <a:solidFill>
            <a:srgbClr val="ccffcc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"/>
          <p:cNvSpPr/>
          <p:nvPr/>
        </p:nvSpPr>
        <p:spPr>
          <a:xfrm rot="2313000">
            <a:off x="6381360" y="2165400"/>
            <a:ext cx="1701720" cy="609480"/>
          </a:xfrm>
          <a:custGeom>
            <a:avLst/>
            <a:gdLst>
              <a:gd name="textAreaLeft" fmla="*/ 312480 w 1701720"/>
              <a:gd name="textAreaRight" fmla="*/ 1238400 w 170172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39" hR="21600" stAng="10800000" swAng="5400000"/>
                <a:lnTo>
                  <a:pt x="11748" y="0"/>
                </a:lnTo>
                <a:arcTo wR="7939" hR="21600" stAng="-5400000" swAng="819454"/>
                <a:lnTo>
                  <a:pt x="18040" y="3582"/>
                </a:lnTo>
                <a:lnTo>
                  <a:pt x="17782" y="21600"/>
                </a:lnTo>
                <a:lnTo>
                  <a:pt x="10403" y="3582"/>
                </a:lnTo>
                <a:lnTo>
                  <a:pt x="12317" y="3582"/>
                </a:lnTo>
                <a:arcTo wR="7939" hR="21600" stAng="-4580546" swAng="-508080"/>
                <a:lnTo>
                  <a:pt x="9843" y="631"/>
                </a:lnTo>
                <a:arcTo wR="7939" hR="21600" stAng="-5711375" swAng="-5088625"/>
                <a:close/>
              </a:path>
              <a:path fill="darkenLess" w="21600" h="21600">
                <a:moveTo>
                  <a:pt x="0" y="21600"/>
                </a:moveTo>
                <a:arcTo wR="7939" hR="21600" stAng="10800000" swAng="5400000"/>
                <a:lnTo>
                  <a:pt x="7939" y="0"/>
                </a:lnTo>
                <a:arcTo wR="7939" hR="21600" stAng="-5400000" swAng="311375"/>
                <a:lnTo>
                  <a:pt x="9843" y="631"/>
                </a:lnTo>
                <a:arcTo wR="7939" hR="21600" stAng="-5711375" swAng="-5088625"/>
                <a:close/>
              </a:path>
            </a:pathLst>
          </a:custGeom>
          <a:solidFill>
            <a:srgbClr val="3366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"/>
          <p:cNvSpPr/>
          <p:nvPr/>
        </p:nvSpPr>
        <p:spPr>
          <a:xfrm>
            <a:off x="4543560" y="2860560"/>
            <a:ext cx="766800" cy="4921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158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5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5000" y="253800"/>
            <a:ext cx="8915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П «Развитие образования Ленского муниципального района» на 2021-2025 годы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95360" y="1193760"/>
          <a:ext cx="8153280" cy="5027760"/>
        </p:xfrm>
        <a:graphic>
          <a:graphicData uri="http://schemas.openxmlformats.org/drawingml/2006/table">
            <a:tbl>
              <a:tblPr/>
              <a:tblGrid>
                <a:gridCol w="2236680"/>
                <a:gridCol w="2309760"/>
                <a:gridCol w="1816200"/>
                <a:gridCol w="179064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8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9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0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школьно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01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484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393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е 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984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874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352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полнительное образование дет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3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386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лодёжная поли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0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5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7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ругие вопросы в области образов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09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04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399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храна семьи и дет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7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47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60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05" name="Номер слайда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4A57-4C04-4F89-85FC-E5333E544DA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C6FEB-5E6C-42B0-BAD7-A3AACC1B38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330120" y="228600"/>
            <a:ext cx="95760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</a:rPr>
              <a:t>МП«Развитие местного самоуправления в МО «Ленский муниципальный район» и поддержка социально ориентированных некоммерческих организаций» (2020 – 2024 год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55680" y="1622520"/>
            <a:ext cx="4584600" cy="20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5079960" y="1562040"/>
            <a:ext cx="441972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4927680" y="1270080"/>
            <a:ext cx="42768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Прямоугольник 9"/>
          <p:cNvSpPr/>
          <p:nvPr/>
        </p:nvSpPr>
        <p:spPr>
          <a:xfrm>
            <a:off x="317520" y="4255920"/>
            <a:ext cx="4000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ru-RU" sz="1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Скругленный прямоугольник 14"/>
          <p:cNvSpPr/>
          <p:nvPr/>
        </p:nvSpPr>
        <p:spPr>
          <a:xfrm>
            <a:off x="469800" y="1536840"/>
            <a:ext cx="3975120" cy="25905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Calibri"/>
              </a:rPr>
              <a:t>Старшее поколение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оплата проезда в общественном транспорт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- 16,1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- 20,1 тыс.рубл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Скругленный прямоугольник 15"/>
          <p:cNvSpPr/>
          <p:nvPr/>
        </p:nvSpPr>
        <p:spPr>
          <a:xfrm>
            <a:off x="673200" y="4356000"/>
            <a:ext cx="8915400" cy="2070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eeece1"/>
                </a:solidFill>
                <a:latin typeface="Times New Roman"/>
              </a:rPr>
              <a:t>Содействие развитию социально-ориентированных некоммерческих организаци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Times New Roman"/>
              </a:rPr>
              <a:t>2019 год- 53,4 тыс.рублей                                         2020 год- 200,9 тыс.рублей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Скругленный прямоугольник 16"/>
          <p:cNvSpPr/>
          <p:nvPr/>
        </p:nvSpPr>
        <p:spPr>
          <a:xfrm>
            <a:off x="4838760" y="1587600"/>
            <a:ext cx="4686120" cy="2438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ece1"/>
                </a:solidFill>
                <a:latin typeface="Calibri"/>
              </a:rPr>
              <a:t>Развитие территориального общественного самоуправл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19 год – 871,1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Calibri"/>
              </a:rPr>
              <a:t>2020 год – 1092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F895-907A-4C92-88D6-38B05ED0E76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385920"/>
            <a:ext cx="9139320" cy="13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alibri"/>
              </a:rPr>
              <a:t>МП"Профилактика безнадзорности и правонарушений несовершеннолетних на территории МО "Ленский муниципальный район" на 2020-2024 годы"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4940280" y="3900600"/>
            <a:ext cx="420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9                                   2020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50"/>
          <p:cNvSpPr/>
          <p:nvPr/>
        </p:nvSpPr>
        <p:spPr>
          <a:xfrm>
            <a:off x="193680" y="4005360"/>
            <a:ext cx="4251240" cy="10080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безнадзорности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несовершеннолетни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0"/>
          <p:cNvSpPr/>
          <p:nvPr/>
        </p:nvSpPr>
        <p:spPr>
          <a:xfrm>
            <a:off x="193680" y="5084640"/>
            <a:ext cx="4276800" cy="115092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илактика преступлений и иных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авонаруш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4546440" y="2182680"/>
            <a:ext cx="5067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1139,1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1211,2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16" descr="C:\Users\Кривошеина ТА\Desktop\038ec6fd924417e0a25450612295dfbc.jpg"/>
          <p:cNvPicPr/>
          <p:nvPr/>
        </p:nvPicPr>
        <p:blipFill>
          <a:blip r:embed="rId1"/>
          <a:stretch/>
        </p:blipFill>
        <p:spPr>
          <a:xfrm>
            <a:off x="406440" y="1790640"/>
            <a:ext cx="3200400" cy="201456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50"/>
          <p:cNvSpPr/>
          <p:nvPr/>
        </p:nvSpPr>
        <p:spPr>
          <a:xfrm>
            <a:off x="4943520" y="427212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50"/>
          <p:cNvSpPr/>
          <p:nvPr/>
        </p:nvSpPr>
        <p:spPr>
          <a:xfrm>
            <a:off x="7686720" y="428472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0"/>
          <p:cNvSpPr/>
          <p:nvPr/>
        </p:nvSpPr>
        <p:spPr>
          <a:xfrm>
            <a:off x="5006880" y="550404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0"/>
          <p:cNvSpPr/>
          <p:nvPr/>
        </p:nvSpPr>
        <p:spPr>
          <a:xfrm>
            <a:off x="7750080" y="5465880"/>
            <a:ext cx="117792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7000"/>
                            </p:stCondLst>
                            <p:childTnLst>
                              <p:par>
                                <p:cTn id="2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18680" y="151920"/>
            <a:ext cx="907596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МП «Развитие сферы культуры в Ленском район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4406760" y="4089240"/>
            <a:ext cx="387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2019                     20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50"/>
          <p:cNvSpPr/>
          <p:nvPr/>
        </p:nvSpPr>
        <p:spPr>
          <a:xfrm>
            <a:off x="279360" y="4483080"/>
            <a:ext cx="3784680" cy="5205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Библиотечное обслуживание населе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50"/>
          <p:cNvSpPr/>
          <p:nvPr/>
        </p:nvSpPr>
        <p:spPr>
          <a:xfrm>
            <a:off x="4344840" y="5118120"/>
            <a:ext cx="1243080" cy="4698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160,9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279360" y="5156280"/>
            <a:ext cx="383544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досуга, туристских  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культурно-развлекательных 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50"/>
          <p:cNvSpPr/>
          <p:nvPr/>
        </p:nvSpPr>
        <p:spPr>
          <a:xfrm>
            <a:off x="4383000" y="5803920"/>
            <a:ext cx="1204920" cy="4064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6703,2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0" y="2730600"/>
            <a:ext cx="32893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50"/>
          <p:cNvSpPr/>
          <p:nvPr/>
        </p:nvSpPr>
        <p:spPr>
          <a:xfrm>
            <a:off x="4356000" y="4521240"/>
            <a:ext cx="125748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6400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50"/>
          <p:cNvSpPr/>
          <p:nvPr/>
        </p:nvSpPr>
        <p:spPr>
          <a:xfrm>
            <a:off x="266760" y="5803920"/>
            <a:ext cx="3873600" cy="50796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я музейной деятель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50"/>
          <p:cNvSpPr/>
          <p:nvPr/>
        </p:nvSpPr>
        <p:spPr>
          <a:xfrm>
            <a:off x="6146640" y="513072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7708,3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6172200" y="5778360"/>
            <a:ext cx="1320840" cy="4194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7379,4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50"/>
          <p:cNvSpPr/>
          <p:nvPr/>
        </p:nvSpPr>
        <p:spPr>
          <a:xfrm>
            <a:off x="6146640" y="4559400"/>
            <a:ext cx="1320840" cy="419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6997,6 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0" y="2984400"/>
            <a:ext cx="97282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                        </a:t>
            </a: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9 год – 50,3 млн.руб.                      2020 год – 62,1 млн.руб.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4" descr="C:\Users\Кривошеина ТА\Desktop\vIHDxSdEAXw.jpg"/>
          <p:cNvPicPr/>
          <p:nvPr/>
        </p:nvPicPr>
        <p:blipFill>
          <a:blip r:embed="rId1"/>
          <a:stretch/>
        </p:blipFill>
        <p:spPr>
          <a:xfrm>
            <a:off x="4997520" y="806400"/>
            <a:ext cx="3938400" cy="2660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5" descr="C:\Users\Кривошеина ТА\Desktop\lhnWevnqSsc.jpg"/>
          <p:cNvPicPr/>
          <p:nvPr/>
        </p:nvPicPr>
        <p:blipFill>
          <a:blip r:embed="rId2"/>
          <a:stretch/>
        </p:blipFill>
        <p:spPr>
          <a:xfrm>
            <a:off x="380880" y="852480"/>
            <a:ext cx="3936960" cy="262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300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6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8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D12C-B8FC-4862-9B33-CA18378846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2"/>
          <p:cNvSpPr/>
          <p:nvPr/>
        </p:nvSpPr>
        <p:spPr>
          <a:xfrm>
            <a:off x="291960" y="380880"/>
            <a:ext cx="9283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МП"Развитие физической культуры, спорта, туризма, повышение эффективности реализации молодежной и семейной политики в МО "Ленский муниципальный район"( 2020-2024 годы)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3"/>
          <p:cNvSpPr/>
          <p:nvPr/>
        </p:nvSpPr>
        <p:spPr>
          <a:xfrm>
            <a:off x="5283360" y="825480"/>
            <a:ext cx="383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19 год – 4232,8 тыс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</a:rPr>
              <a:t>2020 год – 3992,0 тыс.руб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0"/>
          <p:cNvSpPr/>
          <p:nvPr/>
        </p:nvSpPr>
        <p:spPr>
          <a:xfrm>
            <a:off x="266760" y="4381560"/>
            <a:ext cx="4648320" cy="22222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рганизации и осуществлению 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1970,5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2011,7 тыс.руб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5003640" y="2616120"/>
            <a:ext cx="4470480" cy="22608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о выплате вознагражд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ffff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19 год – 91,3 тыс.руб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2020 год – 46,7 тыс.руб.</a:t>
            </a: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10" descr="C:\Users\Кривошеина ТА\Desktop\c3100801bdf72b9cacdbce370dbcd682.jpg"/>
          <p:cNvPicPr/>
          <p:nvPr/>
        </p:nvPicPr>
        <p:blipFill>
          <a:blip r:embed="rId1"/>
          <a:stretch/>
        </p:blipFill>
        <p:spPr>
          <a:xfrm>
            <a:off x="507960" y="1587600"/>
            <a:ext cx="3564000" cy="2361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1" descr="C:\Users\Кривошеина ТА\Desktop\087562b215bc504fc78dcc6a353109f1.jpg"/>
          <p:cNvPicPr/>
          <p:nvPr/>
        </p:nvPicPr>
        <p:blipFill>
          <a:blip r:embed="rId2"/>
          <a:stretch/>
        </p:blipFill>
        <p:spPr>
          <a:xfrm>
            <a:off x="5283360" y="4991040"/>
            <a:ext cx="3174840" cy="168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96880" y="352440"/>
            <a:ext cx="882648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в сфере экономики и ЖК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9E84-1F01-4890-909A-F8D9CB7A5CA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27"/>
          <p:cNvSpPr/>
          <p:nvPr/>
        </p:nvSpPr>
        <p:spPr>
          <a:xfrm>
            <a:off x="723960" y="1600200"/>
            <a:ext cx="8481960" cy="50292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Создание условий для развития сельского хозяй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в МО Ленский муниципальный район 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 малого и среднего предпринимательств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территории МО Ленский муниципальный райо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азвитие торговли на территор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 – 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-Ремонт и содержание сети автомобильных дорог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находящихся в собственн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МО Ленский муниципальный район на 2017-2023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D269A-B042-4087-AAF6-DA689847E83E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омер слайда 1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E814-0FF9-45DA-B7D2-026CA4934F0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0" y="372960"/>
            <a:ext cx="92073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"Создание условий для развития сельского хозяйства в  МО "Ленский муниципальный район" на 2017-2023 годы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3"/>
          <p:cNvSpPr/>
          <p:nvPr/>
        </p:nvSpPr>
        <p:spPr>
          <a:xfrm>
            <a:off x="3340080" y="647640"/>
            <a:ext cx="400068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19 год – 37,8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</a:rPr>
              <a:t>2020 год – 70,0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15"/>
          <p:cNvSpPr/>
          <p:nvPr/>
        </p:nvSpPr>
        <p:spPr>
          <a:xfrm>
            <a:off x="457200" y="3048120"/>
            <a:ext cx="916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17"/>
          <p:cNvSpPr/>
          <p:nvPr/>
        </p:nvSpPr>
        <p:spPr>
          <a:xfrm>
            <a:off x="4411800" y="3075120"/>
            <a:ext cx="190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Рисунок 14" descr="P1010120.JPG"/>
          <p:cNvPicPr/>
          <p:nvPr/>
        </p:nvPicPr>
        <p:blipFill>
          <a:blip r:embed="rId1"/>
          <a:stretch/>
        </p:blipFill>
        <p:spPr>
          <a:xfrm>
            <a:off x="5157720" y="2882880"/>
            <a:ext cx="4565880" cy="36576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C:\Users\Кривошеина ТА\Desktop\a62201df076239503ca81d33daa7559a.jpg"/>
          <p:cNvPicPr/>
          <p:nvPr/>
        </p:nvPicPr>
        <p:blipFill>
          <a:blip r:embed="rId2"/>
          <a:stretch/>
        </p:blipFill>
        <p:spPr>
          <a:xfrm>
            <a:off x="201600" y="2630520"/>
            <a:ext cx="5856480" cy="390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МП"Ремонт и содержание сети автомобильных дорог, находящихся в собственности МО "Ленский муниципальный район" на 2017-2023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589A-CE99-46C7-8F86-383110360D4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795840" y="4194000"/>
            <a:ext cx="5838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90440" y="1244520"/>
            <a:ext cx="920772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b050"/>
                </a:solidFill>
                <a:latin typeface="Times New Roman"/>
              </a:rPr>
              <a:t>2019 год – 57,1 млн.руб.                                     2020 год – 12,1 млн.руб. 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Box 9"/>
          <p:cNvSpPr/>
          <p:nvPr/>
        </p:nvSpPr>
        <p:spPr>
          <a:xfrm>
            <a:off x="241200" y="212076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одержание 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11"/>
          <p:cNvSpPr/>
          <p:nvPr/>
        </p:nvSpPr>
        <p:spPr>
          <a:xfrm flipH="1">
            <a:off x="4140360" y="5981760"/>
            <a:ext cx="52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Ремонт автомобильных доро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1" descr="C:\Users\Кривошеина ТА\Desktop\traktor(1).jpg"/>
          <p:cNvPicPr/>
          <p:nvPr/>
        </p:nvPicPr>
        <p:blipFill>
          <a:blip r:embed="rId1"/>
          <a:stretch/>
        </p:blipFill>
        <p:spPr>
          <a:xfrm>
            <a:off x="279360" y="2959200"/>
            <a:ext cx="3848040" cy="3670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:\Users\Кривошеина ТА\Desktop\12648.jpg"/>
          <p:cNvPicPr/>
          <p:nvPr/>
        </p:nvPicPr>
        <p:blipFill>
          <a:blip r:embed="rId2"/>
          <a:stretch/>
        </p:blipFill>
        <p:spPr>
          <a:xfrm>
            <a:off x="4165560" y="2133720"/>
            <a:ext cx="529596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82760" y="603000"/>
            <a:ext cx="913896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униципальная программа «Развитие торговли на территории МО «Ленский муниципальный район на 2017 – 2023 годы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0BF9-0BEF-4F63-A059-01B20C6E86A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50"/>
          <p:cNvSpPr/>
          <p:nvPr/>
        </p:nvSpPr>
        <p:spPr>
          <a:xfrm>
            <a:off x="190440" y="2451240"/>
            <a:ext cx="4826160" cy="26413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Доставка муки и лекарственных средств в районы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Крайнего Севера и приравненные к ним местн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с ограниченными сроками завоза груз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302,9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9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50"/>
          <p:cNvSpPr/>
          <p:nvPr/>
        </p:nvSpPr>
        <p:spPr>
          <a:xfrm>
            <a:off x="5354640" y="3772080"/>
            <a:ext cx="4361040" cy="23112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Осуществление государственных полномоч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ace0ea"/>
                </a:solidFill>
                <a:latin typeface="Times New Roman"/>
              </a:rPr>
              <a:t>по формированию торгового реестр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19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2020 год – 25,0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5284800" y="1704960"/>
            <a:ext cx="4329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327,9 тыс.рублей 2020 год – 473,5 тыс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2500"/>
                            </p:stCondLst>
                            <p:childTnLst>
                              <p:par>
                                <p:cTn id="3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45760" y="262080"/>
            <a:ext cx="880092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Муниципальные программы направленные на решение общегосударственных вопрос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D0D7-68AE-4185-AF36-E5DE97BADFD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619200" y="1511280"/>
            <a:ext cx="8880480" cy="504180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системы  муниципальной служ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и финансами  МО «Ленский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униципальный район» и муниципальным долгом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ffff"/>
                </a:solidFill>
                <a:latin typeface="Times New Roman"/>
              </a:rPr>
              <a:t>МО «Ленский муниципальный район" на 2018-2023 годы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вершенствование муниципального управл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в МО «Ленский муниципальный район»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на 2018-2023 г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9131-1889-4990-ABED-4EFA11617EB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5000" y="520560"/>
            <a:ext cx="9410760" cy="83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Расходы бюджета муниципального образования «Ленский муниципальный район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AutoShape 7"/>
          <p:cNvSpPr/>
          <p:nvPr/>
        </p:nvSpPr>
        <p:spPr>
          <a:xfrm>
            <a:off x="444600" y="1990800"/>
            <a:ext cx="6870600" cy="16794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19 год – 733546,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7"/>
          <p:cNvSpPr/>
          <p:nvPr/>
        </p:nvSpPr>
        <p:spPr>
          <a:xfrm>
            <a:off x="2857680" y="3908520"/>
            <a:ext cx="6476760" cy="1590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Times New Roman"/>
              </a:rPr>
              <a:t>2020 год – 727783,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7600" y="177480"/>
            <a:ext cx="9426600" cy="14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МП"Управление муниципальными финансами МО "Ленский муниципальный район" и муниципальным долгом МО "Ленский муниципальный район" на 2018-2023 годы"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3FE3-FE54-42E7-81D7-D0FAF0054A2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50"/>
          <p:cNvSpPr/>
          <p:nvPr/>
        </p:nvSpPr>
        <p:spPr>
          <a:xfrm>
            <a:off x="307800" y="1992240"/>
            <a:ext cx="5150160" cy="115272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Организация и обеспечение бюджетного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роцесса и развитие информационных сист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я финансами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5486400" y="1163520"/>
            <a:ext cx="4046400" cy="31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год – 20,03 млн.руб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20 год – 22,8 млн.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0"/>
          <p:cNvSpPr/>
          <p:nvPr/>
        </p:nvSpPr>
        <p:spPr>
          <a:xfrm>
            <a:off x="270000" y="3525840"/>
            <a:ext cx="5149800" cy="12240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Управление муниципальным дол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50"/>
          <p:cNvSpPr/>
          <p:nvPr/>
        </p:nvSpPr>
        <p:spPr>
          <a:xfrm>
            <a:off x="257040" y="5089680"/>
            <a:ext cx="5150160" cy="122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Поддержание устойчивого исполн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бюджетов  муниципальных образован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Ленского  райо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10" descr="C:\Users\Кривошеина ТА\Desktop\d5417b99-ad72-40d2-9.jpg"/>
          <p:cNvPicPr/>
          <p:nvPr/>
        </p:nvPicPr>
        <p:blipFill>
          <a:blip r:embed="rId1"/>
          <a:stretch/>
        </p:blipFill>
        <p:spPr>
          <a:xfrm>
            <a:off x="5486400" y="3441600"/>
            <a:ext cx="4156200" cy="280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0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500"/>
                            </p:stCondLst>
                            <p:childTnLst>
                              <p:par>
                                <p:cTn id="4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03F0-2022-4F39-ACE3-3C55A07A79EC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74188-4F82-4C55-96DF-694BAB83502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1"/>
          <p:cNvPicPr/>
          <p:nvPr/>
        </p:nvPicPr>
        <p:blipFill>
          <a:blip r:embed="rId1"/>
          <a:stretch/>
        </p:blipFill>
        <p:spPr>
          <a:xfrm>
            <a:off x="7107120" y="1163520"/>
            <a:ext cx="1560600" cy="107964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190" name="Picture 3" descr="pravo_bilboard"/>
          <p:cNvPicPr/>
          <p:nvPr/>
        </p:nvPicPr>
        <p:blipFill>
          <a:blip r:embed="rId2"/>
          <a:stretch/>
        </p:blipFill>
        <p:spPr>
          <a:xfrm>
            <a:off x="7772400" y="2095560"/>
            <a:ext cx="1854360" cy="965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56960"/>
            <a:ext cx="1016316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Осуществление государственных полномоч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AutoShape 50"/>
          <p:cNvSpPr/>
          <p:nvPr/>
        </p:nvSpPr>
        <p:spPr>
          <a:xfrm>
            <a:off x="193680" y="1484280"/>
            <a:ext cx="3260880" cy="3826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 сфере охраны тру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0"/>
          <p:cNvSpPr/>
          <p:nvPr/>
        </p:nvSpPr>
        <p:spPr>
          <a:xfrm>
            <a:off x="4033800" y="1473120"/>
            <a:ext cx="1008000" cy="38124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81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392800" y="1459080"/>
            <a:ext cx="995400" cy="4204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3470400" y="955800"/>
            <a:ext cx="34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2019       2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50"/>
          <p:cNvSpPr/>
          <p:nvPr/>
        </p:nvSpPr>
        <p:spPr>
          <a:xfrm>
            <a:off x="193680" y="1955880"/>
            <a:ext cx="3247920" cy="8762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созданию комиссий по делам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несовершеннолетних и защите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их пра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50"/>
          <p:cNvSpPr/>
          <p:nvPr/>
        </p:nvSpPr>
        <p:spPr>
          <a:xfrm>
            <a:off x="4071960" y="2130480"/>
            <a:ext cx="938160" cy="576360"/>
          </a:xfrm>
          <a:prstGeom prst="roundRect">
            <a:avLst>
              <a:gd name="adj" fmla="val 2988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25,9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5435640" y="2184480"/>
            <a:ext cx="1104840" cy="496800"/>
          </a:xfrm>
          <a:prstGeom prst="roundRect">
            <a:avLst>
              <a:gd name="adj" fmla="val 2944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193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0"/>
          <p:cNvSpPr/>
          <p:nvPr/>
        </p:nvSpPr>
        <p:spPr>
          <a:xfrm>
            <a:off x="206280" y="2933640"/>
            <a:ext cx="3197160" cy="81288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организации, осуществлению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деятельности по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пеке и попечительству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50"/>
          <p:cNvSpPr/>
          <p:nvPr/>
        </p:nvSpPr>
        <p:spPr>
          <a:xfrm>
            <a:off x="4071960" y="3097080"/>
            <a:ext cx="1046160" cy="719280"/>
          </a:xfrm>
          <a:prstGeom prst="roundRect">
            <a:avLst>
              <a:gd name="adj" fmla="val 21963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970,5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50"/>
          <p:cNvSpPr/>
          <p:nvPr/>
        </p:nvSpPr>
        <p:spPr>
          <a:xfrm>
            <a:off x="5524560" y="3124080"/>
            <a:ext cx="1054080" cy="641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011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50"/>
          <p:cNvSpPr/>
          <p:nvPr/>
        </p:nvSpPr>
        <p:spPr>
          <a:xfrm>
            <a:off x="206280" y="3873600"/>
            <a:ext cx="3210120" cy="1396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по регистрации и учёту граждан,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меющих право на получение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жилищных субсидий в связи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с переселением из районов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Крайнего Севера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0000"/>
                </a:solidFill>
                <a:latin typeface="Times New Roman"/>
              </a:rPr>
              <a:t>и приравненных к ним местностях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AutoShape 50"/>
          <p:cNvSpPr/>
          <p:nvPr/>
        </p:nvSpPr>
        <p:spPr>
          <a:xfrm>
            <a:off x="4148280" y="4108320"/>
            <a:ext cx="938160" cy="5652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AutoShape 50"/>
          <p:cNvSpPr/>
          <p:nvPr/>
        </p:nvSpPr>
        <p:spPr>
          <a:xfrm>
            <a:off x="5595840" y="4121280"/>
            <a:ext cx="938160" cy="5396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5,0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0"/>
          <p:cNvSpPr/>
          <p:nvPr/>
        </p:nvSpPr>
        <p:spPr>
          <a:xfrm>
            <a:off x="206280" y="6084720"/>
            <a:ext cx="3235320" cy="57636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ВСЕГ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50"/>
          <p:cNvSpPr/>
          <p:nvPr/>
        </p:nvSpPr>
        <p:spPr>
          <a:xfrm>
            <a:off x="3911760" y="6053040"/>
            <a:ext cx="116820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474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50"/>
          <p:cNvSpPr/>
          <p:nvPr/>
        </p:nvSpPr>
        <p:spPr>
          <a:xfrm>
            <a:off x="5483160" y="6040440"/>
            <a:ext cx="11206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548,2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50"/>
          <p:cNvSpPr/>
          <p:nvPr/>
        </p:nvSpPr>
        <p:spPr>
          <a:xfrm>
            <a:off x="244440" y="5334120"/>
            <a:ext cx="3247920" cy="6728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о выплате вознагражден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профессиональным опекуна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50"/>
          <p:cNvSpPr/>
          <p:nvPr/>
        </p:nvSpPr>
        <p:spPr>
          <a:xfrm>
            <a:off x="5570640" y="532440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6,7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32"/>
          <p:cNvSpPr/>
          <p:nvPr/>
        </p:nvSpPr>
        <p:spPr>
          <a:xfrm>
            <a:off x="27612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50"/>
          <p:cNvSpPr/>
          <p:nvPr/>
        </p:nvSpPr>
        <p:spPr>
          <a:xfrm>
            <a:off x="4071960" y="5375160"/>
            <a:ext cx="93816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91,3т.р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35" descr="Я сидела дома все три года, хотя время от времени мне давали знать, что неплохо было бы выйти на своё место.,Развивалки-после вы"/>
          <p:cNvPicPr/>
          <p:nvPr/>
        </p:nvPicPr>
        <p:blipFill>
          <a:blip r:embed="rId3"/>
          <a:stretch/>
        </p:blipFill>
        <p:spPr>
          <a:xfrm>
            <a:off x="7105680" y="2868480"/>
            <a:ext cx="1663560" cy="10432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13" name="Picture 36" descr="1"/>
          <p:cNvPicPr/>
          <p:nvPr/>
        </p:nvPicPr>
        <p:blipFill>
          <a:blip r:embed="rId4"/>
          <a:stretch/>
        </p:blipFill>
        <p:spPr>
          <a:xfrm>
            <a:off x="7873920" y="3665520"/>
            <a:ext cx="1841760" cy="104616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14" name="Picture 37" descr="a-nagrada.a5.ru"/>
          <p:cNvPicPr/>
          <p:nvPr/>
        </p:nvPicPr>
        <p:blipFill>
          <a:blip r:embed="rId5"/>
          <a:stretch/>
        </p:blipFill>
        <p:spPr>
          <a:xfrm>
            <a:off x="7149960" y="4546440"/>
            <a:ext cx="1600200" cy="113040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15" name="Picture 38" descr="i?id=88253289-65-72&amp;n=21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937640" y="5470560"/>
            <a:ext cx="1751040" cy="9046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1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500"/>
                            </p:stCondLst>
                            <p:childTnLst>
                              <p:par>
                                <p:cTn id="4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8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0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2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6500"/>
                            </p:stCondLst>
                            <p:childTnLst>
                              <p:par>
                                <p:cTn id="4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7500"/>
                            </p:stCondLst>
                            <p:childTnLst>
                              <p:par>
                                <p:cTn id="4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8500"/>
                            </p:stCondLst>
                            <p:childTnLst>
                              <p:par>
                                <p:cTn id="4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500"/>
                            </p:stCondLst>
                            <p:childTnLst>
                              <p:par>
                                <p:cTn id="4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77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5" dur="770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7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9" dur="77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11500"/>
                            </p:stCondLst>
                            <p:childTnLst>
                              <p:par>
                                <p:cTn id="4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12500"/>
                            </p:stCondLst>
                            <p:childTnLst>
                              <p:par>
                                <p:cTn id="4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3500"/>
                            </p:stCondLst>
                            <p:childTnLst>
                              <p:par>
                                <p:cTn id="5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77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770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14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6" dur="77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9500"/>
                            </p:stCondLst>
                            <p:childTnLst>
                              <p:par>
                                <p:cTn id="53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77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9" dur="770" fill="hold"/>
                                        <p:tgtEl>
                                          <p:spTgt spid="2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1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43" dur="77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1500"/>
                            </p:stCondLst>
                            <p:childTnLst>
                              <p:par>
                                <p:cTn id="54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35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24500"/>
                            </p:stCondLst>
                            <p:childTnLst>
                              <p:par>
                                <p:cTn id="5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26500"/>
                            </p:stCondLst>
                            <p:childTnLst>
                              <p:par>
                                <p:cTn id="5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77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6" dur="770" fill="hold"/>
                                        <p:tgtEl>
                                          <p:spTgt spid="2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8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0" dur="77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285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9500"/>
                            </p:stCondLst>
                            <p:childTnLst>
                              <p:par>
                                <p:cTn id="5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500"/>
                            </p:stCondLst>
                            <p:childTnLst>
                              <p:par>
                                <p:cTn id="5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31500"/>
                            </p:stCondLst>
                            <p:childTnLst>
                              <p:par>
                                <p:cTn id="6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AB8A-A824-4548-96F2-DC01A5716EE0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Object 4" descr=""/>
          <p:cNvPicPr/>
          <p:nvPr/>
        </p:nvPicPr>
        <p:blipFill>
          <a:blip r:embed="rId1"/>
          <a:stretch/>
        </p:blipFill>
        <p:spPr>
          <a:xfrm>
            <a:off x="4660920" y="219240"/>
            <a:ext cx="5549760" cy="2330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662040" y="1341360"/>
            <a:ext cx="319860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епрограммные расходы -1,3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662040" y="901800"/>
            <a:ext cx="39542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граммная часть бюджета –98,7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7"/>
          <p:cNvSpPr/>
          <p:nvPr/>
        </p:nvSpPr>
        <p:spPr>
          <a:xfrm flipH="1" flipV="1">
            <a:off x="4641480" y="1052640"/>
            <a:ext cx="7016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>
            <a:off x="3782880" y="1484280"/>
            <a:ext cx="33544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428760" y="376200"/>
            <a:ext cx="89024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Непрограммные расходы бюджета 2020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50"/>
          <p:cNvSpPr/>
          <p:nvPr/>
        </p:nvSpPr>
        <p:spPr>
          <a:xfrm>
            <a:off x="422280" y="1908000"/>
            <a:ext cx="55404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Собрания депута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777,8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50"/>
          <p:cNvSpPr/>
          <p:nvPr/>
        </p:nvSpPr>
        <p:spPr>
          <a:xfrm>
            <a:off x="831960" y="2844720"/>
            <a:ext cx="6319800" cy="86364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Обеспечение деятельности контрольно-счётной комисс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645,0 тыс.рублей        </a:t>
            </a:r>
            <a:r>
              <a:rPr b="1" lang="ru-RU" sz="1800" spc="-1" strike="noStrike">
                <a:solidFill>
                  <a:srgbClr val="00ffff"/>
                </a:solidFill>
                <a:latin typeface="Times New Roman"/>
              </a:rPr>
              <a:t>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50"/>
          <p:cNvSpPr/>
          <p:nvPr/>
        </p:nvSpPr>
        <p:spPr>
          <a:xfrm>
            <a:off x="1612800" y="3873600"/>
            <a:ext cx="6512040" cy="10414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Мероприятия  в сфере гражданской обороны 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чрезвычайных ситу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1130,7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50"/>
          <p:cNvSpPr/>
          <p:nvPr/>
        </p:nvSpPr>
        <p:spPr>
          <a:xfrm>
            <a:off x="2428920" y="5119560"/>
            <a:ext cx="6319800" cy="79236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Резервный фонд 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imes New Roman"/>
              </a:rPr>
              <a:t>893,5 тыс.рубле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5"/>
          <p:cNvSpPr/>
          <p:nvPr/>
        </p:nvSpPr>
        <p:spPr>
          <a:xfrm>
            <a:off x="403200" y="87948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0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3000"/>
                            </p:stCondLst>
                            <p:childTnLst>
                              <p:par>
                                <p:cTn id="6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3500"/>
                            </p:stCondLst>
                            <p:childTnLst>
                              <p:par>
                                <p:cTn id="6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23600" y="203040"/>
            <a:ext cx="8915400" cy="82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Дефицит бюджета 2020 го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3A1B-44C5-4CCB-AA0D-F2146A36196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3"/>
          <p:cNvSpPr/>
          <p:nvPr/>
        </p:nvSpPr>
        <p:spPr>
          <a:xfrm>
            <a:off x="4191120" y="2120760"/>
            <a:ext cx="1971720" cy="97488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974880"/>
              <a:gd name="textAreaBottom" fmla="*/ 975240 h 974880"/>
            </a:gdLst>
            <a:ahLst/>
            <a:rect l="textAreaLeft" t="textAreaTop" r="textAreaRight" b="textAreaBottom"/>
            <a:pathLst>
              <a:path w="174" h="95">
                <a:moveTo>
                  <a:pt x="174" y="95"/>
                </a:moveTo>
                <a:cubicBezTo>
                  <a:pt x="174" y="61"/>
                  <a:pt x="164" y="28"/>
                  <a:pt x="145" y="0"/>
                </a:cubicBezTo>
                <a:lnTo>
                  <a:pt x="0" y="95"/>
                </a:lnTo>
                <a:lnTo>
                  <a:pt x="174" y="95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4"/>
          <p:cNvSpPr/>
          <p:nvPr/>
        </p:nvSpPr>
        <p:spPr>
          <a:xfrm>
            <a:off x="4205160" y="3225960"/>
            <a:ext cx="1973520" cy="934920"/>
          </a:xfrm>
          <a:custGeom>
            <a:avLst/>
            <a:gdLst>
              <a:gd name="textAreaLeft" fmla="*/ 0 w 1973520"/>
              <a:gd name="textAreaRight" fmla="*/ 1973880 w 197352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74" h="91">
                <a:moveTo>
                  <a:pt x="147" y="91"/>
                </a:moveTo>
                <a:cubicBezTo>
                  <a:pt x="164" y="64"/>
                  <a:pt x="174" y="32"/>
                  <a:pt x="174" y="0"/>
                </a:cubicBezTo>
                <a:lnTo>
                  <a:pt x="0" y="0"/>
                </a:lnTo>
                <a:lnTo>
                  <a:pt x="147" y="91"/>
                </a:lnTo>
                <a:close/>
              </a:path>
            </a:pathLst>
          </a:custGeom>
          <a:solidFill>
            <a:srgbClr val="3ae2f4"/>
          </a:solidFill>
          <a:ln w="11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5"/>
          <p:cNvSpPr/>
          <p:nvPr/>
        </p:nvSpPr>
        <p:spPr>
          <a:xfrm>
            <a:off x="1884240" y="1214280"/>
            <a:ext cx="3638520" cy="3943440"/>
          </a:xfrm>
          <a:custGeom>
            <a:avLst/>
            <a:gdLst>
              <a:gd name="textAreaLeft" fmla="*/ 0 w 3638520"/>
              <a:gd name="textAreaRight" fmla="*/ 3638880 w 3638520"/>
              <a:gd name="textAreaTop" fmla="*/ 0 h 3943440"/>
              <a:gd name="textAreaBottom" fmla="*/ 3943800 h 3943440"/>
            </a:gdLst>
            <a:ahLst/>
            <a:rect l="textAreaLeft" t="textAreaTop" r="textAreaRight" b="textAreaBottom"/>
            <a:pathLst>
              <a:path w="321" h="348">
                <a:moveTo>
                  <a:pt x="319" y="79"/>
                </a:moveTo>
                <a:cubicBezTo>
                  <a:pt x="287" y="29"/>
                  <a:pt x="232" y="0"/>
                  <a:pt x="174" y="0"/>
                </a:cubicBezTo>
                <a:cubicBezTo>
                  <a:pt x="77" y="0"/>
                  <a:pt x="0" y="77"/>
                  <a:pt x="0" y="174"/>
                </a:cubicBezTo>
                <a:cubicBezTo>
                  <a:pt x="0" y="270"/>
                  <a:pt x="77" y="348"/>
                  <a:pt x="174" y="348"/>
                </a:cubicBezTo>
                <a:cubicBezTo>
                  <a:pt x="234" y="347"/>
                  <a:pt x="290" y="316"/>
                  <a:pt x="321" y="265"/>
                </a:cubicBezTo>
                <a:lnTo>
                  <a:pt x="174" y="174"/>
                </a:lnTo>
                <a:lnTo>
                  <a:pt x="319" y="79"/>
                </a:lnTo>
                <a:close/>
              </a:path>
            </a:pathLst>
          </a:custGeom>
          <a:solidFill>
            <a:srgbClr val="e46c0a"/>
          </a:solidFill>
          <a:ln w="11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6"/>
          <p:cNvSpPr/>
          <p:nvPr/>
        </p:nvSpPr>
        <p:spPr>
          <a:xfrm>
            <a:off x="209520" y="5121360"/>
            <a:ext cx="1951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Рас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27,8 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0" y="762120"/>
            <a:ext cx="2338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Доход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6092"/>
                </a:solidFill>
                <a:latin typeface="Times New Roman"/>
                <a:ea typeface="Times New Roman"/>
              </a:rPr>
              <a:t>734,6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7023240" y="1647720"/>
            <a:ext cx="1847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фици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,3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186520" y="3583080"/>
            <a:ext cx="471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ивлечение кредитов бан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0,3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4938840" y="5165640"/>
            <a:ext cx="471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Возврат кредит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0,3 м.р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7037E-007 L -0.09704 -0.00185 E">
                                      <p:cBhvr>
                                        <p:cTn id="661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fill="hold">
                            <p:stCondLst>
                              <p:cond delay="3000"/>
                            </p:stCondLst>
                            <p:childTnLst>
                              <p:par>
                                <p:cTn id="6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5000"/>
                            </p:stCondLst>
                            <p:childTnLst>
                              <p:par>
                                <p:cTn id="6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000"/>
                            </p:stCondLst>
                            <p:childTnLst>
                              <p:par>
                                <p:cTn id="6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680" dur="2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9000"/>
                            </p:stCondLst>
                            <p:childTnLst>
                              <p:par>
                                <p:cTn id="6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3073 4.44444E-006 L -1.66667E-006 4.44444E-006 E">
                                      <p:cBhvr>
                                        <p:cTn id="686" dur="2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4440" y="674640"/>
            <a:ext cx="93013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сточники финансирования дефицита бюдже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74200" y="852120"/>
            <a:ext cx="8915400" cy="8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5978A-FBEF-46E7-8AA5-1948A0C1F38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4"/>
          <p:cNvSpPr/>
          <p:nvPr/>
        </p:nvSpPr>
        <p:spPr>
          <a:xfrm>
            <a:off x="341280" y="876240"/>
            <a:ext cx="9204480" cy="0"/>
          </a:xfrm>
          <a:prstGeom prst="line">
            <a:avLst/>
          </a:prstGeom>
          <a:ln w="475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1317600" y="1984320"/>
            <a:ext cx="7224840" cy="360360"/>
          </a:xfrm>
          <a:prstGeom prst="rect">
            <a:avLst/>
          </a:prstGeom>
          <a:solidFill>
            <a:srgbClr val="99ccff"/>
          </a:solidFill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Источники финансирования дефицита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627120" y="2938320"/>
            <a:ext cx="220968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е займы,</a:t>
            </a: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 осуществляемые путем выпуска муниципальных ценных бумаг от имен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046320" y="2921040"/>
            <a:ext cx="1954440" cy="1695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2060"/>
                </a:solidFill>
                <a:uFillTx/>
                <a:latin typeface="Times New Roman"/>
              </a:rPr>
              <a:t>бюджетные кредиты,</a:t>
            </a:r>
            <a:r>
              <a:rPr b="0" lang="ru-RU" sz="1400" spc="-1" strike="noStrike">
                <a:solidFill>
                  <a:srgbClr val="002060"/>
                </a:solidFill>
                <a:latin typeface="Times New Roman"/>
              </a:rPr>
              <a:t> полученные от бюджетов других уровней бюджетной системы Р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5119560" y="2919240"/>
            <a:ext cx="1992600" cy="168624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558ed5"/>
                </a:solidFill>
                <a:uFillTx/>
                <a:latin typeface="Times New Roman"/>
              </a:rPr>
              <a:t>креди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Times New Roman"/>
              </a:rPr>
              <a:t>полученные от кредитных организац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7253280" y="2909880"/>
            <a:ext cx="1982880" cy="1695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2060"/>
                </a:solidFill>
                <a:uFillTx/>
                <a:latin typeface="Times New Roman"/>
              </a:rPr>
              <a:t>изменение остатков средст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а счетах по учету средств местного бюдже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0"/>
          <p:cNvSpPr/>
          <p:nvPr/>
        </p:nvSpPr>
        <p:spPr>
          <a:xfrm>
            <a:off x="4941720" y="2327400"/>
            <a:ext cx="11160" cy="3538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1"/>
          <p:cNvSpPr/>
          <p:nvPr/>
        </p:nvSpPr>
        <p:spPr>
          <a:xfrm>
            <a:off x="1724040" y="269712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Line 12"/>
          <p:cNvSpPr/>
          <p:nvPr/>
        </p:nvSpPr>
        <p:spPr>
          <a:xfrm>
            <a:off x="4048200" y="270036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3"/>
          <p:cNvSpPr/>
          <p:nvPr/>
        </p:nvSpPr>
        <p:spPr>
          <a:xfrm>
            <a:off x="6093000" y="2690640"/>
            <a:ext cx="0" cy="24480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14"/>
          <p:cNvSpPr/>
          <p:nvPr/>
        </p:nvSpPr>
        <p:spPr>
          <a:xfrm>
            <a:off x="8205840" y="2689200"/>
            <a:ext cx="0" cy="24444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15"/>
          <p:cNvSpPr/>
          <p:nvPr/>
        </p:nvSpPr>
        <p:spPr>
          <a:xfrm>
            <a:off x="1731960" y="2689200"/>
            <a:ext cx="6488280" cy="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16"/>
          <p:cNvSpPr/>
          <p:nvPr/>
        </p:nvSpPr>
        <p:spPr>
          <a:xfrm flipV="1">
            <a:off x="284040" y="5049360"/>
            <a:ext cx="6880320" cy="19080"/>
          </a:xfrm>
          <a:prstGeom prst="line">
            <a:avLst/>
          </a:prstGeom>
          <a:ln w="158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7"/>
          <p:cNvSpPr/>
          <p:nvPr/>
        </p:nvSpPr>
        <p:spPr>
          <a:xfrm flipV="1">
            <a:off x="291960" y="469548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Line 18"/>
          <p:cNvSpPr/>
          <p:nvPr/>
        </p:nvSpPr>
        <p:spPr>
          <a:xfrm flipV="1">
            <a:off x="7153200" y="4684320"/>
            <a:ext cx="0" cy="360360"/>
          </a:xfrm>
          <a:prstGeom prst="line">
            <a:avLst/>
          </a:prstGeom>
          <a:ln w="15840">
            <a:solidFill>
              <a:srgbClr val="3366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9"/>
          <p:cNvSpPr/>
          <p:nvPr/>
        </p:nvSpPr>
        <p:spPr>
          <a:xfrm>
            <a:off x="1814400" y="5315040"/>
            <a:ext cx="3044880" cy="915840"/>
          </a:xfrm>
          <a:prstGeom prst="rect">
            <a:avLst/>
          </a:prstGeom>
          <a:solidFill>
            <a:srgbClr val="ffccff"/>
          </a:solidFill>
          <a:ln w="158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70c0"/>
                </a:solidFill>
                <a:uFillTx/>
                <a:latin typeface="Times New Roman"/>
              </a:rPr>
              <a:t>муниципальный долг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Times New Roman"/>
              </a:rPr>
              <a:t>то есть совокупность долговых обязательств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00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3000"/>
                            </p:stCondLst>
                            <p:childTnLst>
                              <p:par>
                                <p:cTn id="7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50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4000"/>
                            </p:stCondLst>
                            <p:childTnLst>
                              <p:par>
                                <p:cTn id="7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45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5500"/>
                            </p:stCondLst>
                            <p:childTnLst>
                              <p:par>
                                <p:cTn id="7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6000"/>
                            </p:stCondLst>
                            <p:childTnLst>
                              <p:par>
                                <p:cTn id="7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8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7000"/>
                            </p:stCondLst>
                            <p:childTnLst>
                              <p:par>
                                <p:cTn id="7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7500"/>
                            </p:stCondLst>
                            <p:childTnLst>
                              <p:par>
                                <p:cTn id="7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8500"/>
                            </p:stCondLst>
                            <p:childTnLst>
                              <p:par>
                                <p:cTn id="7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9000"/>
                            </p:stCondLst>
                            <p:childTnLst>
                              <p:par>
                                <p:cTn id="7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7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4D03-D337-4C5B-86C8-3A49FE7078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омер слайда 2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2"/>
          <p:cNvSpPr/>
          <p:nvPr/>
        </p:nvSpPr>
        <p:spPr>
          <a:xfrm rot="16200000">
            <a:off x="979560" y="1932120"/>
            <a:ext cx="3222720" cy="302256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02.09.2020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6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2535120" y="1197000"/>
            <a:ext cx="57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</a:rPr>
              <a:t>На 01.01.2021 – 17,0 млн. руб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477720" y="316080"/>
            <a:ext cx="841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Муниципальный долг Ленского райо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6" descr=""/>
          <p:cNvPicPr/>
          <p:nvPr/>
        </p:nvPicPr>
        <p:blipFill>
          <a:blip r:embed="rId1"/>
          <a:stretch/>
        </p:blipFill>
        <p:spPr>
          <a:xfrm>
            <a:off x="1930320" y="3759120"/>
            <a:ext cx="1397160" cy="85428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2"/>
          <p:cNvSpPr/>
          <p:nvPr/>
        </p:nvSpPr>
        <p:spPr>
          <a:xfrm rot="16200000">
            <a:off x="5297400" y="2769840"/>
            <a:ext cx="3095640" cy="297180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Кредит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догов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Arial"/>
              </a:rPr>
              <a:t>11.12.2020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6.4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6" descr=""/>
          <p:cNvPicPr/>
          <p:nvPr/>
        </p:nvPicPr>
        <p:blipFill>
          <a:blip r:embed="rId2"/>
          <a:stretch/>
        </p:blipFill>
        <p:spPr>
          <a:xfrm>
            <a:off x="6197760" y="4457880"/>
            <a:ext cx="1460520" cy="89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76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7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7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7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0"/>
                            </p:stCondLst>
                            <p:childTnLst>
                              <p:par>
                                <p:cTn id="7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320" y="517320"/>
            <a:ext cx="8915400" cy="61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Информация для контакт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23440" y="1166760"/>
            <a:ext cx="891540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698480" indent="-13446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Финансовый отдел Администрации муниципального образования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 algn="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76092"/>
                </a:solidFill>
                <a:latin typeface="Calibri"/>
              </a:rPr>
              <a:t>«Ленский муниципальный райо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6578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рхангельская область, Ленский район, село Яренск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ул. Братьев Покровских, дом</a:t>
            </a:r>
            <a:r>
              <a:rPr b="1" lang="ru-RU" sz="2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19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Телефон:  8 (81859) 5-24-09, факс: 8 (81859) 5-25-28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76092"/>
                </a:solidFill>
                <a:latin typeface="Calibri"/>
              </a:rPr>
              <a:t>адрес электронной почты: </a:t>
            </a:r>
            <a:r>
              <a:rPr b="0" lang="en-US" sz="2600" spc="-1" strike="noStrike">
                <a:solidFill>
                  <a:srgbClr val="376092"/>
                </a:solidFill>
                <a:latin typeface="Calibri"/>
              </a:rPr>
              <a:t>feuyarensk@yandex.r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698480" indent="-13446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EE8D-8B0A-4A76-817F-3B6C6171D9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000"/>
                            </p:stCondLst>
                            <p:childTnLst>
                              <p:par>
                                <p:cTn id="7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000"/>
                            </p:stCondLst>
                            <p:childTnLst>
                              <p:par>
                                <p:cTn id="8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500"/>
                            </p:stCondLst>
                            <p:childTnLst>
                              <p:par>
                                <p:cTn id="8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3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38472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725DB-200E-4115-918C-ADBE5E0E1ED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Номер слайда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914400" y="1257480"/>
          <a:ext cx="8026560" cy="5391000"/>
        </p:xfrm>
        <a:graphic>
          <a:graphicData uri="http://schemas.openxmlformats.org/drawingml/2006/table">
            <a:tbl>
              <a:tblPr/>
              <a:tblGrid>
                <a:gridCol w="4470480"/>
                <a:gridCol w="1765080"/>
                <a:gridCol w="179100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2020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(отчет)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РАСХОДЫ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3354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72778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8219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4954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Национальн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95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06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33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39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524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63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0181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2106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Охрана окружающей сре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75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9441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2329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Культура и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5062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2158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905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765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403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78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Обслуживание муниципального дол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78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618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  <a:ea typeface="Times New Roman"/>
                        </a:rPr>
                        <a:t>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891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e1c11"/>
                          </a:solidFill>
                          <a:latin typeface="Times New Roman"/>
                        </a:rPr>
                        <a:t>1440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29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траслевая структура расходов районного бюдж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91960"/>
            <a:ext cx="8915400" cy="5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циальная сфе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Диаграмма 4" descr=""/>
          <p:cNvPicPr/>
          <p:nvPr/>
        </p:nvPicPr>
        <p:blipFill>
          <a:blip r:embed="rId1"/>
          <a:stretch/>
        </p:blipFill>
        <p:spPr>
          <a:xfrm>
            <a:off x="444600" y="876240"/>
            <a:ext cx="9347040" cy="5840640"/>
          </a:xfrm>
          <a:prstGeom prst="rect">
            <a:avLst/>
          </a:prstGeom>
          <a:ln w="0">
            <a:noFill/>
          </a:ln>
        </p:spPr>
      </p:pic>
      <p:sp>
        <p:nvSpPr>
          <p:cNvPr id="70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E6D8-65AC-4332-951F-B022EE7F4C9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7920" y="152280"/>
            <a:ext cx="8915400" cy="4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ГОСУДАРСТВЕННЫЕ РАСХО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Диаграмма 4"/>
          <p:cNvGraphicFramePr/>
          <p:nvPr/>
        </p:nvGraphicFramePr>
        <p:xfrm>
          <a:off x="317520" y="571680"/>
          <a:ext cx="7910640" cy="6235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Диаграмма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571680"/>
                    <a:ext cx="7910640" cy="62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6EA4-4FBD-4226-9D9E-ED0F94AFAC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720" y="259920"/>
            <a:ext cx="8915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29927-E5BC-4501-8E70-D68DB5D057C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27"/>
          <p:cNvSpPr/>
          <p:nvPr/>
        </p:nvSpPr>
        <p:spPr>
          <a:xfrm>
            <a:off x="396720" y="3517920"/>
            <a:ext cx="3942000" cy="19447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направленные на реш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общегосударственных во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7"/>
          <p:cNvSpPr/>
          <p:nvPr/>
        </p:nvSpPr>
        <p:spPr>
          <a:xfrm>
            <a:off x="1974960" y="1996920"/>
            <a:ext cx="6318000" cy="100836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социальной направлен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27"/>
          <p:cNvSpPr/>
          <p:nvPr/>
        </p:nvSpPr>
        <p:spPr>
          <a:xfrm>
            <a:off x="5513400" y="3517920"/>
            <a:ext cx="3944880" cy="1957320"/>
          </a:xfrm>
          <a:prstGeom prst="roundRect">
            <a:avLst>
              <a:gd name="adj" fmla="val 16667"/>
            </a:avLst>
          </a:prstGeom>
          <a:solidFill>
            <a:srgbClr val="376092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imes New Roman"/>
              </a:rPr>
              <a:t>Программы </a:t>
            </a: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imes New Roman"/>
              </a:rPr>
              <a:t>в сфере экономики и ЖК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6"/>
          <p:cNvSpPr/>
          <p:nvPr/>
        </p:nvSpPr>
        <p:spPr>
          <a:xfrm flipH="1">
            <a:off x="1228680" y="1174680"/>
            <a:ext cx="87624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130720" y="1162080"/>
            <a:ext cx="12960" cy="63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8"/>
          <p:cNvSpPr/>
          <p:nvPr/>
        </p:nvSpPr>
        <p:spPr>
          <a:xfrm>
            <a:off x="8271000" y="1154160"/>
            <a:ext cx="711000" cy="20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7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8000"/>
                            </p:stCondLst>
                            <p:childTnLst>
                              <p:par>
                                <p:cTn id="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9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186840"/>
            <a:ext cx="8915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eece1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оциальной направленнос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938AF-D528-4CF2-BCD0-CB3086AD5B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028C-8E6F-4867-9AA0-B933BAD0BCE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7"/>
          <p:cNvSpPr/>
          <p:nvPr/>
        </p:nvSpPr>
        <p:spPr>
          <a:xfrm>
            <a:off x="888840" y="1473120"/>
            <a:ext cx="8801280" cy="5207040"/>
          </a:xfrm>
          <a:prstGeom prst="roundRect">
            <a:avLst>
              <a:gd name="adj" fmla="val 16667"/>
            </a:avLst>
          </a:prstGeom>
          <a:solidFill>
            <a:srgbClr val="4f81bd">
              <a:alpha val="9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образования Ленского  муниципального района на 2021-2025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азвитие местного самоуправления в МО «Ленский муниципальный район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и поддержка социально ориентированных некоммерческих организаци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 – 2024 годы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Развитие сферы культуры МО «Ленский муниципальный район» на 2018-2023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Обеспечение качественным, доступным жильем и объектам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жилищно-коммунального хозяйства населения Ленского  района на 2021-2025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-Профилактика безнадзорности и правонарушений несовершеннолетни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00"/>
                </a:solidFill>
                <a:uFillTx/>
                <a:latin typeface="Times New Roman"/>
              </a:rPr>
              <a:t>на территории МО Ленский муниципальный район на 2020-2024 год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-Развитие физической культуры, спорта, туризма, повышение эффективност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реализации молодежной и семейной политики в МО Ленский муниципальный райо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2020-2024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2135-3F6B-4715-954E-85096769C37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50"/>
          <p:cNvSpPr/>
          <p:nvPr/>
        </p:nvSpPr>
        <p:spPr>
          <a:xfrm>
            <a:off x="254160" y="1353960"/>
            <a:ext cx="5101920" cy="4240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ация общеобразовательных програм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172200" y="1003320"/>
            <a:ext cx="35053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19 год – 498,0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2020 год – 534,3 млн.руб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76092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50"/>
          <p:cNvSpPr/>
          <p:nvPr/>
        </p:nvSpPr>
        <p:spPr>
          <a:xfrm>
            <a:off x="219240" y="1905120"/>
            <a:ext cx="5149800" cy="122688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Компенсация родительской платы за присмотр и ухо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за ребёнком в образовательных  организациях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реализующих образовательную программу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дошкольного образован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50"/>
          <p:cNvSpPr/>
          <p:nvPr/>
        </p:nvSpPr>
        <p:spPr>
          <a:xfrm>
            <a:off x="231840" y="3322800"/>
            <a:ext cx="5149800" cy="1020600"/>
          </a:xfrm>
          <a:prstGeom prst="roundRect">
            <a:avLst>
              <a:gd name="adj" fmla="val 16667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Обеспечение предоставления жилых помещений детям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иротам и детям, оставшимся без попечения родителей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лицам из их числа по договорам найм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пециализированных жилых помещени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0"/>
          <p:cNvSpPr/>
          <p:nvPr/>
        </p:nvSpPr>
        <p:spPr>
          <a:xfrm>
            <a:off x="254160" y="4495680"/>
            <a:ext cx="5178240" cy="44460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Мероприятия по оздоровлению дете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241200" y="195120"/>
            <a:ext cx="933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МП«Развитие образования Ленского муниципального района на2021-2025 г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/>
          <p:cNvSpPr/>
          <p:nvPr/>
        </p:nvSpPr>
        <p:spPr>
          <a:xfrm>
            <a:off x="228600" y="5118120"/>
            <a:ext cx="5178600" cy="533520"/>
          </a:xfrm>
          <a:prstGeom prst="roundRect">
            <a:avLst>
              <a:gd name="adj" fmla="val 23486"/>
            </a:avLst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Совершенствование системы выявления и развит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</a:rPr>
              <a:t>талантов дет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2" descr="C:\Users\Кривошеина ТА\Desktop\SgGeJRKnDE0.jpg"/>
          <p:cNvPicPr/>
          <p:nvPr/>
        </p:nvPicPr>
        <p:blipFill>
          <a:blip r:embed="rId1"/>
          <a:stretch/>
        </p:blipFill>
        <p:spPr>
          <a:xfrm>
            <a:off x="5514840" y="2575080"/>
            <a:ext cx="4175280" cy="346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Расходы на дополнительное образование детей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 34486,3 тыс. рублей </a:t>
            </a:r>
            <a:br>
              <a:rPr sz="16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9500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035320" y="160020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176B-C3AA-415A-BEE4-4322241F6D8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8" descr="C:\Users\Кривошеина ТА\Desktop\PS7KbDjUJyA.jpg"/>
          <p:cNvPicPr/>
          <p:nvPr/>
        </p:nvPicPr>
        <p:blipFill>
          <a:blip r:embed="rId1"/>
          <a:stretch/>
        </p:blipFill>
        <p:spPr>
          <a:xfrm>
            <a:off x="444600" y="1246320"/>
            <a:ext cx="4209840" cy="25779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C:\Users\Кривошеина ТА\Desktop\lxl0m_NDoq0.jpg"/>
          <p:cNvPicPr/>
          <p:nvPr/>
        </p:nvPicPr>
        <p:blipFill>
          <a:blip r:embed="rId2"/>
          <a:stretch/>
        </p:blipFill>
        <p:spPr>
          <a:xfrm>
            <a:off x="4923000" y="1905120"/>
            <a:ext cx="4538520" cy="3441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C:\Users\Кривошеина ТА\Desktop\MdsffFgJ1b8.jpg"/>
          <p:cNvPicPr/>
          <p:nvPr/>
        </p:nvPicPr>
        <p:blipFill>
          <a:blip r:embed="rId3"/>
          <a:stretch/>
        </p:blipFill>
        <p:spPr>
          <a:xfrm>
            <a:off x="444600" y="4038480"/>
            <a:ext cx="4222800" cy="2374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3T10:56:41Z</dcterms:created>
  <dc:creator>user</dc:creator>
  <dc:description/>
  <dc:language>en-US</dc:language>
  <cp:lastModifiedBy>Шумихина Т.Ю.</cp:lastModifiedBy>
  <dcterms:modified xsi:type="dcterms:W3CDTF">2021-04-02T12:39:05Z</dcterms:modified>
  <cp:revision>1438</cp:revision>
  <dc:subject/>
  <dc:title>Бюджет для граждан на 2014 год</dc:title>
</cp:coreProperties>
</file>