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6F7-B39E-4C20-82AB-2094AD4A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E93-0BD4-4A77-BA21-F1C4ABB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384E-A262-4476-AC1C-12D3423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5957-E7E4-4582-9B2D-9B771762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6320-CE3D-446F-AED2-A376E8C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0D66-FB69-4C06-9BB4-942DE96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A9DF0-BC28-44F7-B765-EB561F0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867B9-52A4-492F-87FC-C7CBE8C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A2FD8-C93D-4F5A-B440-7076BD7B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ABD3B-FACC-415B-8871-14BCE24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B2E1B-0546-4732-893F-E1937B00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2297A-879C-49AB-A425-78218074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3E4-693E-4850-ABBE-DB38013B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17AD-CEC6-4558-9963-2D5937F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F95E-1960-4B76-B6B7-94708A1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CCAF6-AEB7-4B86-9948-DA5803A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5BBCA-CEB6-4339-BB9A-DBC258E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119A-DF0A-4F68-A7FB-ED08F2C6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B0AA-CA15-4A9D-BB6B-90AAC70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8B4A0-F990-488C-B96A-F14810A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C2C3A-92C9-4E0A-ADEE-6525C28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50211-E1DA-47FF-BB20-A292727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FB29-8D16-440B-8A6E-15FDEBC5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07C-5EC1-4BC5-A0C4-93073738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19285-31E8-45D8-A3BD-1A8CE1AB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63BA8-EA0E-447D-834F-33EC9658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9FA1-5D2A-48C1-B242-CBC6E96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C247-7D12-4BA5-A95F-6A8BBC1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FE789-F856-4C25-90D8-AB41E08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40367-3AB5-490B-BD03-F37A7E63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59587-9A3A-47EA-A7C4-41C02E1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6A80-3DFC-470E-B37B-2D1105E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CBB39-DB90-4AD1-BF72-9AE8142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765B7-2C5B-41CD-B325-FECB149D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A11A-D00B-4ACF-920C-9F9E5DBB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ABC6C-6C8E-41B0-82AC-CF165B4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C743B-D71C-4FCD-B55D-04F169B4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C88F3-8DAD-4F14-86BD-49F01AD7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77DFD-7455-4049-AD44-E45EC737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3F8CE-7AB7-4CEA-9322-DD80E462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182C4-5024-418A-A1FF-50745B9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47710-4448-4863-A837-862ABA0C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03FFE-D574-4E8B-ADF6-BFE0117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55C5-F9BC-42DA-8BEE-120304C9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A5540-B0A8-47C9-886F-B4D2757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292D-486E-48C2-8644-2B061BC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AEDB6-6CC7-4A3B-B5F5-605D58E5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3E560-8CE6-4889-B8F2-5C3563F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E0D4C-110E-4D40-B28B-AFD71015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33EF9-E509-4C56-9E6D-7506F11A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D37C5-635C-4EFB-A622-709F3E2B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BE7E9-39F2-4A2A-81D1-DFD08ED6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4D636-9F3F-4E1C-B9C8-B29E811A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FC20A-12D0-40CE-B9CC-E57733A1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591CE-6E92-4024-924C-46883A3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D9B2E-B093-4F0B-9755-F6863F2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17D-DEA0-4D9F-B116-9D2E6BB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B7737-EAAB-4321-85A1-DE8D357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41594-2F34-4F02-861D-0D03D3E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A8ABE-B516-4968-98FA-DB562D3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D842D-81E2-461D-87B3-10440C7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AD6D2-4098-433D-B6FC-88824DA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13E12-1C7F-4097-9DAF-BF093C53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86204-2DC7-4BDD-BF8F-9E4AFAB9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4E956-7170-4DAC-9348-FAE2DCC0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E51A3-9D45-4A5F-8A7A-6035C26F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6A58-CDDD-43BE-8D33-7FD6B442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271-8BF6-4145-8D70-1C778A1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723A4-DC1B-49C7-B049-97AC171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51FBB-99C1-4F11-8F1F-A9182FC6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0C25C-B410-4DAD-903A-0006E9E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240BE-2A29-4E0E-B1C3-E7237D7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92793-128C-4EF7-BB26-0E12BB6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FA030-C289-474C-AD4E-09169F1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BCE2B-A768-47E3-81B7-E69EEF8D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28A4D-DF5F-4156-A617-8E3E4663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D02F8-2069-4380-9230-1F538CD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5F981-8A6C-48F1-B5EE-B7804CFB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220-E784-4CE8-9DFB-8E1783B2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57CCB-D038-41B0-B4AC-80C7D94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B3C81-FF48-4D90-9FCB-012033D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AB3F1-590E-47A9-861B-974DC176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7984E-5FFF-4652-8505-B875E53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CBE65-1DF3-42FF-A628-A95EF303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6AF81-E7E5-4316-90D3-CF9CF5BE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F5BB2-9A11-4AEB-B417-0F458ED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CB333-B4AC-4113-8E99-02971F4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72510-E0C1-4179-B9A3-8BD388F4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A3C0B-4542-4AD1-9CC9-69CB0BDB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EF76-3EBA-49AF-BBB2-F701068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61668-338D-4B35-8DB1-0ADC36B4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1A8-A509-4440-9E6A-E48BBF8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668-76DC-4DF1-811D-5C8425E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22F5-E093-4BB2-83E6-6533AD0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A24-5C59-4D09-9093-945AA48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A78-2C61-4C40-ABB8-9CE4C29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66C-D643-4136-BDB8-F5F357B2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A761-041A-4370-BA82-45E95905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D9B2-700B-49EE-84BA-9437435F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5E56-2BDB-42E8-B03D-D5E9687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7247-5AE8-4355-B7D4-00FABF46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0AA5-3032-4DAB-AEEF-F9979D8B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7F3F-4D35-4C1C-AC69-00731038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E4F-BB43-4F2C-92C2-983B2A5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A0FA-6F87-48ED-B024-108FDA0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BC4F-BFC0-4E76-8CE8-EE45383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4CB3-B3F5-4240-8C64-DEAF84A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A4C3-C18D-4E1D-A70E-71B98A1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FB5B-F77B-4847-97B7-1BCC8B6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1B6C-19BB-4689-A899-17E88FA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BFDD-E705-4DCC-BBE6-D038A2E2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D86C-C085-4472-B100-1D355226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5DEA-CC73-43B8-9A11-01266CA3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43C0-B8DD-4302-BD47-CFA0D7A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97C-DF25-48B8-833C-C6FFD46D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948F-5F8F-4F6F-9701-9B4D12E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AC68-B401-4B6C-B11A-01FA564A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A4D9-C251-4790-B891-2553E38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7321-2B43-4E1A-A1D6-3A5FE25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2F5D-8283-418C-8773-451E11D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8070-D453-46D0-AB41-58D93F9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B1AC-A4CF-40DB-90C6-1E25FCB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20A8-B29E-4A95-9A5F-47D7316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B5F7-9FE1-4608-AF56-341FE035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C996-D876-4A4A-AC1E-874D6560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5F6-021D-43D7-A121-E527087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FD63-CA54-45CD-BEF0-7D2B20D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0C1C-B30F-4CCD-9881-43DBD3B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50EB-2593-44F8-AB49-0723CE7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700D-A9E1-4F08-8B60-9746A398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5A2E-4C3E-4316-B0A6-54F0284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222A-5DCD-4E23-AA08-26D287B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6FFF-ECA7-4108-9F21-17CFCA2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ECFA-CD43-4AB3-B90A-8EF0224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3C10-20AE-4A4C-A8A7-43D1419E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0121-42B7-4569-A957-A82A6363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BE4-3AAF-4FDD-8F94-875C331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8986-95E9-4E72-9D90-38651BCF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4D86-3EDD-4D8E-996A-C19B2146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06A2-D117-4D65-A3E8-4C6CB5C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BE28-651C-420D-9A66-169F64BF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9FFE6-0BC3-4E7C-8DDB-9C8E4E5B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8DF61-72B8-4871-B077-77686BA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A3ED-ABF8-428A-BDE2-497EDF8F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816D0-CFBC-4258-A7CA-AFDC01D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46B69-78C4-4B88-8119-F6E9C47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2C16D-ADD9-4898-8A4D-24877B7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5A8-ED18-491D-BDD5-4186C6F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AD5A-8FB2-403B-8592-719E204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B3E9-0C38-4CB8-8E41-4BDDB496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44DD-CA2A-4E69-BF65-B7FB9989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1B98-4CCB-4165-AA52-97AC8D48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AE7E-A7C2-43D2-B9A1-9427B6D2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F77E-EE64-4BBE-8700-71117B37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335F1-9F4A-4B52-A4AD-F0E4411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9569-3729-4D3E-9DBC-008AFA2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D16F-726C-4A11-810F-AFED626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4339-26E7-46D2-B7F8-DC6E37A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85B-A127-4C73-96AF-C747C9F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FAD6-FE3F-46A1-8BA3-676063B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EBF0-A03E-4797-A953-15908AC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3AF5E-8E97-442F-B677-D9253818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A13B3-16A3-4C35-B8C6-77CDF5D4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0B8B-57E2-4064-9CCA-25306BA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A7088-1604-4040-84EC-8A93F60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E3EE-DBF9-4B9F-B793-B6310CB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A439-762E-4C5D-93B4-3CEEBF26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2798-3005-4638-8A0C-53C0CBE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6A0B7-69A3-4477-9F94-FA449D2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46F-F23B-4B72-963B-1533C98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F28C-32F8-40C0-B34C-24D7AB2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9EC8-49C0-4D65-9F8F-3DC2981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AF72-BB08-442A-AF3B-FC3B448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D01B-7AE2-4FCF-B0C0-744F11F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E3E1C-3ED0-4CB6-AC4E-F766345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79CF2-D16F-47BD-AE15-2436BADE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C92BF-BADD-4F75-A407-1DB1CAE3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C08D8-A997-40AC-8ED2-EB8A479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BEEA-62AF-4A1D-8A06-9066149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6502-1833-49C7-A54F-DCD02419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E0B6-B3F9-4EFF-B225-4B1930BDBEC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3E0-8299-409D-BBCF-400C8417A2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175F-E294-4572-B77C-89AAF6B5BD0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E23-3FE5-4E3C-A59D-AB4A281210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C7F9-4D69-4C39-A11F-41180340AE2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2F0-13EF-4F74-A1AB-4F285935FF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7CA-FD00-4536-BADA-BAA4151C16E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8D0-A4E1-417F-92DC-B88099CF1B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8F06-6ED7-4864-A21C-5A3E380D362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BD9-14F9-4903-A2BA-8C378DA951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A0B-D2FF-4055-BC6E-44F016D7875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A72-7CC1-4A9D-8143-DD34822FCB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D81-1518-4178-B5DD-AFBC22F8984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C93-D0F6-49FC-ACFA-290086356F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764-B424-432E-9766-B4A58C98717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389-DEDA-4334-BEE4-AEE69E7058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8E5F-01AC-44DA-AF1D-6AD76B82882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885-277C-4A6B-A757-B568393830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917-110D-411D-B6FD-123CF996768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B12B-A2E9-4C68-81A1-1BA50A2160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53E-5035-44DA-83F4-61E1791194C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9DC-637C-4C60-A9E1-2C2CCFD5E1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723-1CA5-4B90-B087-995FD1CF6E4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7E7-4DB5-4B05-99C0-B278896561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1F9-4D61-4EB8-8B58-AADEB6292EA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2B9-9F88-4800-9EBE-D8290D1886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A51D-9A0E-4E48-BC58-ED933CAD4B9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44A-8A58-42CF-A362-509F340F09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3755-8590-4AEA-90EB-26848B8B57F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18C-79A7-423B-B9F6-41DB4814E7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20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140F-FF1C-4378-BE40-B44724387D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3464-C81C-4A34-9682-57DDF44017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) поддержание сбалансированности бюджета  МО «Ленский муниципальный район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при планировании «консервативного»( базового) варианта прогноза социально-экономического развития МО «Ленский муниципальны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овышение эффективности расх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E20F-6B54-4447-AC8A-49571E4467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C50-F882-457F-BD44-E467D52EF0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F21-93CE-4ECA-B1FF-1F7A8E1B0D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 012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 147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 73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 546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 496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9 33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1 533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 349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 598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18F3-005C-46AD-AC1B-E3C865D044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3DC-B6F1-4CCE-9F88-594A7D8CD3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8 – 2022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1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4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75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1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0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9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78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087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569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36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908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086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46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92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22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56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89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E7BE-34EA-4C0E-84CC-720976DA57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92D-3830-4203-AA7B-CF3E5347A2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19-2022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8200" y="1292400"/>
          <a:ext cx="9180720" cy="562284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 0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 1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 73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 7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4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2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97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8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 2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8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1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9 3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1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 57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7 2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3 5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 4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9 3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5 6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7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0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 5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6 3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 5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 8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5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5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8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5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8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08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4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35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2 6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7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8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4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60C-4D83-46C3-B112-E04B73DBAC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32E-BB64-4846-BABC-82419A1399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012-B1EB-4C70-AF28-3E62CB28A1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717F-4E7E-4A4A-8FEC-78FAD18927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6" name="Object 4"/>
          <p:cNvGraphicFramePr/>
          <p:nvPr/>
        </p:nvGraphicFramePr>
        <p:xfrm>
          <a:off x="685800" y="1824120"/>
          <a:ext cx="6931080" cy="35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4120"/>
                    <a:ext cx="693108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4E61-60E1-4BEA-B42B-B045C3CA50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365-A8D9-4E9C-BE2E-7659E0ADED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0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8E28-6D5F-48C0-B8DA-2F312A56D8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CA7D-E478-41A9-B68F-B8402C5FA0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8-2021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5" name="Object 6"/>
          <p:cNvGraphicFramePr/>
          <p:nvPr/>
        </p:nvGraphicFramePr>
        <p:xfrm>
          <a:off x="496800" y="1008000"/>
          <a:ext cx="92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008000"/>
                    <a:ext cx="9217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D6B-EA6A-4945-89C7-FFE82ADDD5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4A0-D98E-4E24-9591-0A4B04AAB8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 1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1 8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 5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7 4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1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0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3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68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9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9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79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6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6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4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 8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23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5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7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26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2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9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4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B4E-D19A-4827-8FB8-B3C364A51E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AA6-9C34-434C-A0A5-A3194B9EEB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906-AA53-4070-BDFC-8ADFF8FC50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07A-8E3F-47D2-B9EF-AA6DF2E197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4" name="Object 4"/>
          <p:cNvGraphicFramePr/>
          <p:nvPr/>
        </p:nvGraphicFramePr>
        <p:xfrm>
          <a:off x="466560" y="1677960"/>
          <a:ext cx="89632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7960"/>
                    <a:ext cx="89632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7F8-B270-4CA0-BA3B-74146F61C4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7C3-ECFF-476B-9862-972CF43A78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378000" y="1249200"/>
          <a:ext cx="93614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49200"/>
                    <a:ext cx="93614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F3E-3034-43D5-A38C-C5A6406125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C03E-F05A-4F68-9220-CAA6264953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A97-563F-4610-9537-48F38E7EDE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5A0F-B1C8-45EA-B075-8B30F60ECB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85" name="Object 4"/>
          <p:cNvGraphicFramePr/>
          <p:nvPr/>
        </p:nvGraphicFramePr>
        <p:xfrm>
          <a:off x="276120" y="1523880"/>
          <a:ext cx="918684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91868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660-99EF-4EA8-90A4-A567CFAD09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323C-97EE-4DC9-9B10-16B2705972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609,3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9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8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0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560,1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29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2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645,6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67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27"/>
          <p:cNvSpPr/>
          <p:nvPr/>
        </p:nvSpPr>
        <p:spPr>
          <a:xfrm>
            <a:off x="674532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7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20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0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8.12.2019 г. № 75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20E-FC4C-4441-92F9-321C02B87B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1A7-D616-4D8A-AC5B-051483D811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06CE-60C0-4B9E-96F6-090BEDBE6E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1A0-6B11-4067-A82A-786B411DD2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981A-A2ED-4FB7-951D-5D4D4D9543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C90-1F11-4402-A3E5-1D76784FB8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A2B-D4B2-4C28-920B-1432781364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32D-007C-436C-A2B4-F5F139DC0F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1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 17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320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 916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 598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678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4 645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 4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35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728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8E6-1108-4D91-9F56-2694CAEEA1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65E9-93F2-4B54-A39E-D5F26B531A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20-06-25T09:35:52Z</dcterms:modified>
  <cp:revision>947</cp:revision>
  <dc:subject/>
  <dc:title>Бюджет для граждан на 2014 год</dc:title>
</cp:coreProperties>
</file>