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wmf" ContentType="image/x-wmf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907588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9840" y="741240"/>
            <a:ext cx="5335560" cy="369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3240"/>
            <a:ext cx="5389560" cy="44337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BCF8-D9DE-4674-A75B-EEAEEDDD48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00200" y="741240"/>
            <a:ext cx="5335560" cy="3694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2840" y="4683240"/>
            <a:ext cx="538956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6AC6-762E-4D3A-9209-A8F0C0720D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736-57D3-490F-95A1-8C13428E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5A6-2E76-4290-BC85-920900B1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83E8-5F74-40F9-9E59-4D91A57D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1A5-B56D-49D2-BA5B-F61207A7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4ACD-04E5-4E78-BFFA-BE502816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2AA-9A18-4314-A49A-30DF8F17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D6F6-4915-46A7-9941-AC96D5E0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392C-2223-4D1E-87E8-C0F9BB44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B19-810A-4618-B402-9FCB75B1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9D24-5268-4B6C-B100-D815B9F7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C170-58E8-4DA2-820A-ED75ADDE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823-605D-45F6-8A9D-CFC4DA93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17DC-C11E-4774-8D24-D8D30025D08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E87B-8B1D-4D1B-81D9-11F64175B9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hyperlink" Target="http://images.yandex.ru/yandsearch?source=wiz&amp;fp=0&amp;img_url=http%3A%2F%2Fwww.bbc.co.uk%2Fradio4%2Fwomanshour%2Fmedia%2Fcarer_sized.jpg&amp;text=&#1086;&#1087;&#1077;&#1082;&#1072;%20&#1085;&#1072;&#1076;%20&#1089;&#1086;&#1074;&#1077;&#1088;&#1096;&#1077;&#1085;&#1085;&#1086;&#1083;&#1077;&#1090;&#1085;&#1080;&#1084;&#1080;%20&#1085;&#1077;&#1076;&#1077;&#1077;&#1089;&#1087;&#1086;&#1089;&#1086;&#1073;&#1085;&#1099;&#1084;&#1080;%20&#1074;%20&#1082;&#1072;&#1088;&#1090;&#1080;&#1085;&#1082;&#1072;&#1093;&amp;noreask=1&amp;pos=17&amp;lr=20&amp;rpt=simage&amp;nojs=1" TargetMode="External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43080"/>
            <a:ext cx="8915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сходы районного бюдж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5000" y="922320"/>
            <a:ext cx="89154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91919"/>
                </a:solidFill>
                <a:latin typeface="Calibri"/>
              </a:rPr>
              <a:t>Расходы бюджета – выплачиваемые из бюджета  денежные средства, за исключением   средств, являющихся источниками финансирования дефицита бюджет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9D7B-E068-416B-9BDC-C3D6E3692A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C97B-861F-4374-B00D-D6F2B22920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287280" y="977760"/>
            <a:ext cx="9204480" cy="0"/>
          </a:xfrm>
          <a:prstGeom prst="line">
            <a:avLst/>
          </a:prstGeom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3782880" y="169704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пределение расходов в районном бюдж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6600" y="3386160"/>
            <a:ext cx="2801880" cy="2612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функциям местного самоуправления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отраслев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414600" y="3425760"/>
            <a:ext cx="2801880" cy="26132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органам местного самоуправления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ведомственн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413400" y="3435480"/>
            <a:ext cx="3108600" cy="2612880"/>
          </a:xfrm>
          <a:prstGeom prst="rect">
            <a:avLst/>
          </a:prstGeom>
          <a:solidFill>
            <a:srgbClr val="948a54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По муниципальным программам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«программн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9"/>
          <p:cNvSpPr/>
          <p:nvPr/>
        </p:nvSpPr>
        <p:spPr>
          <a:xfrm rot="7897200">
            <a:off x="1767600" y="2100600"/>
            <a:ext cx="1611360" cy="88272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720"/>
              <a:gd name="textAreaBottom" fmla="*/ 76464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"/>
          <p:cNvSpPr/>
          <p:nvPr/>
        </p:nvSpPr>
        <p:spPr>
          <a:xfrm rot="2313000">
            <a:off x="6381360" y="21654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4543560" y="286056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253800"/>
            <a:ext cx="8915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П «Развитие образования Ленского муниципального района» на 2015-2020 год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95360" y="1193760"/>
          <a:ext cx="9067680" cy="5027760"/>
        </p:xfrm>
        <a:graphic>
          <a:graphicData uri="http://schemas.openxmlformats.org/drawingml/2006/table">
            <a:tbl>
              <a:tblPr/>
              <a:tblGrid>
                <a:gridCol w="2236680"/>
                <a:gridCol w="1866960"/>
                <a:gridCol w="1882800"/>
                <a:gridCol w="1539720"/>
                <a:gridCol w="154152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школьное 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50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1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4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84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е 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1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8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87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231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е образование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9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5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3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94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дёжная поли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9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опросы в области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88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9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4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6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храна семьи и дет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7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7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7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8" name="Номер слайда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12FA-7D80-4A5D-8316-08CC6772DB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64A6-D544-4F3D-ADAB-47B8EC3EF2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150C-73D2-4AF5-BCE4-A10E3F1693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30120" y="228600"/>
            <a:ext cx="95760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</a:rPr>
              <a:t>МП«Развитие местного самоуправления в МО «Ленский муниципальный район» и поддержка социально ориентированных некоммерческих организаций» (2020 – 2024 годы)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355680" y="1622520"/>
            <a:ext cx="4584600" cy="20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5079960" y="1562040"/>
            <a:ext cx="441972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927680" y="1270080"/>
            <a:ext cx="4276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9"/>
          <p:cNvSpPr/>
          <p:nvPr/>
        </p:nvSpPr>
        <p:spPr>
          <a:xfrm>
            <a:off x="317520" y="4255920"/>
            <a:ext cx="400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Скругленный прямоугольник 14"/>
          <p:cNvSpPr/>
          <p:nvPr/>
        </p:nvSpPr>
        <p:spPr>
          <a:xfrm>
            <a:off x="469800" y="1536840"/>
            <a:ext cx="3975120" cy="2590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eece1"/>
                </a:solidFill>
                <a:latin typeface="Calibri"/>
              </a:rPr>
              <a:t>Старшее покол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оплата проезда в общественном транспор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2018 год- 35,4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2019 год- 16,1 тыс.рубл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2020 год- 44,3 тыс.рубл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Скругленный прямоугольник 15"/>
          <p:cNvSpPr/>
          <p:nvPr/>
        </p:nvSpPr>
        <p:spPr>
          <a:xfrm>
            <a:off x="673200" y="4356000"/>
            <a:ext cx="8915400" cy="2070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eece1"/>
                </a:solidFill>
                <a:latin typeface="Times New Roman"/>
              </a:rPr>
              <a:t>Содействие развитию социально-ориентированных некоммерческих организац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2018 год- 10,0 тыс.рублей                                         2019 год- 53,4 тыс.рублей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2020 год- 95,0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Скругленный прямоугольник 16"/>
          <p:cNvSpPr/>
          <p:nvPr/>
        </p:nvSpPr>
        <p:spPr>
          <a:xfrm>
            <a:off x="4838760" y="1587600"/>
            <a:ext cx="4686120" cy="2438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Calibri"/>
              </a:rPr>
              <a:t>Развитие территориального общественного самоупра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2018 год – 615,5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2019 год – 871,1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2020 год – 1092,8 тыс.рублей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75C6-E39D-4314-BDE3-5F2AC3A0EC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2F81-B36D-4F68-A748-9118EC1F17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216000" y="406440"/>
            <a:ext cx="89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П Устойчивое развитие сельских территорий  МО «Ленский муниципальный район»на 2017-2020 г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5"/>
          <p:cNvSpPr/>
          <p:nvPr/>
        </p:nvSpPr>
        <p:spPr>
          <a:xfrm>
            <a:off x="177840" y="142236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8 год -  2039,6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9 год – 3240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Рисунок 11" descr="P1010125.JPG"/>
          <p:cNvPicPr/>
          <p:nvPr/>
        </p:nvPicPr>
        <p:blipFill>
          <a:blip r:embed="rId1"/>
          <a:stretch/>
        </p:blipFill>
        <p:spPr>
          <a:xfrm>
            <a:off x="190440" y="3213000"/>
            <a:ext cx="4030560" cy="302256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с двумя скругленными противолежащими углами 9"/>
          <p:cNvSpPr/>
          <p:nvPr/>
        </p:nvSpPr>
        <p:spPr>
          <a:xfrm>
            <a:off x="4508640" y="1612800"/>
            <a:ext cx="5041800" cy="22734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Calibri"/>
              </a:rPr>
              <a:t>Улучшение жилищных условий граждан, проживающих в сельской мест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2019 год – 2058,8 тыс.рублей      в.т.ч. из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-федерального бюджета-1141,5   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-областного бюджета- 781,6 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-местного бюджета – 135,7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с двумя скругленными противолежащими углами 11"/>
          <p:cNvSpPr/>
          <p:nvPr/>
        </p:nvSpPr>
        <p:spPr>
          <a:xfrm>
            <a:off x="4521240" y="4114800"/>
            <a:ext cx="5016600" cy="24512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Обеспечение жильем молодых семей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молодых специалистов, проживающи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в сельской местности</a:t>
            </a:r>
            <a:br>
              <a:rPr sz="1200"/>
            </a:b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2019 год – 1181,2   тыс.рублей      в.т.ч. из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-федерального бюджета- 654,9 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-областного бюджета- 448,4 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-местного бюджета – 77,8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08C7-3A00-4012-B483-0923D76B77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385920"/>
            <a:ext cx="9139320" cy="13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МП"Профилактика безнадзорности и правонарушений несовершеннолетних на территории МО "Ленский муниципальный район" на 2020-2024 годы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4802040" y="3900600"/>
            <a:ext cx="49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8                   2019                   2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50"/>
          <p:cNvSpPr/>
          <p:nvPr/>
        </p:nvSpPr>
        <p:spPr>
          <a:xfrm>
            <a:off x="193680" y="4005360"/>
            <a:ext cx="4251240" cy="1008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илактика безнадзорности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авонаруш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несовершеннолет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50"/>
          <p:cNvSpPr/>
          <p:nvPr/>
        </p:nvSpPr>
        <p:spPr>
          <a:xfrm>
            <a:off x="193680" y="5084640"/>
            <a:ext cx="4276800" cy="11509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илактика преступлений и и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авонаруш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4546440" y="2182680"/>
            <a:ext cx="50673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8 год – 1009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9 год – 1139,1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20 год –  1239,8 тыс. 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C:\Users\Кривошеина ТА\Desktop\038ec6fd924417e0a25450612295dfbc.jpg"/>
          <p:cNvPicPr/>
          <p:nvPr/>
        </p:nvPicPr>
        <p:blipFill>
          <a:blip r:embed="rId1"/>
          <a:stretch/>
        </p:blipFill>
        <p:spPr>
          <a:xfrm>
            <a:off x="406440" y="1790640"/>
            <a:ext cx="3200400" cy="20145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50"/>
          <p:cNvSpPr/>
          <p:nvPr/>
        </p:nvSpPr>
        <p:spPr>
          <a:xfrm>
            <a:off x="8562960" y="4297320"/>
            <a:ext cx="1177920" cy="7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193,5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0"/>
          <p:cNvSpPr/>
          <p:nvPr/>
        </p:nvSpPr>
        <p:spPr>
          <a:xfrm>
            <a:off x="4943520" y="4272120"/>
            <a:ext cx="117792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99,0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50"/>
          <p:cNvSpPr/>
          <p:nvPr/>
        </p:nvSpPr>
        <p:spPr>
          <a:xfrm>
            <a:off x="6772320" y="4297320"/>
            <a:ext cx="1177920" cy="7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125,9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50"/>
          <p:cNvSpPr/>
          <p:nvPr/>
        </p:nvSpPr>
        <p:spPr>
          <a:xfrm>
            <a:off x="8537400" y="5478480"/>
            <a:ext cx="1178280" cy="7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6,3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50"/>
          <p:cNvSpPr/>
          <p:nvPr/>
        </p:nvSpPr>
        <p:spPr>
          <a:xfrm>
            <a:off x="5006880" y="5504040"/>
            <a:ext cx="117792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50"/>
          <p:cNvSpPr/>
          <p:nvPr/>
        </p:nvSpPr>
        <p:spPr>
          <a:xfrm>
            <a:off x="6810480" y="5516640"/>
            <a:ext cx="117792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3,2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9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8680" y="151920"/>
            <a:ext cx="907596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МП «Развитие сферы культуры в Ленском районе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305240" y="408924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8                     2019                     2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0"/>
          <p:cNvSpPr/>
          <p:nvPr/>
        </p:nvSpPr>
        <p:spPr>
          <a:xfrm>
            <a:off x="279360" y="4483080"/>
            <a:ext cx="3784680" cy="5205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Библиотечное обслуживание нас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50"/>
          <p:cNvSpPr/>
          <p:nvPr/>
        </p:nvSpPr>
        <p:spPr>
          <a:xfrm>
            <a:off x="7886880" y="4546440"/>
            <a:ext cx="1296720" cy="4446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5383,2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50"/>
          <p:cNvSpPr/>
          <p:nvPr/>
        </p:nvSpPr>
        <p:spPr>
          <a:xfrm>
            <a:off x="4344840" y="5118120"/>
            <a:ext cx="1243080" cy="469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6585,5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50"/>
          <p:cNvSpPr/>
          <p:nvPr/>
        </p:nvSpPr>
        <p:spPr>
          <a:xfrm>
            <a:off x="279360" y="5156280"/>
            <a:ext cx="3835440" cy="5079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я досуга, туристских 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культурно-развлекательных 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50"/>
          <p:cNvSpPr/>
          <p:nvPr/>
        </p:nvSpPr>
        <p:spPr>
          <a:xfrm>
            <a:off x="7896240" y="5803920"/>
            <a:ext cx="1312920" cy="406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6790,1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50"/>
          <p:cNvSpPr/>
          <p:nvPr/>
        </p:nvSpPr>
        <p:spPr>
          <a:xfrm>
            <a:off x="4383000" y="5803920"/>
            <a:ext cx="1204920" cy="406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682,3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0" y="2730600"/>
            <a:ext cx="328932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50"/>
          <p:cNvSpPr/>
          <p:nvPr/>
        </p:nvSpPr>
        <p:spPr>
          <a:xfrm>
            <a:off x="7877160" y="5181480"/>
            <a:ext cx="1325520" cy="393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6682,1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50"/>
          <p:cNvSpPr/>
          <p:nvPr/>
        </p:nvSpPr>
        <p:spPr>
          <a:xfrm>
            <a:off x="4356000" y="4521240"/>
            <a:ext cx="1257480" cy="41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3217,3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50"/>
          <p:cNvSpPr/>
          <p:nvPr/>
        </p:nvSpPr>
        <p:spPr>
          <a:xfrm>
            <a:off x="266760" y="5803920"/>
            <a:ext cx="3873600" cy="5079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я музейной дея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50"/>
          <p:cNvSpPr/>
          <p:nvPr/>
        </p:nvSpPr>
        <p:spPr>
          <a:xfrm>
            <a:off x="6146640" y="5130720"/>
            <a:ext cx="1320840" cy="41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7160,9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50"/>
          <p:cNvSpPr/>
          <p:nvPr/>
        </p:nvSpPr>
        <p:spPr>
          <a:xfrm>
            <a:off x="6172200" y="5778360"/>
            <a:ext cx="1320840" cy="41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6703,2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50"/>
          <p:cNvSpPr/>
          <p:nvPr/>
        </p:nvSpPr>
        <p:spPr>
          <a:xfrm>
            <a:off x="6146640" y="4559400"/>
            <a:ext cx="1320840" cy="41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6400,6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0" y="2984400"/>
            <a:ext cx="97282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</a:rPr>
              <a:t>2018 год – 45,5 млн.руб.   2019 год – 50,3 млн.руб.    2020 год – 48,8 млн.руб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4" descr="C:\Users\Кривошеина ТА\Desktop\vIHDxSdEAXw.jpg"/>
          <p:cNvPicPr/>
          <p:nvPr/>
        </p:nvPicPr>
        <p:blipFill>
          <a:blip r:embed="rId1"/>
          <a:stretch/>
        </p:blipFill>
        <p:spPr>
          <a:xfrm>
            <a:off x="4997520" y="806400"/>
            <a:ext cx="3938400" cy="2660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5" descr="C:\Users\Кривошеина ТА\Desktop\lhnWevnqSsc.jpg"/>
          <p:cNvPicPr/>
          <p:nvPr/>
        </p:nvPicPr>
        <p:blipFill>
          <a:blip r:embed="rId2"/>
          <a:stretch/>
        </p:blipFill>
        <p:spPr>
          <a:xfrm>
            <a:off x="380880" y="852480"/>
            <a:ext cx="3936960" cy="26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80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9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00AB-0FDC-4ED8-8848-FC478910A9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4DEE-CFFB-460E-8FD3-ACB9E7A4C4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"/>
          <p:cNvSpPr/>
          <p:nvPr/>
        </p:nvSpPr>
        <p:spPr>
          <a:xfrm>
            <a:off x="291960" y="380880"/>
            <a:ext cx="928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П"Развитие физической культуры, спорта, туризма, повышение эффективности реализации молодежной и семейной политики в МО "Ленский муниципальный район"( 2020-2024 годы)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3"/>
          <p:cNvSpPr/>
          <p:nvPr/>
        </p:nvSpPr>
        <p:spPr>
          <a:xfrm>
            <a:off x="5283360" y="825480"/>
            <a:ext cx="383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2018 год – 3132,0 тыс.рублей 2019 год – 4232,8 тыс.руб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2020 год – 3591,5 тыс.рублей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50"/>
          <p:cNvSpPr/>
          <p:nvPr/>
        </p:nvSpPr>
        <p:spPr>
          <a:xfrm>
            <a:off x="266760" y="4381560"/>
            <a:ext cx="4648320" cy="22222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существление государственных полномочий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и и осуществлению деятельност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пеке и попечитель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18 год – 1748,2 тыс.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19 год – 1970,5 тыс.руб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20 год – 2011,7 тыс.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50"/>
          <p:cNvSpPr/>
          <p:nvPr/>
        </p:nvSpPr>
        <p:spPr>
          <a:xfrm>
            <a:off x="5003640" y="2616120"/>
            <a:ext cx="4470480" cy="22608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о выплате вознагражд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ессиональным опекун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18 год – 91,3 тыс.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19 год – 91,3 тыс.руб.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20 год – 144,3 тыс.руб.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0" descr="C:\Users\Кривошеина ТА\Desktop\c3100801bdf72b9cacdbce370dbcd682.jpg"/>
          <p:cNvPicPr/>
          <p:nvPr/>
        </p:nvPicPr>
        <p:blipFill>
          <a:blip r:embed="rId1"/>
          <a:stretch/>
        </p:blipFill>
        <p:spPr>
          <a:xfrm>
            <a:off x="507960" y="1587600"/>
            <a:ext cx="3564000" cy="2361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C:\Users\Кривошеина ТА\Desktop\087562b215bc504fc78dcc6a353109f1.jpg"/>
          <p:cNvPicPr/>
          <p:nvPr/>
        </p:nvPicPr>
        <p:blipFill>
          <a:blip r:embed="rId2"/>
          <a:stretch/>
        </p:blipFill>
        <p:spPr>
          <a:xfrm>
            <a:off x="5283360" y="4991040"/>
            <a:ext cx="3174840" cy="16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6880" y="352440"/>
            <a:ext cx="88264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 сфере экономики и ЖК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06ED-9BA0-4AEC-8630-2C2966733A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1C74-5733-40C8-8B99-6EEF3BF758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27"/>
          <p:cNvSpPr/>
          <p:nvPr/>
        </p:nvSpPr>
        <p:spPr>
          <a:xfrm>
            <a:off x="723960" y="1600200"/>
            <a:ext cx="8481960" cy="502920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Создание условий для развития сельского хозяй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МО Ленский муниципальный район на 2017-2020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Развитие  малого и среднего предприниматель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 территории МО Ленский муниципальный райо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 2017-2020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Развитие торговли на территор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О Ленский муниципальный район на 2017 – 2020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Ремонт и содержание сети автомобильных доро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ходящихся в собствен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О Ленский муниципальный район на 2017-2020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A438-DC12-44D6-B425-380669F667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9D49-2A00-4FB2-B889-38F7CF74CF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0" y="372960"/>
            <a:ext cx="92073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П"Создание условий для развития сельского хозяйства в  МО "Ленский муниципальный район" на 2017-2020 годы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3340080" y="647640"/>
            <a:ext cx="400068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8 год – 35,9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9 год – 37,8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20 год – 37,8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оугольник 15"/>
          <p:cNvSpPr/>
          <p:nvPr/>
        </p:nvSpPr>
        <p:spPr>
          <a:xfrm>
            <a:off x="457200" y="3048120"/>
            <a:ext cx="916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Прямоугольник 17"/>
          <p:cNvSpPr/>
          <p:nvPr/>
        </p:nvSpPr>
        <p:spPr>
          <a:xfrm>
            <a:off x="4411800" y="3075120"/>
            <a:ext cx="190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Рисунок 14" descr="P1010120.JPG"/>
          <p:cNvPicPr/>
          <p:nvPr/>
        </p:nvPicPr>
        <p:blipFill>
          <a:blip r:embed="rId1"/>
          <a:stretch/>
        </p:blipFill>
        <p:spPr>
          <a:xfrm>
            <a:off x="5157720" y="2882880"/>
            <a:ext cx="4565880" cy="3657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C:\Users\Кривошеина ТА\Desktop\a62201df076239503ca81d33daa7559a.jpg"/>
          <p:cNvPicPr/>
          <p:nvPr/>
        </p:nvPicPr>
        <p:blipFill>
          <a:blip r:embed="rId2"/>
          <a:stretch/>
        </p:blipFill>
        <p:spPr>
          <a:xfrm>
            <a:off x="201600" y="2630520"/>
            <a:ext cx="5856480" cy="39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П"Ремонт и содержание сети автомобильных дорог, находящихся в собственности МО "Ленский муниципальный район" на 2017-2020 годы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E787-8283-4661-9272-5279BFF249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795840" y="4194000"/>
            <a:ext cx="58388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90440" y="1244520"/>
            <a:ext cx="9207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</a:rPr>
              <a:t>2018 год – 6,2 млн.руб.    2019 год - 57,1 млн.руб.     2020 год-11,5млн.руб.</a:t>
            </a:r>
            <a:br>
              <a:rPr sz="2400"/>
            </a:b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241200" y="2120760"/>
            <a:ext cx="37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Содержание  автомобильных дор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1"/>
          <p:cNvSpPr/>
          <p:nvPr/>
        </p:nvSpPr>
        <p:spPr>
          <a:xfrm flipH="1">
            <a:off x="4140360" y="5981760"/>
            <a:ext cx="52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Ремонт автомобильных дор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11" descr="C:\Users\Кривошеина ТА\Desktop\traktor(1).jpg"/>
          <p:cNvPicPr/>
          <p:nvPr/>
        </p:nvPicPr>
        <p:blipFill>
          <a:blip r:embed="rId1"/>
          <a:stretch/>
        </p:blipFill>
        <p:spPr>
          <a:xfrm>
            <a:off x="279360" y="2959200"/>
            <a:ext cx="3848040" cy="3670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C:\Users\Кривошеина ТА\Desktop\12648.jpg"/>
          <p:cNvPicPr/>
          <p:nvPr/>
        </p:nvPicPr>
        <p:blipFill>
          <a:blip r:embed="rId2"/>
          <a:stretch/>
        </p:blipFill>
        <p:spPr>
          <a:xfrm>
            <a:off x="4165560" y="2133720"/>
            <a:ext cx="529596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82760" y="603000"/>
            <a:ext cx="913896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униципальная программа «Развитие торговли на территории МО «Ленский муниципальный район на 2017 – 2020 год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E655-BDC6-4D8B-BE43-90689570D8F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0"/>
          <p:cNvSpPr/>
          <p:nvPr/>
        </p:nvSpPr>
        <p:spPr>
          <a:xfrm>
            <a:off x="190440" y="2451240"/>
            <a:ext cx="4826160" cy="26413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Доставка муки и лекарственных средств в район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Крайнего Севера и приравненные к ним мес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с ограниченными сроками завоза груз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8 год – 298,5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9 год – 302,9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20 год – 29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0"/>
          <p:cNvSpPr/>
          <p:nvPr/>
        </p:nvSpPr>
        <p:spPr>
          <a:xfrm>
            <a:off x="5354640" y="3772080"/>
            <a:ext cx="4361040" cy="23112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по формированию торгового реес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8 год – 2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9 год – 2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20 год – 2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5284800" y="1704960"/>
            <a:ext cx="4329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8 год – 323,5 тыс.рублей 2019 год – 327,9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20 год – 445,3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9168-8BC8-4B79-B1B3-C5848BB985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520560"/>
            <a:ext cx="941076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сходы бюджета муниципального образования «Ленский муниципальный район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558720" y="2181240"/>
            <a:ext cx="4496040" cy="7524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18 год – 576078,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2781360" y="3159000"/>
            <a:ext cx="4381560" cy="701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19 год – 849579,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4292640" y="4162320"/>
            <a:ext cx="4432320" cy="8161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20 год – 669496,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635040" y="5318280"/>
            <a:ext cx="4432320" cy="8157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21 год – 759336,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45760" y="262080"/>
            <a:ext cx="880092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Муниципальные программы направленные на решение общегосударственных вопро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8471-CCB0-4B13-9C88-5E2211F13F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5255-48D5-4344-B131-24BAB0F504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7"/>
          <p:cNvSpPr/>
          <p:nvPr/>
        </p:nvSpPr>
        <p:spPr>
          <a:xfrm>
            <a:off x="619200" y="1511280"/>
            <a:ext cx="8880480" cy="504180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Совершенствование системы  муниципальной служ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ffff"/>
                </a:solidFill>
                <a:latin typeface="Times New Roman"/>
              </a:rPr>
              <a:t>Управление муниципальными финансами  МО «Ленский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ffff"/>
                </a:solidFill>
                <a:latin typeface="Times New Roman"/>
              </a:rPr>
              <a:t>муниципальный район» и муниципальным долгом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ffff"/>
                </a:solidFill>
                <a:latin typeface="Times New Roman"/>
              </a:rPr>
              <a:t>МО «Ленский муниципальный район" на 2018-2020 годы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Совершенствование муниципального управл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в МО «Ленский муниципальный район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на 2018-2020 г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7600" y="177480"/>
            <a:ext cx="9426600" cy="14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П"Управление муниципальными финансами МО "Ленский муниципальный район" и муниципальным долгом МО "Ленский муниципальный район" на 2018-2020 годы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C4CF-1928-48E2-AE63-33D8046E63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182D-DE18-40E4-8898-55E811E61D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0"/>
          <p:cNvSpPr/>
          <p:nvPr/>
        </p:nvSpPr>
        <p:spPr>
          <a:xfrm>
            <a:off x="307800" y="1992240"/>
            <a:ext cx="5150160" cy="11527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рганизация и обеспечение бюджетн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процесса и развитие информационных сист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управления финансами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486400" y="1163520"/>
            <a:ext cx="4046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8 год - 19,3 млн.руб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9 год – 20,0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20 год – 19,6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50"/>
          <p:cNvSpPr/>
          <p:nvPr/>
        </p:nvSpPr>
        <p:spPr>
          <a:xfrm>
            <a:off x="270000" y="3525840"/>
            <a:ext cx="5149800" cy="12240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Управление муниципальным долг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50"/>
          <p:cNvSpPr/>
          <p:nvPr/>
        </p:nvSpPr>
        <p:spPr>
          <a:xfrm>
            <a:off x="257040" y="5089680"/>
            <a:ext cx="5150160" cy="122364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Поддержание устойчивого исполн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бюджетов  муниципальных образова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Ленского  рай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0" descr="C:\Users\Кривошеина ТА\Desktop\d5417b99-ad72-40d2-9.jpg"/>
          <p:cNvPicPr/>
          <p:nvPr/>
        </p:nvPicPr>
        <p:blipFill>
          <a:blip r:embed="rId1"/>
          <a:stretch/>
        </p:blipFill>
        <p:spPr>
          <a:xfrm>
            <a:off x="5486400" y="3441600"/>
            <a:ext cx="4156200" cy="28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98DA-3A35-4163-89DC-D0C4D84738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4D25-5F54-44F8-B407-5111E765A1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2" descr="1"/>
          <p:cNvPicPr/>
          <p:nvPr/>
        </p:nvPicPr>
        <p:blipFill>
          <a:blip r:embed="rId1"/>
          <a:stretch/>
        </p:blipFill>
        <p:spPr>
          <a:xfrm>
            <a:off x="7107120" y="1163520"/>
            <a:ext cx="1560600" cy="1079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08" name="Picture 3" descr="pravo_bilboard"/>
          <p:cNvPicPr/>
          <p:nvPr/>
        </p:nvPicPr>
        <p:blipFill>
          <a:blip r:embed="rId2"/>
          <a:stretch/>
        </p:blipFill>
        <p:spPr>
          <a:xfrm>
            <a:off x="7772400" y="2095560"/>
            <a:ext cx="1854360" cy="9651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56960"/>
            <a:ext cx="101631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существление государственных полномоч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AutoShape 50"/>
          <p:cNvSpPr/>
          <p:nvPr/>
        </p:nvSpPr>
        <p:spPr>
          <a:xfrm>
            <a:off x="193680" y="1484280"/>
            <a:ext cx="3260880" cy="3826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 сфере охраны тру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50"/>
          <p:cNvSpPr/>
          <p:nvPr/>
        </p:nvSpPr>
        <p:spPr>
          <a:xfrm>
            <a:off x="5943600" y="1465200"/>
            <a:ext cx="1015920" cy="389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91,3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50"/>
          <p:cNvSpPr/>
          <p:nvPr/>
        </p:nvSpPr>
        <p:spPr>
          <a:xfrm>
            <a:off x="3525840" y="1447920"/>
            <a:ext cx="1008000" cy="380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49,7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50"/>
          <p:cNvSpPr/>
          <p:nvPr/>
        </p:nvSpPr>
        <p:spPr>
          <a:xfrm>
            <a:off x="4782960" y="1433520"/>
            <a:ext cx="995400" cy="420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81,5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470400" y="981000"/>
            <a:ext cx="34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8       2019      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0"/>
          <p:cNvSpPr/>
          <p:nvPr/>
        </p:nvSpPr>
        <p:spPr>
          <a:xfrm>
            <a:off x="193680" y="1955880"/>
            <a:ext cx="3247920" cy="876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созданию комиссий по дел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несовершеннолетних и защит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х пра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50"/>
          <p:cNvSpPr/>
          <p:nvPr/>
        </p:nvSpPr>
        <p:spPr>
          <a:xfrm>
            <a:off x="5931000" y="2168640"/>
            <a:ext cx="104148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193,5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50"/>
          <p:cNvSpPr/>
          <p:nvPr/>
        </p:nvSpPr>
        <p:spPr>
          <a:xfrm>
            <a:off x="3538440" y="214308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99,0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50"/>
          <p:cNvSpPr/>
          <p:nvPr/>
        </p:nvSpPr>
        <p:spPr>
          <a:xfrm>
            <a:off x="4732200" y="2143080"/>
            <a:ext cx="105912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125,9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50"/>
          <p:cNvSpPr/>
          <p:nvPr/>
        </p:nvSpPr>
        <p:spPr>
          <a:xfrm>
            <a:off x="206280" y="2933640"/>
            <a:ext cx="3197160" cy="812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организации, осуществлени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деятельност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пеке и попечитель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0"/>
          <p:cNvSpPr/>
          <p:nvPr/>
        </p:nvSpPr>
        <p:spPr>
          <a:xfrm>
            <a:off x="5905440" y="3084480"/>
            <a:ext cx="1104840" cy="757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1,7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0"/>
          <p:cNvSpPr/>
          <p:nvPr/>
        </p:nvSpPr>
        <p:spPr>
          <a:xfrm>
            <a:off x="3538440" y="3046320"/>
            <a:ext cx="1046160" cy="7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748,2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0"/>
          <p:cNvSpPr/>
          <p:nvPr/>
        </p:nvSpPr>
        <p:spPr>
          <a:xfrm>
            <a:off x="4707000" y="3071880"/>
            <a:ext cx="108432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970,5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206280" y="3873600"/>
            <a:ext cx="3210120" cy="1396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по регистрации и учёту граждан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имеющих право на получение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жилищных субсидий в связ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с переселением из районо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Крайнего Севера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и приравненных к ним местностях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0"/>
          <p:cNvSpPr/>
          <p:nvPr/>
        </p:nvSpPr>
        <p:spPr>
          <a:xfrm>
            <a:off x="5918040" y="4121280"/>
            <a:ext cx="936720" cy="577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50"/>
          <p:cNvSpPr/>
          <p:nvPr/>
        </p:nvSpPr>
        <p:spPr>
          <a:xfrm>
            <a:off x="3627360" y="4095720"/>
            <a:ext cx="938160" cy="565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0"/>
          <p:cNvSpPr/>
          <p:nvPr/>
        </p:nvSpPr>
        <p:spPr>
          <a:xfrm>
            <a:off x="4770360" y="4121280"/>
            <a:ext cx="938160" cy="539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50"/>
          <p:cNvSpPr/>
          <p:nvPr/>
        </p:nvSpPr>
        <p:spPr>
          <a:xfrm>
            <a:off x="206280" y="6084720"/>
            <a:ext cx="32353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СЕ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50"/>
          <p:cNvSpPr/>
          <p:nvPr/>
        </p:nvSpPr>
        <p:spPr>
          <a:xfrm>
            <a:off x="5932440" y="6040440"/>
            <a:ext cx="111600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645,8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50"/>
          <p:cNvSpPr/>
          <p:nvPr/>
        </p:nvSpPr>
        <p:spPr>
          <a:xfrm>
            <a:off x="3492360" y="6066000"/>
            <a:ext cx="116856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093,2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50"/>
          <p:cNvSpPr/>
          <p:nvPr/>
        </p:nvSpPr>
        <p:spPr>
          <a:xfrm>
            <a:off x="4759200" y="6066000"/>
            <a:ext cx="112104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474,2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0"/>
          <p:cNvSpPr/>
          <p:nvPr/>
        </p:nvSpPr>
        <p:spPr>
          <a:xfrm>
            <a:off x="244440" y="5334120"/>
            <a:ext cx="3247920" cy="6728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выплате вознагражд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рофессиональным опекун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50"/>
          <p:cNvSpPr/>
          <p:nvPr/>
        </p:nvSpPr>
        <p:spPr>
          <a:xfrm>
            <a:off x="4719600" y="536256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1,3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276120" y="876240"/>
            <a:ext cx="9204480" cy="0"/>
          </a:xfrm>
          <a:prstGeom prst="line">
            <a:avLst/>
          </a:prstGeom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0"/>
          <p:cNvSpPr/>
          <p:nvPr/>
        </p:nvSpPr>
        <p:spPr>
          <a:xfrm>
            <a:off x="3602160" y="537516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1,3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50"/>
          <p:cNvSpPr/>
          <p:nvPr/>
        </p:nvSpPr>
        <p:spPr>
          <a:xfrm>
            <a:off x="5904000" y="5362560"/>
            <a:ext cx="109368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44,3,3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35" descr="Я сидела дома все три года, хотя время от времени мне давали знать, что неплохо было бы выйти на своё место.,Развивалки-после вы"/>
          <p:cNvPicPr/>
          <p:nvPr/>
        </p:nvPicPr>
        <p:blipFill>
          <a:blip r:embed="rId3"/>
          <a:stretch/>
        </p:blipFill>
        <p:spPr>
          <a:xfrm>
            <a:off x="7105680" y="2868480"/>
            <a:ext cx="1663560" cy="10432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37" name="Picture 36" descr="1"/>
          <p:cNvPicPr/>
          <p:nvPr/>
        </p:nvPicPr>
        <p:blipFill>
          <a:blip r:embed="rId4"/>
          <a:stretch/>
        </p:blipFill>
        <p:spPr>
          <a:xfrm>
            <a:off x="7873920" y="3665520"/>
            <a:ext cx="1841760" cy="10461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38" name="Picture 37" descr="a-nagrada.a5.ru"/>
          <p:cNvPicPr/>
          <p:nvPr/>
        </p:nvPicPr>
        <p:blipFill>
          <a:blip r:embed="rId5"/>
          <a:stretch/>
        </p:blipFill>
        <p:spPr>
          <a:xfrm>
            <a:off x="7149960" y="4546440"/>
            <a:ext cx="1600200" cy="11304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39" name="Picture 38" descr="i?id=88253289-65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937640" y="5470560"/>
            <a:ext cx="1751040" cy="9046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500"/>
                            </p:stCondLst>
                            <p:childTnLst>
                              <p:par>
                                <p:cTn id="5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77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0" dur="770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2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75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850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950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500"/>
                            </p:stCondLst>
                            <p:childTnLst>
                              <p:par>
                                <p:cTn id="5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77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3" dur="770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5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5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6500"/>
                            </p:stCondLst>
                            <p:childTnLst>
                              <p:par>
                                <p:cTn id="5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77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6" dur="770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8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95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5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150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25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3500"/>
                            </p:stCondLst>
                            <p:childTnLst>
                              <p:par>
                                <p:cTn id="6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77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9" dur="770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1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3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5500"/>
                            </p:stCondLst>
                            <p:childTnLst>
                              <p:par>
                                <p:cTn id="6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77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9" dur="770" fill="hold"/>
                                        <p:tgtEl>
                                          <p:spTgt spid="2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1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3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7500"/>
                            </p:stCondLst>
                            <p:childTnLst>
                              <p:par>
                                <p:cTn id="6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8500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950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0500"/>
                            </p:stCondLst>
                            <p:childTnLst>
                              <p:par>
                                <p:cTn id="6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1500"/>
                            </p:stCondLst>
                            <p:childTnLst>
                              <p:par>
                                <p:cTn id="65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77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2" dur="770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4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6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35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4500"/>
                            </p:stCondLst>
                            <p:childTnLst>
                              <p:par>
                                <p:cTn id="6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5500"/>
                            </p:stCondLst>
                            <p:childTnLst>
                              <p:par>
                                <p:cTn id="6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6500"/>
                            </p:stCondLst>
                            <p:childTnLst>
                              <p:par>
                                <p:cTn id="6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750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D310-42C8-4A46-98E5-79462969DD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Номер слайда 2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4965840" y="523800"/>
          <a:ext cx="494028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5840" y="523800"/>
                    <a:ext cx="494028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5"/>
          <p:cNvSpPr/>
          <p:nvPr/>
        </p:nvSpPr>
        <p:spPr>
          <a:xfrm>
            <a:off x="662040" y="1341360"/>
            <a:ext cx="3198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программные расходы -1,4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62040" y="901800"/>
            <a:ext cx="39542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граммная часть бюджета –98,6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7"/>
          <p:cNvSpPr/>
          <p:nvPr/>
        </p:nvSpPr>
        <p:spPr>
          <a:xfrm flipH="1" flipV="1">
            <a:off x="4641480" y="1052640"/>
            <a:ext cx="701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3782880" y="1484280"/>
            <a:ext cx="33544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428760" y="376200"/>
            <a:ext cx="8902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программные расходы бюджета 2020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50"/>
          <p:cNvSpPr/>
          <p:nvPr/>
        </p:nvSpPr>
        <p:spPr>
          <a:xfrm>
            <a:off x="422280" y="1908000"/>
            <a:ext cx="5540400" cy="79236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Обеспечение деятельности Собрания депута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810,7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50"/>
          <p:cNvSpPr/>
          <p:nvPr/>
        </p:nvSpPr>
        <p:spPr>
          <a:xfrm>
            <a:off x="831960" y="2844720"/>
            <a:ext cx="6319800" cy="86364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Обеспечение деятельности контрольно-счётной комис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610,7 тыс.рублей        </a:t>
            </a: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50"/>
          <p:cNvSpPr/>
          <p:nvPr/>
        </p:nvSpPr>
        <p:spPr>
          <a:xfrm>
            <a:off x="1612800" y="3873600"/>
            <a:ext cx="6512040" cy="10414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ероприятия  в сфере гражданской обороны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чрезвычайных ситу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26,3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50"/>
          <p:cNvSpPr/>
          <p:nvPr/>
        </p:nvSpPr>
        <p:spPr>
          <a:xfrm>
            <a:off x="2428920" y="5119560"/>
            <a:ext cx="6319800" cy="79236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Резервный фонд админист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500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5"/>
          <p:cNvSpPr/>
          <p:nvPr/>
        </p:nvSpPr>
        <p:spPr>
          <a:xfrm>
            <a:off x="403200" y="879480"/>
            <a:ext cx="9204480" cy="0"/>
          </a:xfrm>
          <a:prstGeom prst="line">
            <a:avLst/>
          </a:prstGeom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50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4000"/>
                            </p:stCondLst>
                            <p:childTnLst>
                              <p:par>
                                <p:cTn id="7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450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23600" y="203040"/>
            <a:ext cx="8915400" cy="8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Дефицит бюджета 2020 г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9881-2488-40C3-BC87-F3D0F614A57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E2B8-B32F-4344-9740-2915F67D06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4191120" y="2120760"/>
            <a:ext cx="1971720" cy="97488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w="174" h="95">
                <a:moveTo>
                  <a:pt x="174" y="95"/>
                </a:moveTo>
                <a:cubicBezTo>
                  <a:pt x="174" y="61"/>
                  <a:pt x="164" y="28"/>
                  <a:pt x="145" y="0"/>
                </a:cubicBezTo>
                <a:lnTo>
                  <a:pt x="0" y="95"/>
                </a:lnTo>
                <a:lnTo>
                  <a:pt x="174" y="9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reeform 4"/>
          <p:cNvSpPr/>
          <p:nvPr/>
        </p:nvSpPr>
        <p:spPr>
          <a:xfrm>
            <a:off x="4205160" y="3225960"/>
            <a:ext cx="1973520" cy="934920"/>
          </a:xfrm>
          <a:custGeom>
            <a:avLst/>
            <a:gdLst>
              <a:gd name="textAreaLeft" fmla="*/ 0 w 1973520"/>
              <a:gd name="textAreaRight" fmla="*/ 1973880 w 19735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174" h="91">
                <a:moveTo>
                  <a:pt x="147" y="91"/>
                </a:moveTo>
                <a:cubicBezTo>
                  <a:pt x="164" y="64"/>
                  <a:pt x="174" y="32"/>
                  <a:pt x="174" y="0"/>
                </a:cubicBezTo>
                <a:lnTo>
                  <a:pt x="0" y="0"/>
                </a:lnTo>
                <a:lnTo>
                  <a:pt x="147" y="91"/>
                </a:lnTo>
                <a:close/>
              </a:path>
            </a:pathLst>
          </a:custGeom>
          <a:solidFill>
            <a:srgbClr val="ff3300"/>
          </a:solidFill>
          <a:ln w="11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reeform 5"/>
          <p:cNvSpPr/>
          <p:nvPr/>
        </p:nvSpPr>
        <p:spPr>
          <a:xfrm>
            <a:off x="1884240" y="1214280"/>
            <a:ext cx="3638520" cy="3943440"/>
          </a:xfrm>
          <a:custGeom>
            <a:avLst/>
            <a:gdLst>
              <a:gd name="textAreaLeft" fmla="*/ 0 w 3638520"/>
              <a:gd name="textAreaRight" fmla="*/ 3638880 w 3638520"/>
              <a:gd name="textAreaTop" fmla="*/ 0 h 3943440"/>
              <a:gd name="textAreaBottom" fmla="*/ 3943800 h 3943440"/>
            </a:gdLst>
            <a:ahLst/>
            <a:rect l="textAreaLeft" t="textAreaTop" r="textAreaRight" b="textAreaBottom"/>
            <a:pathLst>
              <a:path w="321" h="348">
                <a:moveTo>
                  <a:pt x="319" y="79"/>
                </a:moveTo>
                <a:cubicBezTo>
                  <a:pt x="287" y="29"/>
                  <a:pt x="232" y="0"/>
                  <a:pt x="174" y="0"/>
                </a:cubicBezTo>
                <a:cubicBezTo>
                  <a:pt x="77" y="0"/>
                  <a:pt x="0" y="77"/>
                  <a:pt x="0" y="174"/>
                </a:cubicBezTo>
                <a:cubicBezTo>
                  <a:pt x="0" y="270"/>
                  <a:pt x="77" y="348"/>
                  <a:pt x="174" y="348"/>
                </a:cubicBezTo>
                <a:cubicBezTo>
                  <a:pt x="234" y="347"/>
                  <a:pt x="290" y="316"/>
                  <a:pt x="321" y="265"/>
                </a:cubicBezTo>
                <a:lnTo>
                  <a:pt x="174" y="174"/>
                </a:lnTo>
                <a:lnTo>
                  <a:pt x="319" y="79"/>
                </a:lnTo>
                <a:close/>
              </a:path>
            </a:pathLst>
          </a:custGeom>
          <a:solidFill>
            <a:srgbClr val="d99694"/>
          </a:solidFill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209520" y="5121360"/>
            <a:ext cx="1951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асх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669,5 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0" y="762120"/>
            <a:ext cx="2338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Дох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663,1 м.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7023240" y="1647720"/>
            <a:ext cx="184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фиц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6,3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186520" y="3583080"/>
            <a:ext cx="471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влечение кредитов ба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5,1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938840" y="5165640"/>
            <a:ext cx="471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зврат креди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8,8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-0.09704 -0.00185 E">
                                      <p:cBhvr>
                                        <p:cTn id="753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700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73 4.44444E-006 L -1.66667E-006 4.44444E-006 E">
                                      <p:cBhvr>
                                        <p:cTn id="772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73 4.44444E-006 L -1.66667E-006 4.44444E-006 E">
                                      <p:cBhvr>
                                        <p:cTn id="778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4440" y="674640"/>
            <a:ext cx="93013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сточники финансирования дефицита бюдже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74200" y="852120"/>
            <a:ext cx="89154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592F-125C-4F18-A29D-6B5A4FDBDB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E188-AABD-4380-BB69-1D32049642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341280" y="876240"/>
            <a:ext cx="9204480" cy="0"/>
          </a:xfrm>
          <a:prstGeom prst="line">
            <a:avLst/>
          </a:prstGeom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317600" y="1984320"/>
            <a:ext cx="7224840" cy="360360"/>
          </a:xfrm>
          <a:prstGeom prst="rect">
            <a:avLst/>
          </a:prstGeom>
          <a:solidFill>
            <a:srgbClr val="99cc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27120" y="2938320"/>
            <a:ext cx="220968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70c0"/>
                </a:solidFill>
                <a:uFillTx/>
                <a:latin typeface="Times New Roman"/>
              </a:rPr>
              <a:t>муниципальные займы,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 осуществляемые путем выпуска муниципальных ценных бумаг от имен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046320" y="2921040"/>
            <a:ext cx="1954440" cy="1695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2060"/>
                </a:solidFill>
                <a:uFillTx/>
                <a:latin typeface="Times New Roman"/>
              </a:rPr>
              <a:t>бюджетные кредиты,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 полученные от бюджетов других уровней бюджетной системы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5119560" y="2919240"/>
            <a:ext cx="199260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58ed5"/>
                </a:solidFill>
                <a:uFillTx/>
                <a:latin typeface="Times New Roman"/>
              </a:rPr>
              <a:t>кредит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558ed5"/>
                </a:solidFill>
                <a:latin typeface="Times New Roman"/>
              </a:rPr>
              <a:t>полученные от кредитных 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7253280" y="2909880"/>
            <a:ext cx="1982880" cy="1695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</a:rPr>
              <a:t>изменение остатков средств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на счетах по учету средств местного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0"/>
          <p:cNvSpPr/>
          <p:nvPr/>
        </p:nvSpPr>
        <p:spPr>
          <a:xfrm>
            <a:off x="4941720" y="2327400"/>
            <a:ext cx="11160" cy="3538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"/>
          <p:cNvSpPr/>
          <p:nvPr/>
        </p:nvSpPr>
        <p:spPr>
          <a:xfrm>
            <a:off x="1724040" y="269712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2"/>
          <p:cNvSpPr/>
          <p:nvPr/>
        </p:nvSpPr>
        <p:spPr>
          <a:xfrm>
            <a:off x="4048200" y="270036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3"/>
          <p:cNvSpPr/>
          <p:nvPr/>
        </p:nvSpPr>
        <p:spPr>
          <a:xfrm>
            <a:off x="6093000" y="2690640"/>
            <a:ext cx="0" cy="24480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4"/>
          <p:cNvSpPr/>
          <p:nvPr/>
        </p:nvSpPr>
        <p:spPr>
          <a:xfrm>
            <a:off x="8205840" y="268920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1731960" y="2689200"/>
            <a:ext cx="6488280" cy="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6"/>
          <p:cNvSpPr/>
          <p:nvPr/>
        </p:nvSpPr>
        <p:spPr>
          <a:xfrm flipV="1">
            <a:off x="284040" y="5049360"/>
            <a:ext cx="6880320" cy="190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7"/>
          <p:cNvSpPr/>
          <p:nvPr/>
        </p:nvSpPr>
        <p:spPr>
          <a:xfrm flipV="1">
            <a:off x="291960" y="469548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8"/>
          <p:cNvSpPr/>
          <p:nvPr/>
        </p:nvSpPr>
        <p:spPr>
          <a:xfrm flipV="1">
            <a:off x="7153200" y="468432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1814400" y="5315040"/>
            <a:ext cx="3044880" cy="915840"/>
          </a:xfrm>
          <a:prstGeom prst="rect">
            <a:avLst/>
          </a:prstGeom>
          <a:solidFill>
            <a:srgbClr val="ffccff"/>
          </a:solidFill>
          <a:ln w="158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70c0"/>
                </a:solidFill>
                <a:uFillTx/>
                <a:latin typeface="Times New Roman"/>
              </a:rPr>
              <a:t>муниципальный долг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то есть совокупность долговых обязательств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000"/>
                            </p:stCondLst>
                            <p:childTnLst>
                              <p:par>
                                <p:cTn id="7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3500"/>
                            </p:stCondLst>
                            <p:childTnLst>
                              <p:par>
                                <p:cTn id="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4000"/>
                            </p:stCondLst>
                            <p:childTnLst>
                              <p:par>
                                <p:cTn id="8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4500"/>
                            </p:stCondLst>
                            <p:childTnLst>
                              <p:par>
                                <p:cTn id="8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500"/>
                            </p:stCondLst>
                            <p:childTnLst>
                              <p:par>
                                <p:cTn id="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6000"/>
                            </p:stCondLst>
                            <p:childTnLst>
                              <p:par>
                                <p:cTn id="8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7500"/>
                            </p:stCondLst>
                            <p:childTnLst>
                              <p:par>
                                <p:cTn id="8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8500"/>
                            </p:stCondLst>
                            <p:childTnLst>
                              <p:par>
                                <p:cTn id="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9000"/>
                            </p:stCondLst>
                            <p:childTnLst>
                              <p:par>
                                <p:cTn id="8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500"/>
                            </p:stCondLst>
                            <p:childTnLst>
                              <p:par>
                                <p:cTn id="8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7E93-89F1-4DE1-B702-CC39EB3745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Номер слайда 2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"/>
          <p:cNvSpPr/>
          <p:nvPr/>
        </p:nvSpPr>
        <p:spPr>
          <a:xfrm rot="16200000">
            <a:off x="2871720" y="1665000"/>
            <a:ext cx="4213080" cy="43434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Кредит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догов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03.06.2019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8,74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2535120" y="1197000"/>
            <a:ext cx="57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На 01.01.2020 – 20,0 млн. 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477720" y="316080"/>
            <a:ext cx="841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униципальный долг Ленского район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6" descr=""/>
          <p:cNvPicPr/>
          <p:nvPr/>
        </p:nvPicPr>
        <p:blipFill>
          <a:blip r:embed="rId1"/>
          <a:stretch/>
        </p:blipFill>
        <p:spPr>
          <a:xfrm>
            <a:off x="4076640" y="4114800"/>
            <a:ext cx="2057400" cy="12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000"/>
                            </p:stCondLst>
                            <p:childTnLst>
                              <p:par>
                                <p:cTn id="8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517320"/>
            <a:ext cx="8915400" cy="61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Информация для контак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23440" y="116676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98480" indent="-13446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1" i="1" lang="ru-RU" sz="2800" spc="-1" strike="noStrike">
                <a:solidFill>
                  <a:srgbClr val="376092"/>
                </a:solidFill>
                <a:latin typeface="Calibri"/>
              </a:rPr>
              <a:t>Финансовый отдел Администрации муниципального образ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Calibri"/>
              </a:rPr>
              <a:t>«Ленский муниципальный райо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1657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Архангельская область, Ленский район, село Яренск</a:t>
            </a:r>
            <a:r>
              <a:rPr b="1" lang="ru-RU" sz="26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ул. Братьев Покровских, дом</a:t>
            </a:r>
            <a:r>
              <a:rPr b="1" lang="ru-RU" sz="2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19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Телефон:  8 (81859) 5-24-09, факс: 8 (81859) 5-25-2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адрес электронной почты: </a:t>
            </a:r>
            <a:r>
              <a:rPr b="0" lang="en-US" sz="2600" spc="-1" strike="noStrike">
                <a:solidFill>
                  <a:srgbClr val="376092"/>
                </a:solidFill>
                <a:latin typeface="Calibri"/>
              </a:rPr>
              <a:t>feuyarensk@yandex.r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655E-9859-4DCA-931E-4FEF5EA977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AD0E-B0EC-4B1C-B696-E9B4616A3F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35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500"/>
                            </p:stCondLst>
                            <p:childTnLst>
                              <p:par>
                                <p:cTn id="9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000"/>
                            </p:stCondLst>
                            <p:childTnLst>
                              <p:par>
                                <p:cTn id="9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500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D8EC-350D-45B0-ABCA-3281E47B82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2B7D-846B-4BEC-83AA-B369B36F9D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914400" y="1257480"/>
          <a:ext cx="8178840" cy="5391000"/>
        </p:xfrm>
        <a:graphic>
          <a:graphicData uri="http://schemas.openxmlformats.org/drawingml/2006/table">
            <a:tbl>
              <a:tblPr/>
              <a:tblGrid>
                <a:gridCol w="2908440"/>
                <a:gridCol w="1307880"/>
                <a:gridCol w="1384560"/>
                <a:gridCol w="1244520"/>
                <a:gridCol w="13334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(отч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(отчет)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57607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73354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66949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75933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4921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6821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625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6370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86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9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00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00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33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33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22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23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256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6524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510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570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212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2018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068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7707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6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8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09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13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42571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49441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49907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51818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Культура и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4884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5062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4908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5081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436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905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716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737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70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403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36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4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Обслуживание муниципального дол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38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78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269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269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988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89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941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997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99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траслевая структура расходов районного бюдж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91960"/>
            <a:ext cx="8915400" cy="5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циальная сф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Диаграмма 4" descr=""/>
          <p:cNvPicPr/>
          <p:nvPr/>
        </p:nvPicPr>
        <p:blipFill>
          <a:blip r:embed="rId1"/>
          <a:stretch/>
        </p:blipFill>
        <p:spPr>
          <a:xfrm>
            <a:off x="444600" y="876240"/>
            <a:ext cx="9347040" cy="584208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61D0-12F7-4B75-9DB6-453F4B826C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7920" y="152280"/>
            <a:ext cx="89154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ГОСУДАРСТВЕННЫЕ РАСХОД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Диаграмма 4" descr=""/>
          <p:cNvPicPr/>
          <p:nvPr/>
        </p:nvPicPr>
        <p:blipFill>
          <a:blip r:embed="rId1"/>
          <a:stretch/>
        </p:blipFill>
        <p:spPr>
          <a:xfrm>
            <a:off x="317520" y="698400"/>
            <a:ext cx="9016920" cy="6210360"/>
          </a:xfrm>
          <a:prstGeom prst="rect">
            <a:avLst/>
          </a:prstGeom>
          <a:ln w="0">
            <a:noFill/>
          </a:ln>
        </p:spPr>
      </p:pic>
      <p:sp>
        <p:nvSpPr>
          <p:cNvPr id="75" name="Номер слайда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FD9C-3242-48E5-AE6D-F34A7E6E8E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672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CA7F-1EDF-4519-A3F8-7CAC147E63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1110-2A8D-4F26-A4F2-FEAE0020CA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7"/>
          <p:cNvSpPr/>
          <p:nvPr/>
        </p:nvSpPr>
        <p:spPr>
          <a:xfrm>
            <a:off x="396720" y="3517920"/>
            <a:ext cx="3942000" cy="194472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направленные на ре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общегосударственных вопро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27"/>
          <p:cNvSpPr/>
          <p:nvPr/>
        </p:nvSpPr>
        <p:spPr>
          <a:xfrm>
            <a:off x="1974960" y="1996920"/>
            <a:ext cx="6318000" cy="100836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социальной направл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27"/>
          <p:cNvSpPr/>
          <p:nvPr/>
        </p:nvSpPr>
        <p:spPr>
          <a:xfrm>
            <a:off x="5513400" y="3517920"/>
            <a:ext cx="3944880" cy="195732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</a:t>
            </a: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в сфере экономики и ЖК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6"/>
          <p:cNvSpPr/>
          <p:nvPr/>
        </p:nvSpPr>
        <p:spPr>
          <a:xfrm flipH="1">
            <a:off x="1228680" y="1174680"/>
            <a:ext cx="876240" cy="20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7"/>
          <p:cNvSpPr/>
          <p:nvPr/>
        </p:nvSpPr>
        <p:spPr>
          <a:xfrm>
            <a:off x="5130720" y="1162080"/>
            <a:ext cx="12960" cy="63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8"/>
          <p:cNvSpPr/>
          <p:nvPr/>
        </p:nvSpPr>
        <p:spPr>
          <a:xfrm>
            <a:off x="8271000" y="1154160"/>
            <a:ext cx="711000" cy="20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186840"/>
            <a:ext cx="8915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оциальной направл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66DD-CB91-43ED-9C32-321166D6E9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752E-57DF-43DB-A84E-F44C0AE6F5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27"/>
          <p:cNvSpPr/>
          <p:nvPr/>
        </p:nvSpPr>
        <p:spPr>
          <a:xfrm>
            <a:off x="888840" y="1473120"/>
            <a:ext cx="8801280" cy="5207040"/>
          </a:xfrm>
          <a:prstGeom prst="roundRect">
            <a:avLst>
              <a:gd name="adj" fmla="val 16667"/>
            </a:avLst>
          </a:prstGeom>
          <a:solidFill>
            <a:srgbClr val="4f81bd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-Развитие образования Ленского  муниципального района на 2015-2020 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Развитие местного самоуправления в МО «Ленский муниципальный район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и поддержка социально ориентированных некоммерческих организ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(2020 – 20249 годы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-Развитие сферы культуры МО «Ленский муниципальный район» на 2018-2020 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-Обеспечение качественным, доступным жильем и объекта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жилищно-коммунального хозяйства населения Ленского  района на 2014-2020 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-Профилактика безнадзорности и правонарушений несовершеннолетн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на территории МО Ленский муниципальный район на 2020-2024 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-Развитие физической культуры, спорта, туризма, повышение эффектив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реализации молодежной и семейной политики в МО Ленский муниципальный рай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(2020-2024 год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EDB1-EA49-4E8B-BE6B-237E144EEE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3E35-8D6E-48E4-995F-FF01497DB7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50"/>
          <p:cNvSpPr/>
          <p:nvPr/>
        </p:nvSpPr>
        <p:spPr>
          <a:xfrm>
            <a:off x="254160" y="1353960"/>
            <a:ext cx="5101920" cy="4240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Реализация общеобразовательных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172200" y="1003320"/>
            <a:ext cx="35053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2018 год – 426,6 млн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2019 год – 498,0 млн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2020 год – 508,7млн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0"/>
          <p:cNvSpPr/>
          <p:nvPr/>
        </p:nvSpPr>
        <p:spPr>
          <a:xfrm>
            <a:off x="219240" y="1905120"/>
            <a:ext cx="5149800" cy="12268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Компенсация родительской платы за присмотр и ухо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за ребёнком в образовательных  организациях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реализующих образовательную програм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дошко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0"/>
          <p:cNvSpPr/>
          <p:nvPr/>
        </p:nvSpPr>
        <p:spPr>
          <a:xfrm>
            <a:off x="231840" y="3322800"/>
            <a:ext cx="5149800" cy="10206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Обеспечение предоставления жилых помещений детям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сиротам и детям, оставшимся без попечения родителе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лицам из их числа по договорам най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специализированных жилых помещ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0"/>
          <p:cNvSpPr/>
          <p:nvPr/>
        </p:nvSpPr>
        <p:spPr>
          <a:xfrm>
            <a:off x="254160" y="4495680"/>
            <a:ext cx="5178240" cy="444600"/>
          </a:xfrm>
          <a:prstGeom prst="roundRect">
            <a:avLst>
              <a:gd name="adj" fmla="val 23486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Мероприятия по оздоровлению де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241200" y="195120"/>
            <a:ext cx="933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П«Развитие образования Ленского муниципального района на2015-2020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0"/>
          <p:cNvSpPr/>
          <p:nvPr/>
        </p:nvSpPr>
        <p:spPr>
          <a:xfrm>
            <a:off x="228600" y="5118120"/>
            <a:ext cx="5178600" cy="533520"/>
          </a:xfrm>
          <a:prstGeom prst="roundRect">
            <a:avLst>
              <a:gd name="adj" fmla="val 23486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Совершенствование системы выявления и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талантов дет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2" descr="C:\Users\Кривошеина ТА\Desktop\SgGeJRKnDE0.jpg"/>
          <p:cNvPicPr/>
          <p:nvPr/>
        </p:nvPicPr>
        <p:blipFill>
          <a:blip r:embed="rId1"/>
          <a:stretch/>
        </p:blipFill>
        <p:spPr>
          <a:xfrm>
            <a:off x="5514840" y="2575080"/>
            <a:ext cx="4175280" cy="34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МП«Развитие образования Ленского муниципального района на 2015-2020 годы </a:t>
            </a:r>
            <a:br>
              <a:rPr sz="2200"/>
            </a:br>
            <a:r>
              <a:rPr b="0" lang="ru-RU" sz="2200" spc="-1" strike="noStrike">
                <a:solidFill>
                  <a:srgbClr val="3399ff"/>
                </a:solidFill>
                <a:latin typeface="Calibri"/>
              </a:rPr>
              <a:t>(расходы на дополнительное образование детей)</a:t>
            </a: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5000" y="160020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35320" y="160020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1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D250-5A37-4899-8871-5861DCF99DA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C:\Users\Кривошеина ТА\Desktop\PS7KbDjUJyA.jpg"/>
          <p:cNvPicPr/>
          <p:nvPr/>
        </p:nvPicPr>
        <p:blipFill>
          <a:blip r:embed="rId1"/>
          <a:stretch/>
        </p:blipFill>
        <p:spPr>
          <a:xfrm>
            <a:off x="444600" y="1246320"/>
            <a:ext cx="4209840" cy="2577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:\Users\Кривошеина ТА\Desktop\lxl0m_NDoq0.jpg"/>
          <p:cNvPicPr/>
          <p:nvPr/>
        </p:nvPicPr>
        <p:blipFill>
          <a:blip r:embed="rId2"/>
          <a:stretch/>
        </p:blipFill>
        <p:spPr>
          <a:xfrm>
            <a:off x="4660920" y="1905120"/>
            <a:ext cx="4800600" cy="3639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C:\Users\Кривошеина ТА\Desktop\MdsffFgJ1b8.jpg"/>
          <p:cNvPicPr/>
          <p:nvPr/>
        </p:nvPicPr>
        <p:blipFill>
          <a:blip r:embed="rId3"/>
          <a:stretch/>
        </p:blipFill>
        <p:spPr>
          <a:xfrm>
            <a:off x="444600" y="4038480"/>
            <a:ext cx="4222800" cy="237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Шумихина Т.Ю.</cp:lastModifiedBy>
  <dcterms:modified xsi:type="dcterms:W3CDTF">2020-03-10T10:12:39Z</dcterms:modified>
  <cp:revision>1406</cp:revision>
  <dc:subject/>
  <dc:title>Бюджет для граждан на 2014 год</dc:title>
</cp:coreProperties>
</file>