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9840" y="741240"/>
            <a:ext cx="533556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A838-16E5-4073-A701-D4876C26D0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00200" y="741240"/>
            <a:ext cx="5335560" cy="3694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8CBA-EAF3-44E7-8EB2-F1933C4FB1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4C9-D323-4C5A-8C96-625BCCA6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BAF-58DB-4FD9-944D-37193A7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AFC-A086-4D28-902F-A08B8201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C96-1DD2-4FC1-A7F0-86948BF6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822-A773-4942-9439-A98CA28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EEA-BB55-4499-A94C-3773156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554-E956-4938-A8C6-32B1FCA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C48-EE63-47CB-A016-822D5BF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BB4-7CEB-42AB-A65B-52A3CB8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163-3176-48F3-BB4A-CE76B65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E1A-ABAE-4796-9A50-33652608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F15-6A2C-4E6E-8185-CF52756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E49-156F-4899-975D-71D41636F24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A638-19DC-46E4-AA39-2AE1960FC2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088-31C1-44AD-8EDE-06D2004C7B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П «Развитие образования Ленского муниципального района» на 2021-2025 год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193760"/>
          <a:ext cx="9067680" cy="4946760"/>
        </p:xfrm>
        <a:graphic>
          <a:graphicData uri="http://schemas.openxmlformats.org/drawingml/2006/table">
            <a:tbl>
              <a:tblPr/>
              <a:tblGrid>
                <a:gridCol w="2236680"/>
                <a:gridCol w="1866960"/>
                <a:gridCol w="1882800"/>
                <a:gridCol w="1539720"/>
                <a:gridCol w="15415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4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3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8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87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5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41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8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9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5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08A-F3FB-42D4-8FE8-BC1B24AA99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D7E4-1E94-4F26-A4A0-C148AAF108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30120" y="228600"/>
            <a:ext cx="9576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МП«Развитие местного самоуправления в МО «Ленский муниципальный район» и поддержка социально ориентированных некоммерческих организаций» (2020 – 2024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5680" y="1622520"/>
            <a:ext cx="4584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079960" y="1562040"/>
            <a:ext cx="4419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17520" y="4255920"/>
            <a:ext cx="400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469800" y="1536840"/>
            <a:ext cx="3975120" cy="25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Calibri"/>
              </a:rPr>
              <a:t>Старшее поко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плата проезда в общественном транспор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- 16,1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- 20,1 тыс.рублей 2021 год- 18,3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15"/>
          <p:cNvSpPr/>
          <p:nvPr/>
        </p:nvSpPr>
        <p:spPr>
          <a:xfrm>
            <a:off x="673200" y="4356000"/>
            <a:ext cx="891540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Times New Roman"/>
              </a:rPr>
              <a:t>Содействие развитию социально-ориентированных некоммерческих организ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19 год- 53,4 тыс.рублей                                         2020 год- 95,0 тыс.рублей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21 год- 95,5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16"/>
          <p:cNvSpPr/>
          <p:nvPr/>
        </p:nvSpPr>
        <p:spPr>
          <a:xfrm>
            <a:off x="4838760" y="1587600"/>
            <a:ext cx="4686120" cy="2438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Развитие территориального общественного 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 – 871,1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 – 1092,8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1 год – 378,6 тыс.рубле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09D8-368A-43E3-9909-66A8092C41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385920"/>
            <a:ext cx="91393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П"Профилактика безнадзорности и правонарушений несовершеннолетних на территории МО "Ленский муниципальный район" на 2020-2024 годы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02040" y="390060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9                   2020                  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0"/>
          <p:cNvSpPr/>
          <p:nvPr/>
        </p:nvSpPr>
        <p:spPr>
          <a:xfrm>
            <a:off x="193680" y="4005360"/>
            <a:ext cx="425124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0"/>
          <p:cNvSpPr/>
          <p:nvPr/>
        </p:nvSpPr>
        <p:spPr>
          <a:xfrm>
            <a:off x="193680" y="5084640"/>
            <a:ext cx="4276800" cy="1150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4508640" y="1979640"/>
            <a:ext cx="50670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 1139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 1211,2 тыс. рубле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1 год –  1504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406440" y="179064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0"/>
          <p:cNvSpPr/>
          <p:nvPr/>
        </p:nvSpPr>
        <p:spPr>
          <a:xfrm>
            <a:off x="856296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64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0"/>
          <p:cNvSpPr/>
          <p:nvPr/>
        </p:nvSpPr>
        <p:spPr>
          <a:xfrm>
            <a:off x="4943520" y="427212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0"/>
          <p:cNvSpPr/>
          <p:nvPr/>
        </p:nvSpPr>
        <p:spPr>
          <a:xfrm>
            <a:off x="677232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8537400" y="5478480"/>
            <a:ext cx="117828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0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0"/>
          <p:cNvSpPr/>
          <p:nvPr/>
        </p:nvSpPr>
        <p:spPr>
          <a:xfrm>
            <a:off x="5006880" y="55040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0"/>
          <p:cNvSpPr/>
          <p:nvPr/>
        </p:nvSpPr>
        <p:spPr>
          <a:xfrm>
            <a:off x="6810480" y="55166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 «Развитие сферы культуры в Ленском районе на 2018-2023 год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05240" y="40892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9                     2020                     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279360" y="4483080"/>
            <a:ext cx="378468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7886880" y="45464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456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4344840" y="511812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160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279360" y="5156280"/>
            <a:ext cx="383544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ультурно-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7896240" y="580392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985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0"/>
          <p:cNvSpPr/>
          <p:nvPr/>
        </p:nvSpPr>
        <p:spPr>
          <a:xfrm>
            <a:off x="4383000" y="5803920"/>
            <a:ext cx="1204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70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2730600"/>
            <a:ext cx="32893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0"/>
          <p:cNvSpPr/>
          <p:nvPr/>
        </p:nvSpPr>
        <p:spPr>
          <a:xfrm>
            <a:off x="7877160" y="51814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8122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0"/>
          <p:cNvSpPr/>
          <p:nvPr/>
        </p:nvSpPr>
        <p:spPr>
          <a:xfrm>
            <a:off x="4356000" y="4521240"/>
            <a:ext cx="125748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400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0"/>
          <p:cNvSpPr/>
          <p:nvPr/>
        </p:nvSpPr>
        <p:spPr>
          <a:xfrm>
            <a:off x="266760" y="5803920"/>
            <a:ext cx="387360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6146640" y="513072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708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0"/>
          <p:cNvSpPr/>
          <p:nvPr/>
        </p:nvSpPr>
        <p:spPr>
          <a:xfrm>
            <a:off x="6172200" y="577836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379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0"/>
          <p:cNvSpPr/>
          <p:nvPr/>
        </p:nvSpPr>
        <p:spPr>
          <a:xfrm>
            <a:off x="6146640" y="455940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997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2984400"/>
            <a:ext cx="9728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9 год – 50,3 млн.руб.   2020 год – 62,1 млн.руб.    2021 год – 53,6 млн.руб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C:\Users\Кривошеина ТА\Desktop\vIHDxSdEAXw.jpg"/>
          <p:cNvPicPr/>
          <p:nvPr/>
        </p:nvPicPr>
        <p:blipFill>
          <a:blip r:embed="rId1"/>
          <a:stretch/>
        </p:blipFill>
        <p:spPr>
          <a:xfrm>
            <a:off x="4997520" y="806400"/>
            <a:ext cx="3938400" cy="266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Кривошеина ТА\Desktop\lhnWevnqSsc.jpg"/>
          <p:cNvPicPr/>
          <p:nvPr/>
        </p:nvPicPr>
        <p:blipFill>
          <a:blip r:embed="rId2"/>
          <a:stretch/>
        </p:blipFill>
        <p:spPr>
          <a:xfrm>
            <a:off x="380880" y="852480"/>
            <a:ext cx="393696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CEBA-A4B5-4A55-A3B0-11B814A05B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П"Развитие физической культуры, спорта, туризма, повышение эффективности реализации молодежной и семейной политики в МО "Ленский муниципальный район"( 2020-2024 годы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283360" y="82548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9 год – 4232,8 тыс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0 год – 3992,0 тыс.рублей 2021 год – 4216,0 тыс.рубл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0"/>
          <p:cNvSpPr/>
          <p:nvPr/>
        </p:nvSpPr>
        <p:spPr>
          <a:xfrm>
            <a:off x="266760" y="4381560"/>
            <a:ext cx="4648320" cy="2222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1970,5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2011,7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1 год – 2563,0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0"/>
          <p:cNvSpPr/>
          <p:nvPr/>
        </p:nvSpPr>
        <p:spPr>
          <a:xfrm>
            <a:off x="5003640" y="2616120"/>
            <a:ext cx="4470480" cy="22608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  – 91,3 тыс.руб.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46,7 тыс.руб.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1 год – 100,0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507960" y="1587600"/>
            <a:ext cx="3564000" cy="236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283360" y="49910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371B-313E-480C-9D5D-B1DDCDA7F4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 – 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44A3-A7CC-4917-B631-CB301CFEDF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12D-4DB8-49C9-833B-0765701DBD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"Создание условий для развития сельского хозяйства в  МО "Ленский муниципальный район" на 2017-2023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3340080" y="647640"/>
            <a:ext cx="400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37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20 год – 70,0 тыс.рублей 2021 год – 7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Рисунок 14" descr="P1010120.JPG"/>
          <p:cNvPicPr/>
          <p:nvPr/>
        </p:nvPicPr>
        <p:blipFill>
          <a:blip r:embed="rId1"/>
          <a:stretch/>
        </p:blipFill>
        <p:spPr>
          <a:xfrm>
            <a:off x="5157720" y="2882880"/>
            <a:ext cx="4565880" cy="3657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Users\Кривошеина ТА\Desktop\a62201df076239503ca81d33daa7559a.jpg"/>
          <p:cNvPicPr/>
          <p:nvPr/>
        </p:nvPicPr>
        <p:blipFill>
          <a:blip r:embed="rId2"/>
          <a:stretch/>
        </p:blipFill>
        <p:spPr>
          <a:xfrm>
            <a:off x="201600" y="2630520"/>
            <a:ext cx="58564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П"Ремонт и содержание сети автомобильных дорог, находящихся в собственности МО "Ленский муниципальный район" на 2017-2023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8D6-9F00-4BD3-A2FA-A3CC77A686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90440" y="1244520"/>
            <a:ext cx="9207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9 год – 57,1 млн.руб.  2020 год – 12,1 млн.руб.   2021 год-11,6 млн.руб.</a:t>
            </a: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241200" y="212076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1"/>
          <p:cNvSpPr/>
          <p:nvPr/>
        </p:nvSpPr>
        <p:spPr>
          <a:xfrm flipH="1">
            <a:off x="4140360" y="598176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279360" y="2959200"/>
            <a:ext cx="3848040" cy="3670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C:\Users\Кривошеина ТА\Desktop\12648.jpg"/>
          <p:cNvPicPr/>
          <p:nvPr/>
        </p:nvPicPr>
        <p:blipFill>
          <a:blip r:embed="rId2"/>
          <a:stretch/>
        </p:blipFill>
        <p:spPr>
          <a:xfrm>
            <a:off x="4165560" y="2133720"/>
            <a:ext cx="5295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торговли на территории МО «Ленский муниципальный район на 2017 – 2023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D88-BE02-4059-B7F2-9EBCF595B6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0"/>
          <p:cNvSpPr/>
          <p:nvPr/>
        </p:nvSpPr>
        <p:spPr>
          <a:xfrm>
            <a:off x="190440" y="2451240"/>
            <a:ext cx="4826160" cy="2641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302,9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1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1 год – 3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327,9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473,5 тыс.рублей 2021 год – 471,1 тыс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8151-671E-4624-A9CD-AAC599B2CD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619200" y="1511280"/>
            <a:ext cx="8880480" cy="50418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 муниципальной служ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 МО «Ленский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униципальный район» и муниципальным долго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О «Ленский муниципальный район» на 2018-2023 год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«Ленский муниципальный район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а 2018-2023 г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6E9C-D365-454A-980B-E8FDACD6E6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596880" y="2409840"/>
            <a:ext cx="4381560" cy="701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9 год – 733546,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991040" y="3629160"/>
            <a:ext cx="4432320" cy="815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0 год – 727783,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812880" y="5102280"/>
            <a:ext cx="4432320" cy="8157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1 год – 711943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7600" y="1774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"Управление муниципальными финансами МО "Ленский муниципальный район" и муниципальным долгом МО "Ленский муниципальный район" на 2018-2023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3C9C-58E0-425B-AF35-2BC846A6E4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486400" y="1163520"/>
            <a:ext cx="40464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20,0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22,8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1 год - 19,8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0" descr="C:\Users\Кривошеина ТА\Desktop\d5417b99-ad72-40d2-9.jpg"/>
          <p:cNvPicPr/>
          <p:nvPr/>
        </p:nvPicPr>
        <p:blipFill>
          <a:blip r:embed="rId1"/>
          <a:stretch/>
        </p:blipFill>
        <p:spPr>
          <a:xfrm>
            <a:off x="5486400" y="3441600"/>
            <a:ext cx="415620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FF5-B2CD-4417-A8C5-16F4A74EBB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891-913D-47CF-84FA-154EB991A4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1"/>
          <p:cNvPicPr/>
          <p:nvPr/>
        </p:nvPicPr>
        <p:blipFill>
          <a:blip r:embed="rId1"/>
          <a:stretch/>
        </p:blipFill>
        <p:spPr>
          <a:xfrm>
            <a:off x="7107120" y="1163520"/>
            <a:ext cx="156060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0" name="Picture 3" descr="pravo_bilboard"/>
          <p:cNvPicPr/>
          <p:nvPr/>
        </p:nvPicPr>
        <p:blipFill>
          <a:blip r:embed="rId2"/>
          <a:stretch/>
        </p:blipFill>
        <p:spPr>
          <a:xfrm>
            <a:off x="7772400" y="2095560"/>
            <a:ext cx="1854360" cy="965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уществление государственных полномоч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193680" y="1484280"/>
            <a:ext cx="326088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0"/>
          <p:cNvSpPr/>
          <p:nvPr/>
        </p:nvSpPr>
        <p:spPr>
          <a:xfrm>
            <a:off x="5943600" y="1465200"/>
            <a:ext cx="1015920" cy="389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66,1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0"/>
          <p:cNvSpPr/>
          <p:nvPr/>
        </p:nvSpPr>
        <p:spPr>
          <a:xfrm>
            <a:off x="3525840" y="1447920"/>
            <a:ext cx="100800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81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0"/>
          <p:cNvSpPr/>
          <p:nvPr/>
        </p:nvSpPr>
        <p:spPr>
          <a:xfrm>
            <a:off x="4782960" y="1433520"/>
            <a:ext cx="995400" cy="42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      2020      2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50"/>
          <p:cNvSpPr/>
          <p:nvPr/>
        </p:nvSpPr>
        <p:spPr>
          <a:xfrm>
            <a:off x="193680" y="1955880"/>
            <a:ext cx="32479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0"/>
          <p:cNvSpPr/>
          <p:nvPr/>
        </p:nvSpPr>
        <p:spPr>
          <a:xfrm>
            <a:off x="5931000" y="2168640"/>
            <a:ext cx="104148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64,6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0"/>
          <p:cNvSpPr/>
          <p:nvPr/>
        </p:nvSpPr>
        <p:spPr>
          <a:xfrm>
            <a:off x="3538440" y="2143080"/>
            <a:ext cx="11098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125,9,0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0"/>
          <p:cNvSpPr/>
          <p:nvPr/>
        </p:nvSpPr>
        <p:spPr>
          <a:xfrm>
            <a:off x="4732200" y="2143080"/>
            <a:ext cx="10591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0"/>
          <p:cNvSpPr/>
          <p:nvPr/>
        </p:nvSpPr>
        <p:spPr>
          <a:xfrm>
            <a:off x="206280" y="2933640"/>
            <a:ext cx="319716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0"/>
          <p:cNvSpPr/>
          <p:nvPr/>
        </p:nvSpPr>
        <p:spPr>
          <a:xfrm>
            <a:off x="5905440" y="3084480"/>
            <a:ext cx="1104840" cy="757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63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3538440" y="3046320"/>
            <a:ext cx="104616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70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0"/>
          <p:cNvSpPr/>
          <p:nvPr/>
        </p:nvSpPr>
        <p:spPr>
          <a:xfrm>
            <a:off x="4707000" y="3071880"/>
            <a:ext cx="10843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1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206280" y="3873600"/>
            <a:ext cx="3210120" cy="1396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5918040" y="4121280"/>
            <a:ext cx="936720" cy="577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3627360" y="4095720"/>
            <a:ext cx="938160" cy="56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0"/>
          <p:cNvSpPr/>
          <p:nvPr/>
        </p:nvSpPr>
        <p:spPr>
          <a:xfrm>
            <a:off x="4770360" y="4121280"/>
            <a:ext cx="938160" cy="5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206280" y="6084720"/>
            <a:ext cx="32353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0"/>
          <p:cNvSpPr/>
          <p:nvPr/>
        </p:nvSpPr>
        <p:spPr>
          <a:xfrm>
            <a:off x="5932440" y="6040440"/>
            <a:ext cx="1116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500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0"/>
          <p:cNvSpPr/>
          <p:nvPr/>
        </p:nvSpPr>
        <p:spPr>
          <a:xfrm>
            <a:off x="3492360" y="6066000"/>
            <a:ext cx="11685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74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0"/>
          <p:cNvSpPr/>
          <p:nvPr/>
        </p:nvSpPr>
        <p:spPr>
          <a:xfrm>
            <a:off x="4759200" y="6066000"/>
            <a:ext cx="11210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548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244440" y="5334120"/>
            <a:ext cx="3247920" cy="672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0"/>
          <p:cNvSpPr/>
          <p:nvPr/>
        </p:nvSpPr>
        <p:spPr>
          <a:xfrm>
            <a:off x="4719600" y="5362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0"/>
          <p:cNvSpPr/>
          <p:nvPr/>
        </p:nvSpPr>
        <p:spPr>
          <a:xfrm>
            <a:off x="3602160" y="53751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0"/>
          <p:cNvSpPr/>
          <p:nvPr/>
        </p:nvSpPr>
        <p:spPr>
          <a:xfrm>
            <a:off x="5904000" y="5362560"/>
            <a:ext cx="10936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0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7105680" y="2868480"/>
            <a:ext cx="1663560" cy="1043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9" name="Picture 36" descr="1"/>
          <p:cNvPicPr/>
          <p:nvPr/>
        </p:nvPicPr>
        <p:blipFill>
          <a:blip r:embed="rId4"/>
          <a:stretch/>
        </p:blipFill>
        <p:spPr>
          <a:xfrm>
            <a:off x="7873920" y="3665520"/>
            <a:ext cx="1841760" cy="1046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30" name="Picture 37" descr="a-nagrada.a5.ru"/>
          <p:cNvPicPr/>
          <p:nvPr/>
        </p:nvPicPr>
        <p:blipFill>
          <a:blip r:embed="rId5"/>
          <a:stretch/>
        </p:blipFill>
        <p:spPr>
          <a:xfrm>
            <a:off x="7149960" y="4546440"/>
            <a:ext cx="160020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31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37640" y="5470560"/>
            <a:ext cx="1751040" cy="90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77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770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500"/>
                            </p:stCondLst>
                            <p:childTnLst>
                              <p:par>
                                <p:cTn id="6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1500"/>
                            </p:stCondLst>
                            <p:childTnLst>
                              <p:par>
                                <p:cTn id="6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3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3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4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65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7500"/>
                            </p:stCondLst>
                            <p:childTnLst>
                              <p:par>
                                <p:cTn id="6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D7F-A30E-42B7-9284-56C8D32281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4711680" y="270000"/>
            <a:ext cx="5448240" cy="22287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программные расходы -1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662040" y="90180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раммная часть бюджета –98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 202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0"/>
          <p:cNvSpPr/>
          <p:nvPr/>
        </p:nvSpPr>
        <p:spPr>
          <a:xfrm>
            <a:off x="422280" y="190800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86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0"/>
          <p:cNvSpPr/>
          <p:nvPr/>
        </p:nvSpPr>
        <p:spPr>
          <a:xfrm>
            <a:off x="831960" y="2844720"/>
            <a:ext cx="6319800" cy="86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622,8 тыс.рублей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50"/>
          <p:cNvSpPr/>
          <p:nvPr/>
        </p:nvSpPr>
        <p:spPr>
          <a:xfrm>
            <a:off x="1612800" y="3873600"/>
            <a:ext cx="6512040" cy="10414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Защита населения и территории от чрезвычай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итуаций природного  и техног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характера, пожарная безопа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302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0"/>
          <p:cNvSpPr/>
          <p:nvPr/>
        </p:nvSpPr>
        <p:spPr>
          <a:xfrm>
            <a:off x="2428920" y="511956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00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403200" y="87948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21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FB7-06D0-4ACA-9A49-1E808B6392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4191120" y="2120760"/>
            <a:ext cx="1971720" cy="97488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4"/>
          <p:cNvSpPr/>
          <p:nvPr/>
        </p:nvSpPr>
        <p:spPr>
          <a:xfrm>
            <a:off x="4205160" y="3225960"/>
            <a:ext cx="1973520" cy="93492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1884240" y="1214280"/>
            <a:ext cx="3638520" cy="394344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440"/>
              <a:gd name="textAreaBottom" fmla="*/ 3943800 h 394344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d99694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09520" y="51213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11,9 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0" y="762120"/>
            <a:ext cx="233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01,5 м.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023240" y="164772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,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186520" y="35830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0,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938840" y="5165640"/>
            <a:ext cx="471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0,0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73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5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59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4E6-0A02-4FE5-9512-44D01155C6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7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9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84A-A70E-402E-BC62-F0659B2CCD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2"/>
          <p:cNvSpPr/>
          <p:nvPr/>
        </p:nvSpPr>
        <p:spPr>
          <a:xfrm rot="16200000">
            <a:off x="979560" y="1932120"/>
            <a:ext cx="3222720" cy="30225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02.09.2020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6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На 01.01.2021 – 17,0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1930320" y="3759120"/>
            <a:ext cx="1397160" cy="85428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2"/>
          <p:cNvSpPr/>
          <p:nvPr/>
        </p:nvSpPr>
        <p:spPr>
          <a:xfrm rot="16200000">
            <a:off x="5297400" y="2769840"/>
            <a:ext cx="3095640" cy="297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11.12.2020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4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6197760" y="4457880"/>
            <a:ext cx="1460520" cy="89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9F7-7C59-400F-A0FD-525C56BD2A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F3F-D8BC-4CE2-81F6-C1441A77B6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49160" y="1257480"/>
          <a:ext cx="8407440" cy="5252760"/>
        </p:xfrm>
        <a:graphic>
          <a:graphicData uri="http://schemas.openxmlformats.org/drawingml/2006/table">
            <a:tbl>
              <a:tblPr/>
              <a:tblGrid>
                <a:gridCol w="3571920"/>
                <a:gridCol w="1594080"/>
                <a:gridCol w="1614240"/>
                <a:gridCol w="1627200"/>
              </a:tblGrid>
              <a:tr h="68220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тче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20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тчет)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35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77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194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государственные вопро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2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эконом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6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8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щно-коммунальное хозяй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06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93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7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44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32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953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тура и кинематограф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6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15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5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ая поли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0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6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1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ая культура и спо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луживание муниципального дол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бюджетные трансф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38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91960"/>
            <a:ext cx="89154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Диаграмма 4" descr=""/>
          <p:cNvPicPr/>
          <p:nvPr/>
        </p:nvPicPr>
        <p:blipFill>
          <a:blip r:embed="rId1"/>
          <a:stretch/>
        </p:blipFill>
        <p:spPr>
          <a:xfrm>
            <a:off x="444600" y="876240"/>
            <a:ext cx="9347040" cy="5840640"/>
          </a:xfrm>
          <a:prstGeom prst="rect">
            <a:avLst/>
          </a:prstGeom>
          <a:ln w="0">
            <a:noFill/>
          </a:ln>
        </p:spPr>
      </p:pic>
      <p:sp>
        <p:nvSpPr>
          <p:cNvPr id="71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6D6F-E47B-4CE1-8E19-4DD445584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7920" y="152280"/>
            <a:ext cx="89154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СУДАРСТВЕН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Диаграмма 4" descr=""/>
          <p:cNvPicPr/>
          <p:nvPr/>
        </p:nvPicPr>
        <p:blipFill>
          <a:blip r:embed="rId1"/>
          <a:stretch/>
        </p:blipFill>
        <p:spPr>
          <a:xfrm>
            <a:off x="317520" y="698400"/>
            <a:ext cx="9016920" cy="621036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395-F5A9-46D3-AF5A-E90A6F1FE5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1C71-7E65-4D58-B9E7-C350DA47C4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B94D-44B5-457B-A932-F0B80E3FC7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2375-35C6-4916-8CBF-29883573CD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888840" y="1473120"/>
            <a:ext cx="8801280" cy="520704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образования Ленского  муниципального района на 2021-2025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«Ленский муниципальный район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 – 2024 годы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сферы культуры МО «Ленский муниципальный район» на 2018-2023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на территории МО Ленский муниципальный район на 2020-2024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МО Ле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-2024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43D4-F5D4-454B-ADCA-5C6F3298CA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1003320"/>
            <a:ext cx="3505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9 год – 498,0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0 год – 534,3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1 год – 545,5млн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 программа  "Развитие образования Ленского  муниципального района 2021-2025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C:\Users\Кривошеина ТА\Desktop\SgGeJRKnDE0.jpg"/>
          <p:cNvPicPr/>
          <p:nvPr/>
        </p:nvPicPr>
        <p:blipFill>
          <a:blip r:embed="rId1"/>
          <a:stretch/>
        </p:blipFill>
        <p:spPr>
          <a:xfrm>
            <a:off x="5514840" y="2575080"/>
            <a:ext cx="41752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«Развитие образования Ленского муниципального района на 2021-2025 годы </a:t>
            </a:r>
            <a:br>
              <a:rPr sz="2200"/>
            </a:br>
            <a:r>
              <a:rPr b="0" lang="ru-RU" sz="2200" spc="-1" strike="noStrike">
                <a:solidFill>
                  <a:srgbClr val="3399ff"/>
                </a:solidFill>
                <a:latin typeface="Calibri"/>
              </a:rPr>
              <a:t>(расходы на дополнительное образование детей)</a:t>
            </a: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FB8-955B-47FB-A7E2-408FD08C82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C:\Users\Кривошеина ТА\Desktop\PS7KbDjUJyA.jpg"/>
          <p:cNvPicPr/>
          <p:nvPr/>
        </p:nvPicPr>
        <p:blipFill>
          <a:blip r:embed="rId1"/>
          <a:stretch/>
        </p:blipFill>
        <p:spPr>
          <a:xfrm>
            <a:off x="444600" y="1246320"/>
            <a:ext cx="420984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Кривошеина ТА\Desktop\lxl0m_NDoq0.jpg"/>
          <p:cNvPicPr/>
          <p:nvPr/>
        </p:nvPicPr>
        <p:blipFill>
          <a:blip r:embed="rId2"/>
          <a:stretch/>
        </p:blipFill>
        <p:spPr>
          <a:xfrm>
            <a:off x="4699080" y="1523880"/>
            <a:ext cx="4800600" cy="364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:\Users\Кривошеина ТА\Desktop\MdsffFgJ1b8.jpg"/>
          <p:cNvPicPr/>
          <p:nvPr/>
        </p:nvPicPr>
        <p:blipFill>
          <a:blip r:embed="rId3"/>
          <a:stretch/>
        </p:blipFill>
        <p:spPr>
          <a:xfrm>
            <a:off x="444600" y="4038480"/>
            <a:ext cx="42228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Пятиева</cp:lastModifiedBy>
  <dcterms:modified xsi:type="dcterms:W3CDTF">2021-04-29T11:39:58Z</dcterms:modified>
  <cp:revision>1438</cp:revision>
  <dc:subject/>
  <dc:title>Бюджет для граждан на 2014 год</dc:title>
</cp:coreProperties>
</file>