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897-FD06-4A21-98E9-139C45D3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E8F-824C-4722-9768-44CE1C25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A822D-906C-45FE-B3F1-F7A1BB16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5344D-B27D-454E-B4A0-A25094D1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1357E-40F9-4BD0-982C-FB205C0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29FB1-0151-4CE9-8D07-A68F0D36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3741B-1EB8-4AC5-9296-07658419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A2295-57C8-4439-8939-C40DCF1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AA730-DCBB-4300-BDBC-F710BE3B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03B92-3D54-461D-8109-8A3AD325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CB0F2-E4D4-4238-BC45-87E1EF61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90A9F-399E-4FF2-AE86-8151C243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F29-41C6-4159-802F-DC4E12D9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DF0D2-77AA-47E7-957F-4F6F902D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07D6F-ED0F-4E17-B339-C922104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64602-D8C3-4881-B625-8D2698B2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32E25-7F42-4A9C-83B7-022162EE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E7371-8E92-4466-901C-C2EB8452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9C2E1-807A-4CEB-931B-ACD1269E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A2823-F241-4CC0-976F-9085D610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55E33-7361-4E90-A7AA-9E34456F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D3F1E-F626-43DC-B6F1-1656BC29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C46CC-3D8B-4440-B992-149B3C27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B62-E2D7-432A-A7EC-58DA144D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23423-2AF0-41A4-8A31-E943FFA7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5DB72-C7D3-4C4F-A13B-D13B0C5D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2EACB-BC19-4EAB-8D93-9CC2F24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5E0A6-719A-4084-8A1E-758CC488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7DF10-5B4C-4DEF-A36D-F6C2F9ED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93592-6176-41E8-8F85-B7F8ED0C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03871-C1D7-41F8-9B8B-E3C8067E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2BC87-0A47-49E8-858C-A73B8581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5141A-8B2D-4EF7-A39E-030ED112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B3C4F-D2E8-4EA7-8C6F-C0E5E5D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8B3D-46B8-410F-84F4-0EACCA42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9E0E9-BF70-4726-A276-4A4BF99A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AD446-50E1-4EBE-9DAC-DEBEB9D2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2897F-6E72-4AD0-A71F-3F68D33C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72CC3-75C3-4F17-A69B-5EE6D79A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C41F3-8E52-41EF-9476-395B7A2C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C6541-36AD-4204-A9D2-DB5B0448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424D8-FCE3-4AA9-8CC0-28BFD342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82AC7-13A9-4CA4-9110-E596C21F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D9412-107F-4E25-AD7D-D154B06C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85984-CE5D-4E3E-B136-A00620D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6662-60DF-47F9-A8C0-5D21BB46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7EB1F-A31A-41AD-9036-45D0748D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EA8B4-FA2D-44AF-916E-2C5E7F9D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62637-C46C-4D81-A204-3AE54DF6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84853-1473-4C3E-9981-46489B45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C0526-CDFF-4A99-BFD9-E572DEEA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22264-35C4-4E48-AFF3-336D1BE0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D4B36-AFAE-4A6C-991E-37392EB4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5BDED-0A75-4CF7-A391-02216C2D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D47A4-0F25-4BA0-B3A3-6F5CF201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64C72-8721-4AC1-AB55-E5985E29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DCE8-64C7-485A-A30F-CFC497CF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7D3E2-D789-495E-A858-08734B4B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1BF92-0171-4218-97BF-FC9CFF0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45BC1-EA6C-43DB-868A-216D4974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03E51-E0C5-483E-A6B1-E8CC780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D367A-C900-46AC-9127-EC655FF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004F0-9110-4ABD-9BC6-B9A01538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02435-A668-43C8-93EE-6BFDC42F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D3CB0-D509-485D-A256-10E28515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53603-4B9A-4040-B935-90B186BB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FA724-2391-4BA9-B46C-732F7B5C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6506-1576-4E22-A28D-78F11612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501D4-8A66-43F0-BE74-18B00DC8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BBD15-2366-40CF-8789-3B59BDDF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679A3-B374-4C52-94CE-836280C7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006A9-AFC8-43F6-9729-F8DBEDCB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09505-F16B-45C0-80AA-9D78BC98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519B5-345D-4C66-A65D-6319DDC9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70E85-DD73-4BB9-924F-EB9CF2C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6845F-1AA2-40CA-A3EC-5F351D3F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A05F1-D882-4B61-9977-D677038B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FCDFD-6C87-415C-865F-9CB43750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B516-3148-4A82-950E-30725920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FC2AD-54DA-4905-9616-47A6A7D3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78DF6-34CB-4618-AF89-AACC4B79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26B41-14E1-40B4-A1A0-1EB89969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F6A4D-2708-4D47-92DB-BED92FE7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63C37-2F4C-49BF-B21A-5B895FA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AA988-A2B9-448D-9B50-398875A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E7C7A-BFAA-4184-9BC7-7964A8B3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0EDEF-F407-48FD-BAD0-61A9495F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6F483-0511-4B35-8EBF-2AFBA0A3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7827F-C697-4942-9D6A-45D16F83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69E6-65B0-4CCF-BB04-11DA7AD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417B8-02AE-40A0-B1D3-0100A160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6647-C7EB-42AD-BBF7-F2028574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A43-A63D-4ADE-82EB-B5860E41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5F10-BFEC-4746-B096-5E29A815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00CA-8E02-48DB-869F-6FF23965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8CF7-A938-4301-8A80-8D747A7F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FA7D-D27E-497B-AA2C-3C8080CA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32FB-B1A9-4FD8-8976-27298BEE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12F7-E7A6-4D41-B55E-9F7E41FC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3FBD-850C-4F73-BF65-FBD23899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8ADE-8F2D-4EFC-BB80-0D15987C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5E132-A8DA-4156-8853-BED8ABCB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91FF-EEC9-41FB-AF72-2C59626B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4E8-9865-40D8-95E9-FAF8CAAC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E88D-2ADA-4046-97DF-91CE7774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A0A42-A517-4B34-82FB-72844445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CC0BD-E86A-4DD2-9917-82CFE21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C74F-10C5-44AA-9767-DC00E75B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2A0FB-8643-4C48-943F-3E31F084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B6D4-2FAF-41BA-9AD3-61282328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2C7D-FD4E-4E5E-84E0-832E6B18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0D556-6FF6-40E7-BA82-F6E2AB75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9FA5-DBD8-4B6C-AECD-444CB725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8837B-5DEB-4DA6-BFF3-B6028F93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7EC-3144-4F95-BF03-A2C0422C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3716-F9D1-4139-90D0-4BC2057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0EFA1-E4F4-47FE-BCAA-39FF668F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22FB-6BE9-4A72-BEB8-C2FEC1EC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17D9B-39F6-45EE-90FB-03D6FFE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9A83-49C5-4252-A55C-B6814D6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D55A-DC85-4033-B70C-FFA7A4F4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9E1BF-0F9A-44C9-850C-875373D3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AF5E-8740-4509-9CDE-986BC19A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228C0-647A-413D-B5DD-EE79A99D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1A58E-C399-42CE-97DE-497FF54A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179-460A-40A0-BEC6-3A35EC7F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D9B76-8871-43A9-9D68-6BF7DBCC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AF03C-E2E8-486A-9C46-704B7925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061A9-9620-47EC-8596-8B6F997F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8C997-96FE-4F6F-88A7-FCC801ED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DD26-1391-4427-A973-F5234AE0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F2899-F852-4345-97EE-755975A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6779-FE9E-49DA-95F9-4F0DAFA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8994F-6F51-4C82-9777-894ECADB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1595D-6859-4353-AFE3-5C724CF0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E58F8-4C0F-408A-AADA-A997710A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14C-19EE-4111-9DC1-D9995787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359F-A3C4-4404-A815-EDAB9DF0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01E6F-9F85-4FC4-812C-C1DA9D42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3D0E3-0020-45B9-83FE-0F87ACF1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3181-AE87-44E5-B47D-5EEC1C93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87A11-8488-44AC-86EF-361C53F8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CC45B-0128-4ECE-8BF3-6627BD75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60788-028E-4CCF-9CB8-2DF18D2C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575BA-BA9F-43D0-9FAC-061F940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47C60-F3EC-4D32-9033-7608BA1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CC265-0919-445B-9DB4-574FDC67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EA2-19AF-43C5-812F-3E1B1656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8A60C-9159-41CA-B443-928C9227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275FB-8713-40EA-B56F-3766A899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DF085-AEE1-4B31-BE59-289A4ADF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836F-D85F-4C35-AE0D-E941DB0A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6234E-4403-40D6-AF3A-E6287C24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3C665-86C2-4D7D-B21D-9954FE5E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38400-59A3-48F6-9646-A9ECEB62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7651A-899D-43A1-9A97-5B63B11F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9F075-71CE-4950-AD1F-591CB567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2B67E-3D2F-42E5-98BE-F627CD6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D5E-5E42-415F-834F-FD7B4961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48364-F435-4E64-8E23-20243C96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30856-CF3D-4F4E-AA61-7437A45A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81D65-E7E9-4E9D-BF2B-F9499FE4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9D3D2-CAE1-478A-8F1C-B055940A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376A1-7961-46F8-B235-C2467E1E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A323C-E6E7-40A6-9982-7C64AC36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7D795-38F7-4505-A9E6-EE57CFE5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D01E4-31EB-4F02-980A-2A5586AA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F86B3-FB70-465B-B4FA-6932D9A2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C62E2-8F1D-4E4D-8FBB-01BB07DF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FD1-665B-4464-A58A-3B708933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40B7D-0EB1-4808-96B5-61497066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61005-06B7-4F3A-8327-9D15C1C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E2AFF-E585-4B1A-9295-FC305EF7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B8D4-5392-4459-A866-1E0CAA2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F230A-05F2-4E84-983F-8EBF809D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DA6C9-4368-4ED0-AFD6-102EA8A2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9D79D-89E0-4324-B257-C6FF4BB5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536CD-9F4C-4F4B-A092-62CE8F8D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AA26C-AFFC-4417-AB1E-69C4E180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C0E18-F75F-40B2-A257-AC9A53B9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83C8-5FE2-45B8-841C-7FF93BE8F54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E1FE-CBDB-42D2-AF4D-86902698F5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4B81-6818-4F09-AE9E-EA6285B068F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C040-E36A-4D50-9E5A-2F805D97B3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C7A2-D124-431F-B6E8-5D0970A663D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4B4E-2DEE-43F7-8624-EE67273552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E461-D9DA-4B3D-8F8D-100C9D17699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DDC-4D41-4F9D-860E-37A1DB8894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394F-96A8-4AC1-A25A-556FB00DDCB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7B40-4E64-4060-B706-DBCBCB6205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5165-D3DE-48B5-AF8F-E6580BC8557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41AC-927C-415F-8D44-32D6A141CD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13BF-7CA6-4D5C-A70E-EB6723E1EAC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17EA-BEB6-40D6-BC1D-E54507CAA1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A9A1-147C-48D1-BCDD-4601926FC9A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0E0A-903C-41CB-9630-924DF2B9EE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AB25-2F6A-4812-B57F-8C9CE895C55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001B-CCFC-4907-BFE0-822045D2A1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7690-E7D4-462A-93C9-CC5806FE821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CC8B-4EB4-4C63-A095-2A95EA24D3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479B-599C-4641-B8AD-17127524FB7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8082-112A-4EE1-A243-F77EB263B2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2C5A-777A-42CD-9998-87BD25F084D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D004-64C2-4FEF-940D-00C0B3B498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E446-584F-4DBB-B892-63AB6F83859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78B7-8095-428F-8A41-60F4D7D7F4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EF8-CB5C-4D34-A7AE-C1B3F15B8B4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89D0-E201-44BA-AE6C-C2BE2CA62F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862A-57FE-4C35-9429-2BA734913F0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0D60-E35A-45DC-BE96-EC3C77C141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21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2BD-7C05-4BAB-AADD-9A63BC952F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4C04-F473-49CB-B830-1F04BCD62D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0160" y="1450440"/>
            <a:ext cx="933300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 году  бюджетная  и налоговая политика в предстоящем периоде  направлена на достижение национальных целей и стратегических задач, установленных Указом Президента Российской Федерации  от 7 мая 2018 года № 204 «О национальных целях и стратегических задачах развития Российской Федерации на период до 2024 года»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71240" y="3328920"/>
            <a:ext cx="8915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Необходимые условия для реализации бюджетной политики на 202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Реализация мер по обеспечению устойчивости и  сбалансированности бюджета  МО «Ленский муниципальный район»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При формировании бюджетных расходов на 2021 год использован «консервативный» (базовый) вариант прогноза социально-экономического развития МО «Ленский муниципальный райо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519120" y="33192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 и 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полит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95000" y="171900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эффективности бюджетных рас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концентрация ресурсов на наиболее значимых действующих расходных обязательствах МО «Ленский муниципальный район» , принятие новых расходных обязательств на основе взвешенной оценки и при условии финансового обеспечения действующих расходных обязатель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внутренних резервов муниципального сект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создание условий для повышения качества предоставления муниципальных у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 эффективности процедур проведения закупок товаров ,  работ, услуг для обеспечения муниципальных нуж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развитие системы финансового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обеспечение прозрачности и открытости муниципальных финанс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1C4F-837A-4DDF-AEB9-F7E587EFA4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782C-64BD-4C80-B87A-1A6298049F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8527-760F-464F-95DF-976CF516DE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571680" y="2690640"/>
          <a:ext cx="8586720" cy="298296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 290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 543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2 296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 783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 943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 965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6 507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 399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 66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0789-5242-40A3-A6AD-4829AF8F88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3BDD-B72A-4BE0-85A3-371AE16983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858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оказатели социально – 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Ленского района в 2019 – 2023 года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414360" y="1770120"/>
          <a:ext cx="8932680" cy="5038560"/>
        </p:xfrm>
        <a:graphic>
          <a:graphicData uri="http://schemas.openxmlformats.org/drawingml/2006/table">
            <a:tbl>
              <a:tblPr/>
              <a:tblGrid>
                <a:gridCol w="2778120"/>
                <a:gridCol w="1108080"/>
                <a:gridCol w="1108080"/>
                <a:gridCol w="1306440"/>
                <a:gridCol w="1252440"/>
                <a:gridCol w="1379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9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0 год (оцен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1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2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3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Численность постоянного населения (среднегодовая), 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Индекс потребительских цен, % к декабрю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вод в действие жилых домов, кв.м общей площа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69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0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9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списочная численность работников организаций  без субъектов малого и среднего предпринима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89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80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7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7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76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месячная заработная плата одного работника крупных и средних предприятий и некоммерческих организаций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591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376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4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634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67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еличина прожиточного минимума в среднем на душу населения в месяц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929,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895,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40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390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409,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безработ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82D7-A25A-45C7-B7C4-C99D09288F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7D9A-5782-4980-AFE3-7CBA5C3B0B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на 2020-2023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268200" y="1292400"/>
          <a:ext cx="9180720" cy="5717880"/>
        </p:xfrm>
        <a:graphic>
          <a:graphicData uri="http://schemas.openxmlformats.org/drawingml/2006/table">
            <a:tbl>
              <a:tblPr/>
              <a:tblGrid>
                <a:gridCol w="4292640"/>
                <a:gridCol w="1303560"/>
                <a:gridCol w="1233360"/>
                <a:gridCol w="434880"/>
                <a:gridCol w="362160"/>
                <a:gridCol w="392040"/>
                <a:gridCol w="1162080"/>
              </a:tblGrid>
              <a:tr h="24948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 2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 54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2 29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4 7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 0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 33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27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42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3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5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2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0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8 93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6 6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9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 87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7 7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 9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1 9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3 96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9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86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14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5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6 507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0 3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 6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 25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 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6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25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6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25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8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6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 32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98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1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39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6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 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31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EF2C-1264-4200-A6FD-C79F522069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24AA-036F-4BE0-8807-8BB337E091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04AC-8480-4F64-AC87-F8912DD98D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7B5-784A-4909-A096-4CC1C29329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на 2021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46" name="Object 4" descr=""/>
          <p:cNvPicPr/>
          <p:nvPr/>
        </p:nvPicPr>
        <p:blipFill>
          <a:blip r:embed="rId1"/>
          <a:stretch/>
        </p:blipFill>
        <p:spPr>
          <a:xfrm>
            <a:off x="635040" y="1781280"/>
            <a:ext cx="703260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DB73-7259-4CF3-9490-40A90F642B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0272-1156-42DD-8C1C-882D12E949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21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220680" y="841320"/>
          <a:ext cx="8400960" cy="567216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EDD9-5D3E-44D1-9CD2-45BB5397AC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C778-37A0-4231-A83A-4EAEED88F8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19-2022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54" name="Object 6" descr=""/>
          <p:cNvPicPr/>
          <p:nvPr/>
        </p:nvPicPr>
        <p:blipFill>
          <a:blip r:embed="rId1"/>
          <a:stretch/>
        </p:blipFill>
        <p:spPr>
          <a:xfrm>
            <a:off x="446040" y="957240"/>
            <a:ext cx="9318600" cy="54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3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1841-923A-44E6-BF4F-2C95978971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9459-ACA5-4D6A-865B-B3ED2B5505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190440" y="1009800"/>
          <a:ext cx="8282160" cy="555444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18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349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8 6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197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 06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3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9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14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 99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 6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20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5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5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58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61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 8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41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5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35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74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3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96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40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8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91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3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63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93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6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6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AECA-FE79-4AC8-915D-0AF9CC7272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CAA9-CF1A-4337-87C3-CDC184494B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845A-7DFD-41E9-9598-EE47AF8D98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C704-5AD1-4450-8FF1-0DC0E5E7D7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21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62" name="Object 4" descr=""/>
          <p:cNvPicPr/>
          <p:nvPr/>
        </p:nvPicPr>
        <p:blipFill>
          <a:blip r:embed="rId1"/>
          <a:stretch/>
        </p:blipFill>
        <p:spPr>
          <a:xfrm>
            <a:off x="415800" y="1627200"/>
            <a:ext cx="9064800" cy="50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38FC-2C2A-4015-8C61-9EE85E087D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F703-0B90-4443-BA05-30248DF1E6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21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66" name="Object 4" descr=""/>
          <p:cNvPicPr/>
          <p:nvPr/>
        </p:nvPicPr>
        <p:blipFill>
          <a:blip r:embed="rId1"/>
          <a:stretch/>
        </p:blipFill>
        <p:spPr>
          <a:xfrm>
            <a:off x="326880" y="1198440"/>
            <a:ext cx="9463320" cy="529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664D-016E-41D7-90DC-12A3902C09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050D-A439-48B3-A283-B4D588BC5F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1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3DA-750A-4C6F-BEA8-F27BBD6DDC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6950-E113-429C-AAC4-AC1320E1C2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на 2021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81" name="Object 4" descr=""/>
          <p:cNvPicPr/>
          <p:nvPr/>
        </p:nvPicPr>
        <p:blipFill>
          <a:blip r:embed="rId1"/>
          <a:stretch/>
        </p:blipFill>
        <p:spPr>
          <a:xfrm>
            <a:off x="225360" y="1473120"/>
            <a:ext cx="9288360" cy="499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4E3E-2BD2-4068-B40C-1C005AA91D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597A-8C12-4BD2-BE4F-9639471C51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5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608,9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9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4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33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21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586,6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5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5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27"/>
          <p:cNvSpPr/>
          <p:nvPr/>
        </p:nvSpPr>
        <p:spPr>
          <a:xfrm>
            <a:off x="347040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29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573,0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3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7"/>
          <p:cNvSpPr/>
          <p:nvPr/>
        </p:nvSpPr>
        <p:spPr>
          <a:xfrm>
            <a:off x="6702480" y="500076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3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89000" y="4125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бюджета муниципального образования «Ленский  муниципальный район» на 2021 год назначаются публичные слушания.  Положение о порядке организации и проведения публичных слушаний в муниципальном образовании «Ленский  муниципальный район», утверждено решением Собрания депутатов от 27.10.2010 года № 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21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15.12.2020 г. № 101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53AD-9F25-4688-A7CF-268F5E68A2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BA13-D16D-4AA8-813C-9D5C90D2C5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AE68-1559-429B-800C-77E972C7A7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3BFA-0B77-4A08-9545-279FB2725A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69A1-CE88-442D-BF8A-1CECB85ED6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FBA2-C7B4-43F5-AFA1-A76C595591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7D67-71FE-4FB7-BCCF-908A671406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170B-1149-4FA7-BF7A-CBA7848C92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37108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19702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2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69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525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4040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16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292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3708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9 529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 399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66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0E56-668D-449C-85F8-386D1104EE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1AF7-8508-4338-81B7-B0E6D3059E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Пятиева</cp:lastModifiedBy>
  <dcterms:modified xsi:type="dcterms:W3CDTF">2021-04-29T12:31:22Z</dcterms:modified>
  <cp:revision>997</cp:revision>
  <dc:subject/>
  <dc:title>Бюджет для граждан на 2014 год</dc:title>
</cp:coreProperties>
</file>