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wmf" ContentType="image/x-wmf"/>
  <Override PartName="/ppt/media/image17.wmf" ContentType="image/x-wmf"/>
  <Override PartName="/ppt/media/image14.jpeg" ContentType="image/jpeg"/>
  <Override PartName="/ppt/media/image16.wmf" ContentType="image/x-wmf"/>
  <Override PartName="/ppt/media/image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6.png" ContentType="image/png"/>
  <Override PartName="/ppt/media/image7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E638-B351-4E08-B54C-A9C5CB60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1DEA-F43D-406D-B6CB-71E49665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1F0BD-AFE2-4A55-8DB6-EE70E61E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C96FC-3408-42E0-A3EF-CF00B304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D6386-1866-4580-97CE-A39E6A92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6321C-CF9B-4148-A923-7755F305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0F897-CCCA-4AFC-ADF6-05D8AC6B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A8D0B-3AE5-4405-8514-03E0CF16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6AB64-5F85-444C-819C-21F29BAD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ABB3F-6389-4ACF-B859-9BE6FCCD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2B997-A05B-4770-A858-56EF7EA8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71D90-E91A-4959-8983-F8872FA7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BD3-6A99-4538-B037-66CCE94F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A7AA7-0E76-4A45-BE90-8B37F50E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3951E-90E7-40B2-9EDB-A5B89C66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3AC78-86E7-47D8-B812-048BC040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6735A-28F5-4B13-AE36-2A1BCD62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973D5-FC0A-4EE7-8B8A-EB2DBEE6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3D19C-AFD3-4B83-B86E-FE0A1935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0E603-2380-46AA-BC2B-A33DDA87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A86A4-BCCB-419D-ABFA-8854A94E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E814A-378F-48DB-B6D2-D2CEC9C4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A5EBE-7C57-40AC-8373-1E023614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21C-518D-4BCE-B99E-EDFF40E2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B4B5A-8018-4458-A575-8D359C34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FD8E7-DFAC-49A0-89D7-C24BD6E9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307B6-06EA-4891-88BE-B1D1FDFB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87937-A28B-41BA-96EE-CF770654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138F2-EB83-43F5-A3C5-798BE018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CCB23-532E-4D07-AB78-DF2DC1B9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8B21A-580D-4497-9801-389DA522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6DD84-8054-4027-B99D-0F5DF58E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99B69-494E-4A8A-BC1C-39D91878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0B8DE-8CD7-4057-BB3B-5A7741F8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C2C8-7213-4DB5-B22E-ABB4E23B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45DE8-F9B5-4BAB-87F4-0804AE6E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50A93-E790-4096-B562-ABD53E1E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B81D5-39C0-4F37-8E37-6345F923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11870-D458-409E-88C2-F1175413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473FA-206A-4B2A-9A3D-7DBEFF27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92B0F-56E0-40DB-B4FB-93E0A224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5DEB2-5D6D-40C0-ABF9-7CFE6F64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6F087-BD33-4806-BE3B-40D0B348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F1061-2401-4CE1-B474-14B19E0C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777A7-9846-4DA4-B530-E629AB9F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48F4-F353-4D50-B680-2F561EFC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8D8B4-4D6B-4CC9-9A9C-F0C3D7A9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0C14C-F5AD-4F58-8729-00F6BC2E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50CE5-E33F-44C3-88A6-D594ACCA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51724-C04B-43F4-AB96-22782288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AE945-D368-4D60-A961-DD2BB6F2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6527B-7948-40AB-A79F-41156992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F1CB12-4E38-4836-BD67-F695D745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AF4315-E7F1-4EE4-BB4D-32CF5CEB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41E14F-E240-4D4A-99E0-4C851A02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6A9F0-D193-4D5F-8959-71615F61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7E5E-46FD-42B0-B7E5-D1A38861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1BAB2-6255-4CF4-96F8-927151B2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136E9-997D-493D-9EC2-05211C6A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F90B1D-8F48-4D2D-9F44-E017D64B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56E3C-5038-47A8-93EF-1C2FF213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DEA44-ED3E-40A4-A0FE-45D7CF50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483F3-E8DD-452F-A063-BD423282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4C57B-ACBD-4C6C-8094-A2166286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29C694-C210-44CE-969F-ACDE50F0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86C4E3-3EA2-40AF-B601-DBC2988D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C337F9-31ED-4396-B65B-19C0FC4C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1D72-6078-49CC-A1B9-FF058CB1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A3C99B-5219-494F-A413-8F5B0750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CC1EAF-9BB0-4C14-A539-4FC8869A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96D2C1-C41D-4F70-900E-268A3941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078AFB-F618-4954-859C-6FBD8892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2309C3-E62A-41C4-9D99-8EFB0E6D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2394FE-E765-4E95-AE94-1A77C180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B60AFB-3F33-4EFF-A619-6AB8247B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A07FED-2673-43A6-AD7D-0F6DEF8A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164921-7E1F-473F-A2A2-412740EB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7D84FD-01BE-4E9F-81F1-7057B957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E2B8-394D-4F97-8DE2-7690A3CE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9522D5-3ECF-47FE-B8FA-73921A56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2F04E5-8E39-4840-A3BD-3389C8D8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E0CE6-BEE9-4C11-9E34-25799F0C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1BA6FF-DDA0-4EF8-843C-B6D9E3C2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F98D26-4FEB-48DC-B401-81A0E1A0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30489B-F317-4B18-BF2A-AC1D5A3D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D983BF-CC94-496E-A40C-65EBEB4C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E473BD-B74F-4B7C-BEBE-47162B6F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5A3CE4-36D8-4DDF-95DB-6DBF2459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09A056-93DE-4CDD-92F6-1A73A326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B2F7-3CBB-4943-9319-C84A3C6A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38B3B9-A367-420A-A568-1902C8F0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6E3A-7AF3-4F9F-8051-6714AD31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D8D-BEF4-4C6E-8770-63E84945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D767-8714-4E25-82D4-EAAF0ED7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7FB0-D682-483F-8CE3-A729CE21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D0C7-D164-4E7E-BF4B-ABD18FA1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9AA1-93B5-4BFD-B241-ADCD0A32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0041-43CF-4B71-8F55-A01E53DB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BF835-C9B4-4C40-AE73-F1E67890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E44E6-72B9-4956-BA80-E90C4194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01A1F-4615-4F72-9752-76273B00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4F76C-E921-42C9-AC51-233A1CA2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A3276-47C8-4AA9-B611-2F056B2E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F22-388C-4A35-AC26-9C84BC02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553F0-F9CF-431E-BDAF-D16D8B2B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9580F-9D53-4F1C-B242-D6ECC6FD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A13BD-6909-4D19-A35F-F5739CA7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04FBD-1FD1-47B4-B76A-BFDE88FD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02902-A11E-4CEB-9B74-E185CF21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0D1F6-BF25-44D2-868F-805D54D8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57841-4564-4FC7-98B8-0F0FD319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E998A-E2FF-47C9-81E3-8521226B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1296D-8270-4000-8BCF-D3C62B51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A2ACD-D4F5-4A5C-8342-5022C809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EED-B599-4F7F-B83F-FD13463A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D22FC-B719-420F-B0DB-98A95E02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2500E-73F8-4820-BC5A-125E6411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46BBB-6DF7-4839-85B4-49599FD2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14105-FC7C-426B-A7EF-834C2565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ADF70-CEF5-4371-A9EB-40B66FD1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5B8C9-66C3-4559-8A3C-5512EA9D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0C58A-6960-48BB-A8D3-6644828A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30BE9-C788-46D4-831D-28A8F50F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38EC2-2793-4394-A101-6D444CC3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8862E-1CF0-428A-A12A-B3054424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654-07CE-47CC-A7B1-20A8A365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421C4-0BF6-4521-9A16-2ACCBA9B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4B718-BCB9-4FEE-8880-4CA8A64D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E633A-4DC7-469D-AFE6-683479C5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F08CC-69B6-4C64-9B7C-A89F9BE0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ACF02-BAB3-4751-BD2C-B89D5971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18B12-1B75-4219-B2EC-DBCFDCD9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5D1AA-0426-43B6-941E-E9A11B4F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45EB1-8BAA-4483-B2CB-095895C0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8BCEB-7204-45AC-B7C2-0CB99F0B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2FDFF-D22C-44AB-AF03-7C04211A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9F0-3303-463D-8D49-1F5489F9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C0543-5D8B-4500-9BD1-A1A18D29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05078-199E-4AB1-97BE-49F7817A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332E6-3A4A-4CB3-8962-21B0B821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F0742-5ECC-4E3D-BB2F-32DCC440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FBF3C-60DD-4193-B278-F044AB82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62309-8541-494C-AD95-E66DA692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CE018-7055-402D-9EC7-A70338D5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1D9E2-A5AB-4E1E-9512-7C058BBD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E3AC7-E473-43BA-9752-811C9D55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A328B-EFBE-4882-B46A-931A122A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A13-6231-48EC-BB88-A59AE23B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BEF18-CF07-432C-AEA8-9B5E8215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10756-F579-416A-A4E8-1C6424B7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51A39-999F-4B9D-9CA9-7505C6FF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C5ED8-BDCE-4881-A0A7-38C5A90C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EE77C-9FF3-476B-9753-96BC78D7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3A627-C108-47A0-93D2-9AC67633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B55CD-6747-408F-8C62-49153451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FD9D4-EFD2-4141-B854-40B70000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D83E7-F1C2-4680-A405-8547CFE4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13FAB-A840-4CA6-B847-083E62C8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DD4F-8269-4F9A-9D4A-411851D3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8F507-20E0-44F3-B6A4-94693971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5BB1D-4DD5-4869-AFDE-C4D98CA5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F5BDB-1C6C-43EB-8CA7-FB30D55F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28FC5-769E-4377-AC53-E812CCEE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C898C-432D-433F-917F-7F479F78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CFFB5-ACD9-46EF-8402-3718BA73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0817D-DFC6-4842-B3AC-92D92093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890F1-9B5B-44C6-A485-77B6B7EE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FB01C-1DD7-426C-9AC9-324059FC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6DDB5-13F3-41EF-B6C4-23B553B1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AA0-BEED-4D37-B2E6-24E8005F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4F6F2-6260-4688-9293-7A3C282C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28FCF-FA18-4135-9521-15E77ED4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5FED3-69C2-4460-A7E3-E97D47A9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D06AE-8351-4469-A3E3-7AC691BB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8A502-7F2D-40BD-ADFF-E975B4B3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B7A16-3DB9-4645-BCFD-FD387A79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1B510-2365-4F6D-B9D5-380A770A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D2C00-010D-48D4-B9A8-515225E5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0A517-6F2B-4F8C-998F-5930F482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85D15-BD9E-423C-9E79-27E29B87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CE68-D35B-4077-A668-DBAEC66A2B1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924B-4C30-429E-A8C6-D0A260610D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919692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9196920" y="320040"/>
              <a:ext cx="117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196920" y="488160"/>
              <a:ext cx="117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919692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919692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919692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9196920" y="1159920"/>
              <a:ext cx="117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66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919692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9196920" y="320040"/>
              <a:ext cx="117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9196920" y="488160"/>
              <a:ext cx="117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919692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919692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919692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9196920" y="1159920"/>
              <a:ext cx="117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DDAC-530C-43CD-96CB-E953F08E9C6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DED6-2865-4071-8C08-156B1512DF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4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919692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9196920" y="320040"/>
              <a:ext cx="117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9196920" y="488160"/>
              <a:ext cx="117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919692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919692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919692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9196920" y="1159920"/>
              <a:ext cx="117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EF32-6D52-48AB-A4BC-DB11B18BCBD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8382-462E-4C64-9986-5B9C732AB2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1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919692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9196920" y="320040"/>
              <a:ext cx="117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9196920" y="488160"/>
              <a:ext cx="117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919692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919692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919692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9196920" y="1159920"/>
              <a:ext cx="117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8CAB-6174-4E47-AB94-87E0B0B8AD1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4725-CCFB-4429-898F-A80C228513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9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919692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9196920" y="320040"/>
              <a:ext cx="117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9196920" y="488160"/>
              <a:ext cx="117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919692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919692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919692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9196920" y="1159920"/>
              <a:ext cx="117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C6B9-A721-4924-BC32-B0468E7BC73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A10C-A101-4C76-AEFB-4E853AFD64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96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919692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9196920" y="320040"/>
              <a:ext cx="117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9196920" y="488160"/>
              <a:ext cx="117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919692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919692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919692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9196920" y="1159920"/>
              <a:ext cx="117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20EB-9660-4F85-A4B9-E37FDB7FA335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5639-8CD7-4010-BC93-7F0511DCC04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03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1"/>
            <p:cNvSpPr/>
            <p:nvPr/>
          </p:nvSpPr>
          <p:spPr>
            <a:xfrm>
              <a:off x="919692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4"/>
            <p:cNvSpPr/>
            <p:nvPr/>
          </p:nvSpPr>
          <p:spPr>
            <a:xfrm>
              <a:off x="9196920" y="320040"/>
              <a:ext cx="117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8"/>
            <p:cNvSpPr/>
            <p:nvPr/>
          </p:nvSpPr>
          <p:spPr>
            <a:xfrm>
              <a:off x="9196920" y="488160"/>
              <a:ext cx="117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23"/>
            <p:cNvSpPr/>
            <p:nvPr/>
          </p:nvSpPr>
          <p:spPr>
            <a:xfrm>
              <a:off x="919692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27"/>
            <p:cNvSpPr/>
            <p:nvPr/>
          </p:nvSpPr>
          <p:spPr>
            <a:xfrm>
              <a:off x="919692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32"/>
            <p:cNvSpPr/>
            <p:nvPr/>
          </p:nvSpPr>
          <p:spPr>
            <a:xfrm>
              <a:off x="919692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36"/>
            <p:cNvSpPr/>
            <p:nvPr/>
          </p:nvSpPr>
          <p:spPr>
            <a:xfrm>
              <a:off x="9196920" y="1159920"/>
              <a:ext cx="117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4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2113-6952-41B2-A3B7-48B59955890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4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4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CD74-0E03-4F57-AE10-E130EE9B9E3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2468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16920" y="2992320"/>
            <a:ext cx="1450080" cy="2189160"/>
            <a:chOff x="8116920" y="2992320"/>
            <a:chExt cx="1450080" cy="2189160"/>
          </a:xfrm>
        </p:grpSpPr>
        <p:sp>
          <p:nvSpPr>
            <p:cNvPr id="76" name="Oval 9"/>
            <p:cNvSpPr/>
            <p:nvPr/>
          </p:nvSpPr>
          <p:spPr>
            <a:xfrm>
              <a:off x="811692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4250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7328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1692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4250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7328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9040680" y="327672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1692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42508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7328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90406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9348840" y="356076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16920" y="3843360"/>
              <a:ext cx="21816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4250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7328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9040680" y="3843360"/>
              <a:ext cx="21816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1692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42508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7328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90406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9348840" y="4127400"/>
              <a:ext cx="21816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16920" y="441180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4250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7328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9040680" y="441180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1692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42508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7328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90406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4250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90406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30120" y="2819520"/>
            <a:ext cx="8915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9829-7AEE-41CF-BB88-3DE2F74EE14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91F2-3DAF-4665-B2F3-79FFF16FE2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5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919692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9196920" y="320040"/>
              <a:ext cx="117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9196920" y="488160"/>
              <a:ext cx="117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919692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919692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919692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9196920" y="1159920"/>
              <a:ext cx="117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6B5F-73B2-4825-BB0A-98B62AD298D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5B09-9BDF-4CE1-A8DD-EA050BFCA2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2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919692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9196920" y="320040"/>
              <a:ext cx="117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9196920" y="488160"/>
              <a:ext cx="117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919692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919692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919692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9196920" y="1159920"/>
              <a:ext cx="117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E68A-A2EA-4CF7-97FD-8ADA72DE17A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C7ED-E0BE-4464-A0F6-88EF719B16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9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919692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9196920" y="320040"/>
              <a:ext cx="117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9196920" y="488160"/>
              <a:ext cx="117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919692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919692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919692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9196920" y="1159920"/>
              <a:ext cx="117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BD01-E2EE-4E49-8398-2F0A4AD010E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A3B8-F120-4E6F-AE3E-02F00854F2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37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919692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9196920" y="320040"/>
              <a:ext cx="117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9196920" y="488160"/>
              <a:ext cx="117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919692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919692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919692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9196920" y="1159920"/>
              <a:ext cx="117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CD91-F59E-4079-8FF6-525131E03EA0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C6E9-3EF1-4A36-AA7C-D41CA110249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44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919692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9196920" y="320040"/>
              <a:ext cx="117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9196920" y="488160"/>
              <a:ext cx="117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919692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919692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919692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9196920" y="1159920"/>
              <a:ext cx="117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E39B-A7D5-40D3-89DF-014715192CF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570C-5CDF-4095-937E-01888FC5C8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2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919692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9196920" y="320040"/>
              <a:ext cx="117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9196920" y="488160"/>
              <a:ext cx="117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919692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919692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919692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9196920" y="1159920"/>
              <a:ext cx="117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84E8-0CD3-4912-B0DD-6C9EFE7CDEA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5F77-3953-4318-A0EE-99D5D9F6C6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9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919692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9196920" y="320040"/>
              <a:ext cx="117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9196920" y="488160"/>
              <a:ext cx="117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919692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919692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919692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9196920" y="1159920"/>
              <a:ext cx="117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0D5F-0BC7-4757-8114-FD5BAD05D55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FA3A-D652-4C21-BAF4-C326D52534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2499840" y="6237360"/>
            <a:ext cx="686124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К решению о бюджете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«Ленский муниципальный район»   на 2016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3" descr=""/>
          <p:cNvPicPr/>
          <p:nvPr/>
        </p:nvPicPr>
        <p:blipFill>
          <a:blip r:embed="rId1"/>
          <a:stretch/>
        </p:blipFill>
        <p:spPr>
          <a:xfrm>
            <a:off x="333360" y="922320"/>
            <a:ext cx="3043080" cy="1865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13" name="Rectangle 4"/>
          <p:cNvSpPr/>
          <p:nvPr/>
        </p:nvSpPr>
        <p:spPr>
          <a:xfrm>
            <a:off x="272880" y="2955960"/>
            <a:ext cx="323532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Бюдже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для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гражд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6" descr="101392442_Internetportal8"/>
          <p:cNvPicPr/>
          <p:nvPr/>
        </p:nvPicPr>
        <p:blipFill>
          <a:blip r:embed="rId2"/>
          <a:stretch/>
        </p:blipFill>
        <p:spPr>
          <a:xfrm>
            <a:off x="3925800" y="3165480"/>
            <a:ext cx="3873600" cy="2577960"/>
          </a:xfrm>
          <a:prstGeom prst="rect">
            <a:avLst/>
          </a:prstGeom>
          <a:ln w="0">
            <a:noFill/>
          </a:ln>
        </p:spPr>
      </p:pic>
      <p:sp>
        <p:nvSpPr>
          <p:cNvPr id="1115" name="Text Box 7"/>
          <p:cNvSpPr/>
          <p:nvPr/>
        </p:nvSpPr>
        <p:spPr>
          <a:xfrm>
            <a:off x="3427560" y="434880"/>
            <a:ext cx="423684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ниципально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СКИЙ МУНИЦИПАЛЬНЫЙ РАЙ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Рисунок 6" descr="https://pp.vk.me/c304214/v304214092/19a0/hIVh7_KEJoA.jpg"/>
          <p:cNvPicPr/>
          <p:nvPr/>
        </p:nvPicPr>
        <p:blipFill>
          <a:blip r:embed="rId3"/>
          <a:stretch/>
        </p:blipFill>
        <p:spPr>
          <a:xfrm>
            <a:off x="7550280" y="493560"/>
            <a:ext cx="2023920" cy="2264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600"/>
                            </p:stCondLst>
                            <p:childTnLst>
                              <p:par>
                                <p:cTn id="1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6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1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BF3E-CEE4-468A-B42F-53C13F57FD7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8B9E-8A3B-434E-962D-843635173E6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47680" y="2006280"/>
            <a:ext cx="937584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Главная цель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- реализация приоритетных направлений социально-экономического развития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88640" y="2989440"/>
            <a:ext cx="9389880" cy="38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повышение эффективности и результативности исполнения решения о бюджете МО «Ленский муниципальный район» на 2016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создание условий для повышения качества муниципальных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наращивание инвестиционного потенциала, улучшение производственной и транспортной инфраструк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развитие жилищного строи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формирование межбюджетных отношений на муниципальном уровне с учетом изменения системы межбюджетного регулирования в связи с проводимой реформой местного само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519120" y="331920"/>
            <a:ext cx="77724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Times New Roman"/>
              </a:rPr>
              <a:t>Бюджетная  и налоговая политика Ленского района на 2016 год и на среднесрочную перспектив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11F7-702A-4338-BAE0-E5E8EF10D82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80F9-5859-4E42-8E7F-EADD19FAD21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88840" y="495360"/>
            <a:ext cx="7167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Основные  параметры бюджета МО «Ленский муниципальный район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19" name=""/>
          <p:cNvGraphicFramePr/>
          <p:nvPr/>
        </p:nvGraphicFramePr>
        <p:xfrm>
          <a:off x="571680" y="2690640"/>
          <a:ext cx="8586720" cy="2982960"/>
        </p:xfrm>
        <a:graphic>
          <a:graphicData uri="http://schemas.openxmlformats.org/drawingml/2006/table">
            <a:tbl>
              <a:tblPr/>
              <a:tblGrid>
                <a:gridCol w="2145960"/>
                <a:gridCol w="2148120"/>
                <a:gridCol w="2146320"/>
                <a:gridCol w="214632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7 408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9 828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8 720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4 232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8 570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9 114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 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93 17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 741,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393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3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3E0A-8118-42A5-8F63-5F13F07FBD0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1FAE-93CB-407B-86D5-8B4F57009D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0" y="415440"/>
            <a:ext cx="8585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Показатели социально – экономического развития 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Ленского района в 2013 – 2017 годах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23" name=""/>
          <p:cNvGraphicFramePr/>
          <p:nvPr/>
        </p:nvGraphicFramePr>
        <p:xfrm>
          <a:off x="414360" y="1770120"/>
          <a:ext cx="8932680" cy="4557600"/>
        </p:xfrm>
        <a:graphic>
          <a:graphicData uri="http://schemas.openxmlformats.org/drawingml/2006/table">
            <a:tbl>
              <a:tblPr/>
              <a:tblGrid>
                <a:gridCol w="2778120"/>
                <a:gridCol w="1108080"/>
                <a:gridCol w="1108080"/>
                <a:gridCol w="1306440"/>
                <a:gridCol w="1252440"/>
                <a:gridCol w="13795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3 год (отче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4 год (отче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5 год (оценк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6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7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Численность постоянного населения (среднегодовая), тыс.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2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2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Индекс потребительских цен, % к декабрю прошлог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Ввод в действие жилых домов, кв.м общей площа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808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175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018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98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5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Среднесписочная численность работников организаций по полному кругу с учетом филиалов и структурных подразделений, 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57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505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44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82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337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Среднемесячная заработная плата одного работника,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0297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3576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4712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6329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8475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Величина прожиточного минимума в среднем на душу населения в месяц,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5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75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9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5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Уровень безработицы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,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4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530B-11B8-4DEF-969C-E7085A8A37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A3E1-2AA7-4BB1-BC8C-82538ABA4D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390240" y="334800"/>
            <a:ext cx="784044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Основные параметры бюджетной системы МО «Ленский муниципальный район» на 2014-2017 годы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27" name=""/>
          <p:cNvGraphicFramePr/>
          <p:nvPr/>
        </p:nvGraphicFramePr>
        <p:xfrm>
          <a:off x="268200" y="1609560"/>
          <a:ext cx="9180720" cy="5221440"/>
        </p:xfrm>
        <a:graphic>
          <a:graphicData uri="http://schemas.openxmlformats.org/drawingml/2006/table">
            <a:tbl>
              <a:tblPr/>
              <a:tblGrid>
                <a:gridCol w="4292640"/>
                <a:gridCol w="1303560"/>
                <a:gridCol w="1233360"/>
                <a:gridCol w="434880"/>
                <a:gridCol w="362160"/>
                <a:gridCol w="392040"/>
                <a:gridCol w="1162080"/>
              </a:tblGrid>
              <a:tr h="249480"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нение за 201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нение за 201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 бюдже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00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7 40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9 82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8 72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 72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 30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86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 60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96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32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55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74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3 31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8 78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 41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 37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7 62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4 23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8 5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9 1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расходы на обслуживание муниципального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3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59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1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2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533520" indent="-53352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34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фицит (-), профицит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7 61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93 17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 7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9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очники финансирования дефицита бюджета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61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 17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7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кредит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52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61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- пол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32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06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4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га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7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70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32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06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ение остатков средств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ношение дефицита бюджета к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28" name="Rectangle 151"/>
          <p:cNvSpPr/>
          <p:nvPr/>
        </p:nvSpPr>
        <p:spPr>
          <a:xfrm>
            <a:off x="7873920" y="1316160"/>
            <a:ext cx="67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ыс.руб</a:t>
            </a:r>
            <a:r>
              <a:rPr b="0" lang="ru-RU" sz="1000" spc="-1" strike="noStrike">
                <a:solidFill>
                  <a:srgbClr val="669999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862A-635C-488D-8ECC-337A820F7EE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30BD-75B6-439E-8267-B012B3C79FC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990720" y="193320"/>
            <a:ext cx="6540480" cy="5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Доходы бюджета район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507960" y="941400"/>
            <a:ext cx="774720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Доходы районного бюджета образуются за счет налоговых и неналоговых доходов, а также за счет безвозмездных поступл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AutoShape 5"/>
          <p:cNvSpPr/>
          <p:nvPr/>
        </p:nvSpPr>
        <p:spPr>
          <a:xfrm>
            <a:off x="3782880" y="164772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ходы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6"/>
          <p:cNvSpPr/>
          <p:nvPr/>
        </p:nvSpPr>
        <p:spPr>
          <a:xfrm>
            <a:off x="465120" y="3798720"/>
            <a:ext cx="2703600" cy="2308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логовые доходы – поступления от уплаты налогов, установленных Налоговым кодексом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7"/>
          <p:cNvSpPr/>
          <p:nvPr/>
        </p:nvSpPr>
        <p:spPr>
          <a:xfrm>
            <a:off x="3490920" y="3786120"/>
            <a:ext cx="2727360" cy="230364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налоговые доходы – поступления от уплаты пошлин и сборов, установленных законодательством РФ, арендных платежей и штрафов за нарушение законод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8"/>
          <p:cNvSpPr/>
          <p:nvPr/>
        </p:nvSpPr>
        <p:spPr>
          <a:xfrm>
            <a:off x="6566040" y="3780000"/>
            <a:ext cx="3030480" cy="2315880"/>
          </a:xfrm>
          <a:prstGeom prst="rect">
            <a:avLst/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- поступления от других бюджетов (межбюджетные трансферты), организаций, граждан (кроме налоговых и неналоговых дохо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AutoShape 9"/>
          <p:cNvSpPr/>
          <p:nvPr/>
        </p:nvSpPr>
        <p:spPr>
          <a:xfrm rot="2727000">
            <a:off x="7105320" y="22338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AutoShape 10"/>
          <p:cNvSpPr/>
          <p:nvPr/>
        </p:nvSpPr>
        <p:spPr>
          <a:xfrm rot="7661400">
            <a:off x="1419480" y="2137680"/>
            <a:ext cx="1611360" cy="88236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360"/>
              <a:gd name="textAreaBottom" fmla="*/ 764280 h 88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AutoShape 11"/>
          <p:cNvSpPr/>
          <p:nvPr/>
        </p:nvSpPr>
        <p:spPr>
          <a:xfrm>
            <a:off x="4557600" y="299232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6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5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50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EEDD-3664-4CB6-9C19-83F6B9B373E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6E71-5C5B-4D42-B223-8FFEC02475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41440" y="276120"/>
            <a:ext cx="91281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доходов бюджета на 2016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43" name="Object 4"/>
          <p:cNvGraphicFramePr/>
          <p:nvPr/>
        </p:nvGraphicFramePr>
        <p:xfrm>
          <a:off x="555480" y="1378080"/>
          <a:ext cx="7844040" cy="448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1378080"/>
                    <a:ext cx="7844040" cy="44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5" name="Line 8"/>
          <p:cNvSpPr/>
          <p:nvPr/>
        </p:nvSpPr>
        <p:spPr>
          <a:xfrm flipV="1">
            <a:off x="2367000" y="4911840"/>
            <a:ext cx="84600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5"/>
          <p:cNvSpPr/>
          <p:nvPr/>
        </p:nvSpPr>
        <p:spPr>
          <a:xfrm>
            <a:off x="2311560" y="1957320"/>
            <a:ext cx="2523960" cy="1015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6"/>
          <p:cNvSpPr/>
          <p:nvPr/>
        </p:nvSpPr>
        <p:spPr>
          <a:xfrm flipV="1">
            <a:off x="7315200" y="3049560"/>
            <a:ext cx="627120" cy="333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2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9FD2-326C-4550-9EAA-84DA461C942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EAEB-18D7-4EAD-AE69-92B1FA734F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717480" y="204480"/>
            <a:ext cx="787248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РАСПРЕДЕЛЕНИЕ НАЛОГОВ по бюджетам с 1 января  2016 года ( в процентах)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51" name=""/>
          <p:cNvGraphicFramePr/>
          <p:nvPr/>
        </p:nvGraphicFramePr>
        <p:xfrm>
          <a:off x="220680" y="841320"/>
          <a:ext cx="8400960" cy="5672160"/>
        </p:xfrm>
        <a:graphic>
          <a:graphicData uri="http://schemas.openxmlformats.org/drawingml/2006/table">
            <a:tbl>
              <a:tblPr/>
              <a:tblGrid>
                <a:gridCol w="3581280"/>
                <a:gridCol w="1249560"/>
                <a:gridCol w="1261800"/>
                <a:gridCol w="1263960"/>
                <a:gridCol w="10443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бластно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муниципальных рай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город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сель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 на доходы физических лиц город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 на доходы физических лиц сель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по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/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 (в зависимости от полномоч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Местные налоги (налог на имущество физических лиц и земельный нал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 (до разгранич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/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ые помещения (в зависимости от собственности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на окружающую 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B0CE-0E68-4DF0-805C-83FEBF47A07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F1C8-8958-4FF1-B348-01F45C42CDB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21920" y="331560"/>
            <a:ext cx="81723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2014-2017 год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55" name="Object 6"/>
          <p:cNvGraphicFramePr/>
          <p:nvPr/>
        </p:nvGraphicFramePr>
        <p:xfrm>
          <a:off x="496800" y="1008000"/>
          <a:ext cx="921708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008000"/>
                    <a:ext cx="92170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63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713E-7C95-42FB-9835-E578E33E568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5AB8-BE0E-4E37-A4C4-7BA6305C96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2"/>
          <p:cNvSpPr/>
          <p:nvPr/>
        </p:nvSpPr>
        <p:spPr>
          <a:xfrm>
            <a:off x="193680" y="241200"/>
            <a:ext cx="829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 бюджета 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190440" y="1009800"/>
          <a:ext cx="8282160" cy="5554440"/>
        </p:xfrm>
        <a:graphic>
          <a:graphicData uri="http://schemas.openxmlformats.org/drawingml/2006/table">
            <a:tbl>
              <a:tblPr/>
              <a:tblGrid>
                <a:gridCol w="3390840"/>
                <a:gridCol w="1231920"/>
                <a:gridCol w="1251000"/>
                <a:gridCol w="1200240"/>
                <a:gridCol w="120816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ДФ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297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239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94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375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68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47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45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302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товары, реализуемые на территории РФ ( акциз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14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3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97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27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2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40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55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17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96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4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43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ое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5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79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0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98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52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7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7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9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3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Штра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3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0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5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чие налоговые и неналоговые до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35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8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1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0AEF-4566-466D-8DE4-C030926F13A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843B-0401-4A82-ACF1-DA9FD5AF8E9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9400" y="264960"/>
            <a:ext cx="7869240" cy="98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алоговых доходов бюджета  МО на 2016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64" name="Object 4"/>
          <p:cNvGraphicFramePr/>
          <p:nvPr/>
        </p:nvGraphicFramePr>
        <p:xfrm>
          <a:off x="466560" y="1677960"/>
          <a:ext cx="896328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677960"/>
                    <a:ext cx="896328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1E25-CF38-4FA3-AC8E-3CDED69CF71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47D3-2864-44AD-817C-4131D39E301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749160" y="213840"/>
            <a:ext cx="8902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Что такое бюджет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0" name="Rectangle 3"/>
          <p:cNvSpPr/>
          <p:nvPr/>
        </p:nvSpPr>
        <p:spPr>
          <a:xfrm>
            <a:off x="193680" y="3632040"/>
            <a:ext cx="9363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БЮДЖЕТ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(от старонормандского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ougette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– кошель, сумка, кожаный мешок) – план доходов и расходов, предназначенный для финансирования задач и функций государства и местного самоуправ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"/>
          <p:cNvSpPr/>
          <p:nvPr/>
        </p:nvSpPr>
        <p:spPr>
          <a:xfrm>
            <a:off x="193680" y="901080"/>
            <a:ext cx="226368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поступающие в бюджет денежные средства (налоги юридических и физических лиц, административные платежи и сборы, безвозмездные поступлен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6130800" y="882000"/>
            <a:ext cx="248472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выплачиваемые из бюджета денежные средства (социальные выплаты населению, содержание муниципальных учреждений (образование, культура и другие) капитальное строительство и друг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7"/>
          <p:cNvSpPr/>
          <p:nvPr/>
        </p:nvSpPr>
        <p:spPr>
          <a:xfrm flipH="1">
            <a:off x="2736360" y="5230800"/>
            <a:ext cx="54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8"/>
          <p:cNvSpPr/>
          <p:nvPr/>
        </p:nvSpPr>
        <p:spPr>
          <a:xfrm>
            <a:off x="6365880" y="5232240"/>
            <a:ext cx="547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9"/>
          <p:cNvSpPr/>
          <p:nvPr/>
        </p:nvSpPr>
        <p:spPr>
          <a:xfrm>
            <a:off x="271440" y="4668840"/>
            <a:ext cx="24973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бюджета -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доходов над рас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0"/>
          <p:cNvSpPr/>
          <p:nvPr/>
        </p:nvSpPr>
        <p:spPr>
          <a:xfrm>
            <a:off x="6892920" y="4748040"/>
            <a:ext cx="2575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это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расходов над до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3" descr="2014-04-09dengi_sybsidii"/>
          <p:cNvPicPr/>
          <p:nvPr/>
        </p:nvPicPr>
        <p:blipFill>
          <a:blip r:embed="rId1"/>
          <a:stretch/>
        </p:blipFill>
        <p:spPr>
          <a:xfrm>
            <a:off x="2684520" y="912960"/>
            <a:ext cx="3143160" cy="24876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4" descr="весы-бюджет2212"/>
          <p:cNvPicPr/>
          <p:nvPr/>
        </p:nvPicPr>
        <p:blipFill>
          <a:blip r:embed="rId2"/>
          <a:stretch/>
        </p:blipFill>
        <p:spPr>
          <a:xfrm>
            <a:off x="3360600" y="4500720"/>
            <a:ext cx="2884680" cy="164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20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75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75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670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72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50"/>
                            </p:stCondLst>
                            <p:childTnLst>
                              <p:par>
                                <p:cTn id="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55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D3FD-9CD4-4D9A-AB1C-EABF09AA24D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6C5B-6896-4834-ABA1-85CFF30A58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09120" y="296640"/>
            <a:ext cx="787572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еналоговых доходов бюджета  МО на 2016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69" name="Object 4"/>
          <p:cNvGraphicFramePr/>
          <p:nvPr/>
        </p:nvGraphicFramePr>
        <p:xfrm>
          <a:off x="378000" y="1249200"/>
          <a:ext cx="936144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249200"/>
                    <a:ext cx="936144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F1B3-4684-4460-8EE8-652D4564DCA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288E-3013-4266-AE04-16847E0766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AutoShape 4"/>
          <p:cNvSpPr/>
          <p:nvPr/>
        </p:nvSpPr>
        <p:spPr>
          <a:xfrm>
            <a:off x="3330720" y="1889280"/>
            <a:ext cx="3213000" cy="1676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ормы межбюдже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трансф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7600" y="223560"/>
            <a:ext cx="817236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Межбюджетные трансферты –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ой вид безвозмездных поступлени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5" name="AutoShape 17"/>
          <p:cNvSpPr/>
          <p:nvPr/>
        </p:nvSpPr>
        <p:spPr>
          <a:xfrm>
            <a:off x="3065400" y="4319640"/>
            <a:ext cx="3645000" cy="2286000"/>
          </a:xfrm>
          <a:custGeom>
            <a:avLst/>
            <a:gdLst>
              <a:gd name="textAreaLeft" fmla="*/ 147960 w 3645000"/>
              <a:gd name="textAreaRight" fmla="*/ 3497040 w 3645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34439" h="21600">
                <a:moveTo>
                  <a:pt x="0" y="0"/>
                </a:moveTo>
                <a:lnTo>
                  <a:pt x="34439" y="0"/>
                </a:lnTo>
                <a:lnTo>
                  <a:pt x="34439" y="21600"/>
                </a:lnTo>
                <a:lnTo>
                  <a:pt x="0" y="21600"/>
                </a:lnTo>
                <a:close/>
              </a:path>
              <a:path fill="lightenLess" w="34439" h="21600">
                <a:moveTo>
                  <a:pt x="0" y="0"/>
                </a:moveTo>
                <a:lnTo>
                  <a:pt x="34439" y="0"/>
                </a:lnTo>
                <a:lnTo>
                  <a:pt x="33039" y="1400"/>
                </a:lnTo>
                <a:lnTo>
                  <a:pt x="1400" y="1400"/>
                </a:lnTo>
                <a:close/>
              </a:path>
              <a:path fill="darken" w="34439" h="21600">
                <a:moveTo>
                  <a:pt x="34439" y="0"/>
                </a:moveTo>
                <a:lnTo>
                  <a:pt x="34439" y="21600"/>
                </a:lnTo>
                <a:lnTo>
                  <a:pt x="33039" y="20200"/>
                </a:lnTo>
                <a:lnTo>
                  <a:pt x="33039" y="1400"/>
                </a:lnTo>
                <a:close/>
              </a:path>
              <a:path fill="darkenLess" w="34439" h="21600">
                <a:moveTo>
                  <a:pt x="344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39" y="20200"/>
                </a:lnTo>
                <a:close/>
              </a:path>
              <a:path fill="lighten" w="344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венция – целевые средст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финанс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олномочий, пере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ому уровню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9"/>
          <p:cNvSpPr/>
          <p:nvPr/>
        </p:nvSpPr>
        <p:spPr>
          <a:xfrm flipH="1">
            <a:off x="4816080" y="3649680"/>
            <a:ext cx="3240" cy="55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AutoShape 21"/>
          <p:cNvSpPr/>
          <p:nvPr/>
        </p:nvSpPr>
        <p:spPr>
          <a:xfrm>
            <a:off x="231840" y="3479760"/>
            <a:ext cx="2644560" cy="200196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отаци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бе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определения конкре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и их ис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22"/>
          <p:cNvSpPr/>
          <p:nvPr/>
        </p:nvSpPr>
        <p:spPr>
          <a:xfrm flipH="1">
            <a:off x="1676520" y="2649600"/>
            <a:ext cx="1473120" cy="614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23"/>
          <p:cNvSpPr/>
          <p:nvPr/>
        </p:nvSpPr>
        <p:spPr>
          <a:xfrm>
            <a:off x="204840" y="934920"/>
            <a:ext cx="81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бюджетные трансферты – денежные средства, перечисляемые из одного бюджета бюджетной системы другому бюдж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13"/>
          <p:cNvSpPr/>
          <p:nvPr/>
        </p:nvSpPr>
        <p:spPr>
          <a:xfrm>
            <a:off x="6967440" y="3513240"/>
            <a:ext cx="2729160" cy="200340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сидия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евые сред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офинанс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рас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их бюдж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"/>
          <p:cNvSpPr/>
          <p:nvPr/>
        </p:nvSpPr>
        <p:spPr>
          <a:xfrm>
            <a:off x="6632640" y="2657520"/>
            <a:ext cx="167004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7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4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0"/>
                            </p:stCondLst>
                            <p:childTnLst>
                              <p:par>
                                <p:cTn id="6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F64F-83EF-4CA7-A1FA-5BC7414B85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7FF9-7B79-492E-86E7-13A0814BAFD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95080" y="246240"/>
            <a:ext cx="78771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безвозмездных поступлений бюджета  МО на 2016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85" name="Object 4"/>
          <p:cNvGraphicFramePr/>
          <p:nvPr/>
        </p:nvGraphicFramePr>
        <p:xfrm>
          <a:off x="276120" y="1523880"/>
          <a:ext cx="9186840" cy="48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523880"/>
                    <a:ext cx="918684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0D2B-CF5E-4667-833D-8BD794998ED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6185-63B5-46C2-95CA-2C3CD64B95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66400" y="285480"/>
            <a:ext cx="2997000" cy="11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Финансовая  </a:t>
            </a: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поддерж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0" name="AutoShape 5"/>
          <p:cNvSpPr/>
          <p:nvPr/>
        </p:nvSpPr>
        <p:spPr>
          <a:xfrm rot="5400000">
            <a:off x="948960" y="1390320"/>
            <a:ext cx="1297080" cy="3195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740,5 млн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AutoShape 27"/>
          <p:cNvSpPr/>
          <p:nvPr/>
        </p:nvSpPr>
        <p:spPr>
          <a:xfrm>
            <a:off x="193680" y="3933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8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AutoShape 27"/>
          <p:cNvSpPr/>
          <p:nvPr/>
        </p:nvSpPr>
        <p:spPr>
          <a:xfrm>
            <a:off x="19368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50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AutoShape 27"/>
          <p:cNvSpPr/>
          <p:nvPr/>
        </p:nvSpPr>
        <p:spPr>
          <a:xfrm>
            <a:off x="19368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226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AutoShape 27"/>
          <p:cNvSpPr/>
          <p:nvPr/>
        </p:nvSpPr>
        <p:spPr>
          <a:xfrm>
            <a:off x="19368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AutoShape 5"/>
          <p:cNvSpPr/>
          <p:nvPr/>
        </p:nvSpPr>
        <p:spPr>
          <a:xfrm rot="5400000">
            <a:off x="4317480" y="1390320"/>
            <a:ext cx="1297080" cy="319572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332,4 млн.р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AutoShape 27"/>
          <p:cNvSpPr/>
          <p:nvPr/>
        </p:nvSpPr>
        <p:spPr>
          <a:xfrm>
            <a:off x="3470400" y="3946680"/>
            <a:ext cx="2965320" cy="43164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27"/>
          <p:cNvSpPr/>
          <p:nvPr/>
        </p:nvSpPr>
        <p:spPr>
          <a:xfrm>
            <a:off x="347040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87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AutoShape 27"/>
          <p:cNvSpPr/>
          <p:nvPr/>
        </p:nvSpPr>
        <p:spPr>
          <a:xfrm>
            <a:off x="347040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242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AutoShape 27"/>
          <p:cNvSpPr/>
          <p:nvPr/>
        </p:nvSpPr>
        <p:spPr>
          <a:xfrm>
            <a:off x="347040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AutoShape 5"/>
          <p:cNvSpPr/>
          <p:nvPr/>
        </p:nvSpPr>
        <p:spPr>
          <a:xfrm rot="5400000">
            <a:off x="7659360" y="1377720"/>
            <a:ext cx="1296720" cy="3195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347,4 млн.р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AutoShape 27"/>
          <p:cNvSpPr/>
          <p:nvPr/>
        </p:nvSpPr>
        <p:spPr>
          <a:xfrm>
            <a:off x="6745320" y="3933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AutoShape 27"/>
          <p:cNvSpPr/>
          <p:nvPr/>
        </p:nvSpPr>
        <p:spPr>
          <a:xfrm>
            <a:off x="674532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9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AutoShape 27"/>
          <p:cNvSpPr/>
          <p:nvPr/>
        </p:nvSpPr>
        <p:spPr>
          <a:xfrm>
            <a:off x="674532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253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AutoShape 27"/>
          <p:cNvSpPr/>
          <p:nvPr/>
        </p:nvSpPr>
        <p:spPr>
          <a:xfrm>
            <a:off x="674532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20" descr="2014-04-09dengi_sybsidii"/>
          <p:cNvPicPr/>
          <p:nvPr/>
        </p:nvPicPr>
        <p:blipFill>
          <a:blip r:embed="rId1"/>
          <a:stretch/>
        </p:blipFill>
        <p:spPr>
          <a:xfrm>
            <a:off x="4065480" y="0"/>
            <a:ext cx="459756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4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00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700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90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189000" y="412560"/>
            <a:ext cx="8726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 Ленского  района утверждается в форме решения Собрания депутатов муниципального образования «Ленский  муниципальный район» о бюджете на очередной финансовый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опросу рассмотрения проекта бюджета муниципального образования «Ленский  муниципальный район» на 2016 год назначаются публичные слушания.  Положение о порядке организации и проведения публичных слушаний в муниципальном образовании «Ленский  муниципальный район», утверждено решением Собрания депутатов от 27.10.2010 года № 6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 на 2016 год утвержден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ешением Собрания депутатов муниципального образования «Ленский  муниципальный район» от 23.12.2015 г. № 122-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8E2F-8800-4CA0-B10C-5B085BAF4B4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106E-32DD-4C0B-84CD-F8AA0CAA354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-668520" y="203040"/>
            <a:ext cx="10296360" cy="41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акие бывают бюджеты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3" name="Rectangle 3"/>
          <p:cNvSpPr/>
          <p:nvPr/>
        </p:nvSpPr>
        <p:spPr>
          <a:xfrm>
            <a:off x="662040" y="907920"/>
            <a:ext cx="16365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4"/>
          <p:cNvSpPr/>
          <p:nvPr/>
        </p:nvSpPr>
        <p:spPr>
          <a:xfrm flipH="1">
            <a:off x="2707920" y="868320"/>
            <a:ext cx="770040" cy="317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5"/>
          <p:cNvSpPr/>
          <p:nvPr/>
        </p:nvSpPr>
        <p:spPr>
          <a:xfrm>
            <a:off x="4952880" y="765000"/>
            <a:ext cx="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6"/>
          <p:cNvSpPr/>
          <p:nvPr/>
        </p:nvSpPr>
        <p:spPr>
          <a:xfrm>
            <a:off x="6051600" y="820800"/>
            <a:ext cx="782640" cy="36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3314880" y="1844280"/>
            <a:ext cx="31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ы публично-правов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8"/>
          <p:cNvSpPr/>
          <p:nvPr/>
        </p:nvSpPr>
        <p:spPr>
          <a:xfrm>
            <a:off x="6784920" y="822240"/>
            <a:ext cx="2114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10" descr=""/>
          <p:cNvPicPr/>
          <p:nvPr/>
        </p:nvPicPr>
        <p:blipFill>
          <a:blip r:embed="rId1"/>
          <a:stretch/>
        </p:blipFill>
        <p:spPr>
          <a:xfrm>
            <a:off x="428760" y="3722760"/>
            <a:ext cx="2566800" cy="164304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sp>
        <p:nvSpPr>
          <p:cNvPr id="1140" name="Line 12"/>
          <p:cNvSpPr/>
          <p:nvPr/>
        </p:nvSpPr>
        <p:spPr>
          <a:xfrm>
            <a:off x="6016680" y="2781360"/>
            <a:ext cx="77940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3"/>
          <p:cNvSpPr/>
          <p:nvPr/>
        </p:nvSpPr>
        <p:spPr>
          <a:xfrm>
            <a:off x="4943520" y="2781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4"/>
          <p:cNvSpPr/>
          <p:nvPr/>
        </p:nvSpPr>
        <p:spPr>
          <a:xfrm flipH="1">
            <a:off x="3079440" y="2781360"/>
            <a:ext cx="7808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5"/>
          <p:cNvSpPr/>
          <p:nvPr/>
        </p:nvSpPr>
        <p:spPr>
          <a:xfrm>
            <a:off x="222120" y="5534280"/>
            <a:ext cx="2886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федеральный бюджет, бюджеты государственных внебюджетных фондов 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6"/>
          <p:cNvSpPr/>
          <p:nvPr/>
        </p:nvSpPr>
        <p:spPr>
          <a:xfrm>
            <a:off x="3549600" y="5385240"/>
            <a:ext cx="2886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региональные бюджеты, бюджеты территориальных фондов ОМ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7"/>
          <p:cNvSpPr/>
          <p:nvPr/>
        </p:nvSpPr>
        <p:spPr>
          <a:xfrm>
            <a:off x="6899400" y="5609520"/>
            <a:ext cx="27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естные бюдже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9"/>
          <p:cNvSpPr/>
          <p:nvPr/>
        </p:nvSpPr>
        <p:spPr>
          <a:xfrm>
            <a:off x="3470400" y="2565360"/>
            <a:ext cx="2808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Picture 20" descr=""/>
          <p:cNvPicPr/>
          <p:nvPr/>
        </p:nvPicPr>
        <p:blipFill>
          <a:blip r:embed="rId2"/>
          <a:stretch/>
        </p:blipFill>
        <p:spPr>
          <a:xfrm>
            <a:off x="428760" y="1268280"/>
            <a:ext cx="2205000" cy="2230560"/>
          </a:xfrm>
          <a:prstGeom prst="rect">
            <a:avLst/>
          </a:prstGeom>
          <a:ln w="19080">
            <a:solidFill>
              <a:srgbClr val="00ccff"/>
            </a:solidFill>
            <a:miter/>
          </a:ln>
        </p:spPr>
      </p:pic>
      <p:pic>
        <p:nvPicPr>
          <p:cNvPr id="1148" name="Picture 24" descr="i"/>
          <p:cNvPicPr/>
          <p:nvPr/>
        </p:nvPicPr>
        <p:blipFill>
          <a:blip r:embed="rId3"/>
          <a:stretch/>
        </p:blipFill>
        <p:spPr>
          <a:xfrm>
            <a:off x="6964200" y="1452600"/>
            <a:ext cx="2495880" cy="186516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1149" name="Picture 25" descr="karta_arhangelskaya_oblasti_po_rayonam-578x600"/>
          <p:cNvPicPr/>
          <p:nvPr/>
        </p:nvPicPr>
        <p:blipFill>
          <a:blip r:embed="rId4"/>
          <a:stretch/>
        </p:blipFill>
        <p:spPr>
          <a:xfrm>
            <a:off x="7020000" y="3691080"/>
            <a:ext cx="2428920" cy="166500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pic>
        <p:nvPicPr>
          <p:cNvPr id="1150" name="Picture 26" descr="111913170_large_article1408"/>
          <p:cNvPicPr/>
          <p:nvPr/>
        </p:nvPicPr>
        <p:blipFill>
          <a:blip r:embed="rId5"/>
          <a:stretch/>
        </p:blipFill>
        <p:spPr>
          <a:xfrm>
            <a:off x="3597120" y="3675240"/>
            <a:ext cx="2951280" cy="167292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2160" y="848880"/>
            <a:ext cx="817236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Бюджетная система представляет собой совокупность отношений, возникающих между различными субъектами в процессе формирования доходов и осуществления расходов бюджетов всех уровней системы, осуществления государственных и муниципальных заимствований, регулирования государственного и муниципального долга, составления и рассмотрения проектов бюджетов системы, их утверждения и исполнения, контроля за их исполнением.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52" name="Picture 4" descr="флаг"/>
          <p:cNvPicPr/>
          <p:nvPr/>
        </p:nvPicPr>
        <p:blipFill>
          <a:blip r:embed="rId1"/>
          <a:stretch/>
        </p:blipFill>
        <p:spPr>
          <a:xfrm>
            <a:off x="515880" y="2451240"/>
            <a:ext cx="8961480" cy="4074840"/>
          </a:xfrm>
          <a:prstGeom prst="rect">
            <a:avLst/>
          </a:prstGeom>
          <a:ln w="0">
            <a:noFill/>
          </a:ln>
        </p:spPr>
      </p:pic>
      <p:sp>
        <p:nvSpPr>
          <p:cNvPr id="1153" name="Text Box 6"/>
          <p:cNvSpPr/>
          <p:nvPr/>
        </p:nvSpPr>
        <p:spPr>
          <a:xfrm>
            <a:off x="754200" y="318960"/>
            <a:ext cx="76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Бюджетная систем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7"/>
          <p:cNvSpPr/>
          <p:nvPr/>
        </p:nvSpPr>
        <p:spPr>
          <a:xfrm>
            <a:off x="2452680" y="2554200"/>
            <a:ext cx="57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Уровни бюджетной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8"/>
          <p:cNvSpPr/>
          <p:nvPr/>
        </p:nvSpPr>
        <p:spPr>
          <a:xfrm>
            <a:off x="3309840" y="3162240"/>
            <a:ext cx="4106880" cy="4510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9"/>
          <p:cNvSpPr/>
          <p:nvPr/>
        </p:nvSpPr>
        <p:spPr>
          <a:xfrm>
            <a:off x="3468600" y="3178080"/>
            <a:ext cx="37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11"/>
          <p:cNvSpPr/>
          <p:nvPr/>
        </p:nvSpPr>
        <p:spPr>
          <a:xfrm>
            <a:off x="1871640" y="3933720"/>
            <a:ext cx="6676920" cy="6526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СУБЪЕКТО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2"/>
          <p:cNvSpPr/>
          <p:nvPr/>
        </p:nvSpPr>
        <p:spPr>
          <a:xfrm>
            <a:off x="3367080" y="4964040"/>
            <a:ext cx="3976560" cy="5652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3"/>
          <p:cNvSpPr/>
          <p:nvPr/>
        </p:nvSpPr>
        <p:spPr>
          <a:xfrm>
            <a:off x="274680" y="5889600"/>
            <a:ext cx="3397320" cy="6699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униципальных рай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14"/>
          <p:cNvSpPr/>
          <p:nvPr/>
        </p:nvSpPr>
        <p:spPr>
          <a:xfrm>
            <a:off x="3846600" y="5862600"/>
            <a:ext cx="2814480" cy="7113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городски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сельских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16"/>
          <p:cNvSpPr/>
          <p:nvPr/>
        </p:nvSpPr>
        <p:spPr>
          <a:xfrm>
            <a:off x="6894360" y="5864400"/>
            <a:ext cx="2802240" cy="6966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городских окру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17"/>
          <p:cNvSpPr/>
          <p:nvPr/>
        </p:nvSpPr>
        <p:spPr>
          <a:xfrm>
            <a:off x="5006880" y="3641760"/>
            <a:ext cx="479520" cy="247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18"/>
          <p:cNvSpPr/>
          <p:nvPr/>
        </p:nvSpPr>
        <p:spPr>
          <a:xfrm>
            <a:off x="4978440" y="4645080"/>
            <a:ext cx="550800" cy="274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9"/>
          <p:cNvSpPr/>
          <p:nvPr/>
        </p:nvSpPr>
        <p:spPr>
          <a:xfrm>
            <a:off x="5238720" y="5516640"/>
            <a:ext cx="0" cy="3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0"/>
          <p:cNvSpPr/>
          <p:nvPr/>
        </p:nvSpPr>
        <p:spPr>
          <a:xfrm>
            <a:off x="5254560" y="5661000"/>
            <a:ext cx="293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21"/>
          <p:cNvSpPr/>
          <p:nvPr/>
        </p:nvSpPr>
        <p:spPr>
          <a:xfrm flipH="1">
            <a:off x="2003040" y="5646600"/>
            <a:ext cx="322092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22"/>
          <p:cNvSpPr/>
          <p:nvPr/>
        </p:nvSpPr>
        <p:spPr>
          <a:xfrm>
            <a:off x="8188200" y="5645160"/>
            <a:ext cx="158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23"/>
          <p:cNvSpPr/>
          <p:nvPr/>
        </p:nvSpPr>
        <p:spPr>
          <a:xfrm flipH="1">
            <a:off x="1987200" y="5676840"/>
            <a:ext cx="2844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1000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B47D-51A9-4E68-B6B4-20C79B50EF0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1CC0-817D-4D3C-926F-B691674AD90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152360" y="190440"/>
            <a:ext cx="626616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Консолидированный бюджет Ленского  район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2" name="Rectangle 3"/>
          <p:cNvSpPr/>
          <p:nvPr/>
        </p:nvSpPr>
        <p:spPr>
          <a:xfrm>
            <a:off x="6740640" y="5130720"/>
            <a:ext cx="2495520" cy="1300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Козьм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4"/>
          <p:cNvSpPr/>
          <p:nvPr/>
        </p:nvSpPr>
        <p:spPr>
          <a:xfrm>
            <a:off x="6715080" y="2122560"/>
            <a:ext cx="24955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афронов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6697800" y="730080"/>
            <a:ext cx="24937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ойг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6"/>
          <p:cNvSpPr/>
          <p:nvPr/>
        </p:nvSpPr>
        <p:spPr>
          <a:xfrm>
            <a:off x="2817720" y="3713040"/>
            <a:ext cx="2610000" cy="156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ы поселений Ленского райо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7"/>
          <p:cNvSpPr/>
          <p:nvPr/>
        </p:nvSpPr>
        <p:spPr>
          <a:xfrm>
            <a:off x="2749680" y="1198440"/>
            <a:ext cx="2698560" cy="156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Бюджет МО «Ленский муниципальный райо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8"/>
          <p:cNvSpPr/>
          <p:nvPr/>
        </p:nvSpPr>
        <p:spPr>
          <a:xfrm flipH="1">
            <a:off x="1698480" y="2128680"/>
            <a:ext cx="1028880" cy="3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9"/>
          <p:cNvSpPr/>
          <p:nvPr/>
        </p:nvSpPr>
        <p:spPr>
          <a:xfrm flipH="1">
            <a:off x="5089320" y="1674720"/>
            <a:ext cx="1525320" cy="1973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10"/>
          <p:cNvSpPr/>
          <p:nvPr/>
        </p:nvSpPr>
        <p:spPr>
          <a:xfrm flipH="1">
            <a:off x="5506560" y="2692440"/>
            <a:ext cx="1179720" cy="1177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AutoShape 11"/>
          <p:cNvSpPr/>
          <p:nvPr/>
        </p:nvSpPr>
        <p:spPr>
          <a:xfrm>
            <a:off x="317520" y="189000"/>
            <a:ext cx="1366920" cy="6427800"/>
          </a:xfrm>
          <a:custGeom>
            <a:avLst/>
            <a:gdLst>
              <a:gd name="textAreaLeft" fmla="*/ 66600 w 1366920"/>
              <a:gd name="textAreaRight" fmla="*/ 1300320 w 1366920"/>
              <a:gd name="textAreaTop" fmla="*/ 66600 h 6427800"/>
              <a:gd name="textAreaBottom" fmla="*/ 6361200 h 6427800"/>
            </a:gdLst>
            <a:ahLst/>
            <a:rect l="textAreaLeft" t="textAreaTop" r="textAreaRight" b="textAreaBottom"/>
            <a:pathLst>
              <a:path w="21600" h="101551">
                <a:moveTo>
                  <a:pt x="3600" y="0"/>
                </a:moveTo>
                <a:arcTo wR="3600" hR="3600" stAng="16200000" swAng="-5400000"/>
                <a:lnTo>
                  <a:pt x="0" y="97951"/>
                </a:lnTo>
                <a:arcTo wR="3600" hR="3600" stAng="10800000" swAng="-5400000"/>
                <a:lnTo>
                  <a:pt x="18000" y="1015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2"/>
          <p:cNvSpPr/>
          <p:nvPr/>
        </p:nvSpPr>
        <p:spPr>
          <a:xfrm flipH="1" flipV="1">
            <a:off x="5492880" y="5011560"/>
            <a:ext cx="1193760" cy="78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3"/>
          <p:cNvSpPr/>
          <p:nvPr/>
        </p:nvSpPr>
        <p:spPr>
          <a:xfrm flipH="1" flipV="1">
            <a:off x="5479920" y="4384440"/>
            <a:ext cx="1208160" cy="1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26"/>
          <p:cNvSpPr/>
          <p:nvPr/>
        </p:nvSpPr>
        <p:spPr>
          <a:xfrm>
            <a:off x="6697800" y="3586320"/>
            <a:ext cx="250164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«Урдом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20"/>
          <p:cNvSpPr/>
          <p:nvPr/>
        </p:nvSpPr>
        <p:spPr>
          <a:xfrm flipH="1" flipV="1">
            <a:off x="1700280" y="4541400"/>
            <a:ext cx="108720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WordArt 22"/>
          <p:cNvSpPr txBox="1"/>
          <p:nvPr/>
        </p:nvSpPr>
        <p:spPr>
          <a:xfrm rot="5400000">
            <a:off x="-1946520" y="3052440"/>
            <a:ext cx="596592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солидированный бюджет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2BD1-82B3-45E1-B9B0-37C0688D78C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5410-F26F-408A-98AD-5D1F303A21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11040" y="0"/>
            <a:ext cx="552456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Межбюджетные отношения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9" name="AutoShape 3"/>
          <p:cNvSpPr/>
          <p:nvPr/>
        </p:nvSpPr>
        <p:spPr>
          <a:xfrm>
            <a:off x="493560" y="2720880"/>
            <a:ext cx="3675240" cy="3256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4"/>
          <p:cNvSpPr/>
          <p:nvPr/>
        </p:nvSpPr>
        <p:spPr>
          <a:xfrm>
            <a:off x="4815000" y="927000"/>
            <a:ext cx="3809880" cy="9241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ангель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5"/>
          <p:cNvSpPr/>
          <p:nvPr/>
        </p:nvSpPr>
        <p:spPr>
          <a:xfrm rot="20130000">
            <a:off x="2117520" y="1858680"/>
            <a:ext cx="2698560" cy="342720"/>
          </a:xfrm>
          <a:prstGeom prst="leftRightArrow">
            <a:avLst>
              <a:gd name="adj1" fmla="val 50000"/>
              <a:gd name="adj2" fmla="val 15675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6"/>
          <p:cNvSpPr/>
          <p:nvPr/>
        </p:nvSpPr>
        <p:spPr>
          <a:xfrm rot="5400000">
            <a:off x="6461280" y="2084760"/>
            <a:ext cx="571680" cy="341640"/>
          </a:xfrm>
          <a:prstGeom prst="leftRightArrow">
            <a:avLst>
              <a:gd name="adj1" fmla="val 50000"/>
              <a:gd name="adj2" fmla="val 3331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7"/>
          <p:cNvSpPr/>
          <p:nvPr/>
        </p:nvSpPr>
        <p:spPr>
          <a:xfrm>
            <a:off x="4827600" y="2666880"/>
            <a:ext cx="3908520" cy="1190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ский муниципальны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8"/>
          <p:cNvSpPr/>
          <p:nvPr/>
        </p:nvSpPr>
        <p:spPr>
          <a:xfrm>
            <a:off x="4991040" y="4675320"/>
            <a:ext cx="3741840" cy="191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еления Ленского рай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дом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фронов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зьмин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йгин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AutoShape 9"/>
          <p:cNvSpPr/>
          <p:nvPr/>
        </p:nvSpPr>
        <p:spPr>
          <a:xfrm rot="5400000">
            <a:off x="6451560" y="4098960"/>
            <a:ext cx="641520" cy="342720"/>
          </a:xfrm>
          <a:prstGeom prst="leftRightArrow">
            <a:avLst>
              <a:gd name="adj1" fmla="val 50000"/>
              <a:gd name="adj2" fmla="val 3726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6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4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9000"/>
                            </p:stCondLst>
                            <p:childTnLst>
                              <p:par>
                                <p:cTn id="3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C833-2EC8-4137-855C-4B10B20611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0E29-BF8A-49D8-9062-A0E37B8911C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онсолидированный бюджет 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Ленского  район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199" name=""/>
          <p:cNvGraphicFramePr/>
          <p:nvPr/>
        </p:nvGraphicFramePr>
        <p:xfrm>
          <a:off x="431640" y="1947960"/>
          <a:ext cx="8371080" cy="3778200"/>
        </p:xfrm>
        <a:graphic>
          <a:graphicData uri="http://schemas.openxmlformats.org/drawingml/2006/table">
            <a:tbl>
              <a:tblPr/>
              <a:tblGrid>
                <a:gridCol w="2229120"/>
                <a:gridCol w="2063520"/>
                <a:gridCol w="2108160"/>
                <a:gridCol w="1970280"/>
              </a:tblGrid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7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6 769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6 386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7 374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8 140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5 128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7 767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ФИЦИ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370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741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6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7CD0-20CC-4022-806A-8A743A74B76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25F2-AAE8-41F1-9731-D979B99BCBB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36320" y="-360"/>
            <a:ext cx="817236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могает формировать доходную часть бюдже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3" name="Picture 5" descr="mota_ru_0020701-crop"/>
          <p:cNvPicPr/>
          <p:nvPr/>
        </p:nvPicPr>
        <p:blipFill>
          <a:blip r:embed="rId1"/>
          <a:stretch/>
        </p:blipFill>
        <p:spPr>
          <a:xfrm>
            <a:off x="0" y="2171880"/>
            <a:ext cx="2719440" cy="2530440"/>
          </a:xfrm>
          <a:prstGeom prst="rect">
            <a:avLst/>
          </a:prstGeom>
          <a:ln w="0">
            <a:noFill/>
          </a:ln>
        </p:spPr>
      </p:pic>
      <p:sp>
        <p:nvSpPr>
          <p:cNvPr id="1204" name="Rectangle 6"/>
          <p:cNvSpPr/>
          <p:nvPr/>
        </p:nvSpPr>
        <p:spPr>
          <a:xfrm>
            <a:off x="439920" y="668160"/>
            <a:ext cx="311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налогоплательщ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доходная часть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( отчисление налогов и сбор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Picture 9" descr="p_35848_1_gallerybig"/>
          <p:cNvPicPr/>
          <p:nvPr/>
        </p:nvPicPr>
        <p:blipFill>
          <a:blip r:embed="rId2"/>
          <a:stretch/>
        </p:blipFill>
        <p:spPr>
          <a:xfrm>
            <a:off x="3844800" y="1498680"/>
            <a:ext cx="2698920" cy="2908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206" name="Picture 12" descr="1251836862_3d-character-114"/>
          <p:cNvPicPr/>
          <p:nvPr/>
        </p:nvPicPr>
        <p:blipFill>
          <a:blip r:embed="rId3"/>
          <a:stretch/>
        </p:blipFill>
        <p:spPr>
          <a:xfrm>
            <a:off x="7350120" y="3465360"/>
            <a:ext cx="1951200" cy="2909880"/>
          </a:xfrm>
          <a:prstGeom prst="rect">
            <a:avLst/>
          </a:prstGeom>
          <a:ln w="0">
            <a:noFill/>
          </a:ln>
        </p:spPr>
      </p:pic>
      <p:sp>
        <p:nvSpPr>
          <p:cNvPr id="1207" name="AutoShape 15"/>
          <p:cNvSpPr/>
          <p:nvPr/>
        </p:nvSpPr>
        <p:spPr>
          <a:xfrm>
            <a:off x="2754360" y="2470320"/>
            <a:ext cx="915840" cy="463320"/>
          </a:xfrm>
          <a:prstGeom prst="rightArrowCallout">
            <a:avLst>
              <a:gd name="adj1" fmla="val 25002"/>
              <a:gd name="adj2" fmla="val 25000"/>
              <a:gd name="adj3" fmla="val 32945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AutoShape 16"/>
          <p:cNvSpPr/>
          <p:nvPr/>
        </p:nvSpPr>
        <p:spPr>
          <a:xfrm rot="5400000">
            <a:off x="6962760" y="2457360"/>
            <a:ext cx="1130400" cy="1409760"/>
          </a:xfrm>
          <a:custGeom>
            <a:avLst/>
            <a:gdLst>
              <a:gd name="textAreaLeft" fmla="*/ 650520 w 1130400"/>
              <a:gd name="textAreaRight" fmla="*/ 954000 w 1130400"/>
              <a:gd name="textAreaTop" fmla="*/ 190080 h 1409760"/>
              <a:gd name="textAreaBottom" fmla="*/ 603360 h 1409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17"/>
          <p:cNvSpPr/>
          <p:nvPr/>
        </p:nvSpPr>
        <p:spPr>
          <a:xfrm>
            <a:off x="755640" y="4950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лучает социальные гарантии –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расходная часть бюджета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(образование,  культура, физическая культура и спорт, социальные льготы и другие направления социальных гарантий насел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18"/>
          <p:cNvSpPr/>
          <p:nvPr/>
        </p:nvSpPr>
        <p:spPr>
          <a:xfrm>
            <a:off x="6845400" y="1406520"/>
            <a:ext cx="290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как получ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социальных гаран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4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User</cp:lastModifiedBy>
  <dcterms:modified xsi:type="dcterms:W3CDTF">2016-03-29T11:14:49Z</dcterms:modified>
  <cp:revision>805</cp:revision>
  <dc:subject/>
  <dc:title>Бюджет для граждан на 2014 год</dc:title>
</cp:coreProperties>
</file>