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A0ED-E080-4CFF-A4D3-AA1038B5B1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2D75-83FC-4DE3-9B6A-33A54C63F4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92D97-AFED-4EBF-A8F2-A1B88FB6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58F6-90A9-4EEA-BF20-B6100011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C47C-47F0-490E-8036-993F69A5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F953-8770-4330-A908-5D40255A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12FB-B72B-47D8-99A1-6A7DF55B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5AA5-DD07-459D-BE8F-FA185752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FCDE-4B4B-4190-AF4E-B022E9C2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16F6-E301-47A0-AAE1-3EBAC6E1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81F1-82C6-4580-AA86-E1D8B264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6102-F47C-458B-BA03-28999AFF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479D-FA35-4B93-8D23-4C27E304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EC8EC-768D-48B7-AEE3-FEC04B6B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5DFA-7CE3-466C-B997-6C294451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78B7-0144-4109-B33F-837A3DA0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7E5F-BD7A-4168-A9E7-9FAD6B05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34CD-5657-42F6-9EC4-9BD7F929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518E-0FC1-4BE8-958A-F541AE05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67AF4-0D0B-458A-B2CF-599C86D7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4CB3-243F-4029-A3FC-C09B394F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373E-8BF8-42CC-8115-D999D68C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A53E-3EB4-4361-8D37-C1CAA0A9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D6FD7-4B1D-44B9-8F35-C8E9B221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A74C9-C6AE-4BE9-9E4F-274E7121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9948-A470-4B94-8EEA-C4A1892C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A8B5-E35F-4C42-A01B-0F665196AF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548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548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36B7-70C7-4671-97AA-68A6E16B9E5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620640" y="3583080"/>
                <a:ext cx="6292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858680" y="1690560"/>
                <a:ext cx="6292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858680" y="2324160"/>
                <a:ext cx="6292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620640" y="2948040"/>
                <a:ext cx="6292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2053-3C65-4F07-8392-D8807CCD4CDB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852F-E8F7-4AF4-85BD-38303C0819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hyperlink" Target="http://images.yandex.ru/yandsearch?source=wiz&amp;fp=0&amp;img_url=http%3A%2F%2Fwww.bbc.co.uk%2Fradio4%2Fwomanshour%2Fmedia%2Fcarer_sized.jpg&amp;text=&#1086;&#1087;&#1077;&#1082;&#1072;%20&#1085;&#1072;&#1076;%20&#1089;&#1086;&#1074;&#1077;&#1088;&#1096;&#1077;&#1085;&#1085;&#1086;&#1083;&#1077;&#1090;&#1085;&#1080;&#1084;&#1080;%20&#1085;&#1077;&#1076;&#1077;&#1077;&#1089;&#1087;&#1086;&#1089;&#1086;&#1073;&#1085;&#1099;&#1084;&#1080;%20&#1074;%20&#1082;&#1072;&#1088;&#1090;&#1080;&#1085;&#1082;&#1072;&#1093;&amp;noreask=1&amp;pos=17&amp;lr=20&amp;rpt=simage&amp;nojs=1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6899-6FB2-4A8F-A902-35FF52B81D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CD1B-0D6A-402F-BC24-7C95F9F3DA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43080"/>
            <a:ext cx="8915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Расходы районного бюдж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922320"/>
            <a:ext cx="89154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Times New Roman"/>
              </a:rPr>
              <a:t>Расходы бюджета – выплачиваемые из бюджета  денежные средства, за исключением   средств, являющихся источниками финансирования дефицита бюдж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87280" y="97776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782880" y="169704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ределение расходов в районном бюдж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36600" y="3386160"/>
            <a:ext cx="2801880" cy="2612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функция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отраслев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414600" y="3425760"/>
            <a:ext cx="2801880" cy="2613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органа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ведомствен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413400" y="3435480"/>
            <a:ext cx="3108600" cy="2612880"/>
          </a:xfrm>
          <a:prstGeom prst="rect">
            <a:avLst/>
          </a:pr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муниципальным программам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программ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 rot="7897200">
            <a:off x="1767600" y="2100600"/>
            <a:ext cx="1611360" cy="88272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0"/>
          <p:cNvSpPr/>
          <p:nvPr/>
        </p:nvSpPr>
        <p:spPr>
          <a:xfrm rot="2313000">
            <a:off x="6381360" y="21654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4543560" y="286056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82280" y="2451240"/>
            <a:ext cx="8420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2016  ГОД –  19780,4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82280" y="1143000"/>
            <a:ext cx="8420040" cy="119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«Развитие образования Ленского муниципального района (2015-2018 годы)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расходы на дополнительное образование дете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2152-C0BB-4E3F-ABC2-BBE8A10FA8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C:\Users\Кривошеина ТА\Desktop\hAA92US1dEc.jpg"/>
          <p:cNvPicPr/>
          <p:nvPr/>
        </p:nvPicPr>
        <p:blipFill>
          <a:blip r:embed="rId1"/>
          <a:stretch/>
        </p:blipFill>
        <p:spPr>
          <a:xfrm>
            <a:off x="1036800" y="3486240"/>
            <a:ext cx="3309840" cy="2324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C:\Users\Кривошеина ТА\Desktop\lop.jpg"/>
          <p:cNvPicPr/>
          <p:nvPr/>
        </p:nvPicPr>
        <p:blipFill>
          <a:blip r:embed="rId2"/>
          <a:stretch/>
        </p:blipFill>
        <p:spPr>
          <a:xfrm>
            <a:off x="5626080" y="3835440"/>
            <a:ext cx="3314880" cy="2222640"/>
          </a:xfrm>
          <a:prstGeom prst="rect">
            <a:avLst/>
          </a:prstGeom>
          <a:ln w="25560">
            <a:solidFill>
              <a:srgbClr val="6f6fbc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2F6F-2E6D-47E7-A387-4B5846D67A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13D8-43EF-4A30-8B24-A196902B96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417600"/>
            <a:ext cx="1021248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Муниципальная программа «Обеспечение качественным, доступным жильем и объектами жилищно-коммуналь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хозяйства населения Ленского района на 2014-2020 год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03040" y="4368960"/>
            <a:ext cx="514044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014800" y="3632040"/>
            <a:ext cx="4662720" cy="25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355680" y="4940280"/>
            <a:ext cx="424188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5064120" y="2093760"/>
            <a:ext cx="452448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65,9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( в т.ч. средства местного бюджета 1,2 млн.руб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27,1 млн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( в т.ч. средства местного бюджета 0,5 млн.руб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Рисунок 1" descr="https://pp.vk.me/c316120/v316120345/e6e/RW4WFwATIXw.jpg"/>
          <p:cNvPicPr/>
          <p:nvPr/>
        </p:nvPicPr>
        <p:blipFill>
          <a:blip r:embed="rId1"/>
          <a:stretch/>
        </p:blipFill>
        <p:spPr>
          <a:xfrm>
            <a:off x="203040" y="1711440"/>
            <a:ext cx="4648320" cy="29588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униципальная программа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«Развитие образования Ленского муниципального района» (2015-2018 годы)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95360" y="1981080"/>
          <a:ext cx="8699400" cy="3337200"/>
        </p:xfrm>
        <a:graphic>
          <a:graphicData uri="http://schemas.openxmlformats.org/drawingml/2006/table">
            <a:tbl>
              <a:tblPr/>
              <a:tblGrid>
                <a:gridCol w="3998880"/>
                <a:gridCol w="470052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75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250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8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ё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2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1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225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694E-6B31-40D9-9A65-D2C0C2A08C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1652-8ED9-4C2B-AB0B-484DC595CB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B3CF-BC3D-449A-BDDD-AFA4DABB28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30120" y="596880"/>
            <a:ext cx="932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П «Развитие инициатив и поддержка различных социальных групп населения Ленского район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749160" y="4861080"/>
            <a:ext cx="3314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Старшее поко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7d"/>
                </a:solidFill>
                <a:latin typeface="Times New Roman"/>
              </a:rPr>
              <a:t>(на оплату проезда в обществен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7d"/>
                </a:solidFill>
                <a:latin typeface="Times New Roman"/>
              </a:rPr>
              <a:t>транспорте)</a:t>
            </a:r>
            <a:r>
              <a:rPr b="1" i="1" lang="ru-RU" sz="2400" spc="-1" strike="noStrike">
                <a:solidFill>
                  <a:srgbClr val="00007d"/>
                </a:solidFill>
                <a:latin typeface="Times New Roman"/>
              </a:rPr>
              <a:t>          </a:t>
            </a:r>
            <a:br>
              <a:rPr sz="24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5 год – 54,1 тыс.руб.       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6 год- 56,1 тыс.руб.       </a:t>
            </a:r>
            <a:br>
              <a:rPr sz="22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5118120" y="2146320"/>
            <a:ext cx="36990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Развитие территориального общественного самоуправления</a:t>
            </a:r>
            <a:br>
              <a:rPr sz="20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5 год – 736,0 тыс.руб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6 год – 469,4 тыс.руб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4965840" y="1308240"/>
            <a:ext cx="42764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0" descr="C:\Users\Кривошеина ТА\Desktop\mf3AhARxB0Y.jpg"/>
          <p:cNvPicPr/>
          <p:nvPr/>
        </p:nvPicPr>
        <p:blipFill>
          <a:blip r:embed="rId1"/>
          <a:stretch/>
        </p:blipFill>
        <p:spPr>
          <a:xfrm>
            <a:off x="1206360" y="2806560"/>
            <a:ext cx="2374920" cy="1575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C:\Users\Кривошеина ТА\Desktop\4d31d7d312b1d41a8acf70abf9403588.jpg"/>
          <p:cNvPicPr/>
          <p:nvPr/>
        </p:nvPicPr>
        <p:blipFill>
          <a:blip r:embed="rId2"/>
          <a:stretch/>
        </p:blipFill>
        <p:spPr>
          <a:xfrm>
            <a:off x="4851360" y="4280040"/>
            <a:ext cx="3251160" cy="20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9DD8-90BA-4949-8DA1-3D5006759D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01B0-6127-4E56-827A-144BFDF074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216000" y="406440"/>
            <a:ext cx="890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МП «Устойчивое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развитие сельски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территорий Ленского район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оугольник 5"/>
          <p:cNvSpPr/>
          <p:nvPr/>
        </p:nvSpPr>
        <p:spPr>
          <a:xfrm>
            <a:off x="152280" y="210816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 7801,6 тыс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 2502,7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оугольник 6"/>
          <p:cNvSpPr/>
          <p:nvPr/>
        </p:nvSpPr>
        <p:spPr>
          <a:xfrm>
            <a:off x="4483080" y="2044800"/>
            <a:ext cx="5181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Улучшение жилищных условий граждан, проживающих в сельской мест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016 год – 1179,7 тыс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.т.ч. из федерального бюджета-315,2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областного бюджета- 769,4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местного бюджета – 95,1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оугольник 8"/>
          <p:cNvSpPr/>
          <p:nvPr/>
        </p:nvSpPr>
        <p:spPr>
          <a:xfrm>
            <a:off x="4457880" y="4102200"/>
            <a:ext cx="5295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Обеспечение жильем молодых семей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молодых специалистов, проживающ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в сельской местности</a:t>
            </a:r>
            <a:br>
              <a:rPr sz="24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016 год – 1322,9 тыс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федерального бюджета- 789,2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областного бюджета- 378,8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местного бюджета – 154,9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Рисунок 11" descr="P1010125.JPG"/>
          <p:cNvPicPr/>
          <p:nvPr/>
        </p:nvPicPr>
        <p:blipFill>
          <a:blip r:embed="rId1"/>
          <a:stretch/>
        </p:blipFill>
        <p:spPr>
          <a:xfrm>
            <a:off x="190440" y="3213000"/>
            <a:ext cx="403056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D365-ED42-4EBE-9A6B-D5D2D7AA3E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7C70-F780-4F61-8222-7CA3A32DF8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601560"/>
            <a:ext cx="913896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Times New Roman"/>
              </a:rPr>
              <a:t>МП «Профилактика безнадзорности  и иных правонарушений»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576760" y="3278160"/>
            <a:ext cx="39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5       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50"/>
          <p:cNvSpPr/>
          <p:nvPr/>
        </p:nvSpPr>
        <p:spPr>
          <a:xfrm>
            <a:off x="193680" y="4005360"/>
            <a:ext cx="5307120" cy="1008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безнадзорности и 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несовершеннолет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0"/>
          <p:cNvSpPr/>
          <p:nvPr/>
        </p:nvSpPr>
        <p:spPr>
          <a:xfrm>
            <a:off x="5946840" y="4005360"/>
            <a:ext cx="132552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50"/>
          <p:cNvSpPr/>
          <p:nvPr/>
        </p:nvSpPr>
        <p:spPr>
          <a:xfrm>
            <a:off x="7439040" y="4017960"/>
            <a:ext cx="1249200" cy="93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50"/>
          <p:cNvSpPr/>
          <p:nvPr/>
        </p:nvSpPr>
        <p:spPr>
          <a:xfrm>
            <a:off x="193680" y="5084640"/>
            <a:ext cx="5307120" cy="792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преступлений и и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50"/>
          <p:cNvSpPr/>
          <p:nvPr/>
        </p:nvSpPr>
        <p:spPr>
          <a:xfrm>
            <a:off x="5892840" y="5084640"/>
            <a:ext cx="134604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,1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50"/>
          <p:cNvSpPr/>
          <p:nvPr/>
        </p:nvSpPr>
        <p:spPr>
          <a:xfrm>
            <a:off x="7400880" y="5072040"/>
            <a:ext cx="124956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4991040" y="1827360"/>
            <a:ext cx="466092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2148,0 тыс. руб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  964,4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6" descr="C:\Users\Кривошеина ТА\Desktop\038ec6fd924417e0a25450612295dfbc.jpg"/>
          <p:cNvPicPr/>
          <p:nvPr/>
        </p:nvPicPr>
        <p:blipFill>
          <a:blip r:embed="rId1"/>
          <a:stretch/>
        </p:blipFill>
        <p:spPr>
          <a:xfrm>
            <a:off x="1092240" y="1727280"/>
            <a:ext cx="3200400" cy="20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6E09-1B0E-4A47-AF13-36BAEC9726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6389-CFEE-4129-B0A5-DB83631FEE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58360" y="431280"/>
            <a:ext cx="907596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П «Развитие сферы культуры в Ленском район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715000" y="4114800"/>
            <a:ext cx="37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50"/>
          <p:cNvSpPr/>
          <p:nvPr/>
        </p:nvSpPr>
        <p:spPr>
          <a:xfrm>
            <a:off x="279360" y="4483080"/>
            <a:ext cx="4648320" cy="5205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Библиотечное обслуживание нас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50"/>
          <p:cNvSpPr/>
          <p:nvPr/>
        </p:nvSpPr>
        <p:spPr>
          <a:xfrm>
            <a:off x="6845400" y="5156280"/>
            <a:ext cx="135864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5125,9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50"/>
          <p:cNvSpPr/>
          <p:nvPr/>
        </p:nvSpPr>
        <p:spPr>
          <a:xfrm>
            <a:off x="279360" y="5156280"/>
            <a:ext cx="467352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досуга, туристских  и культур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азвлекательных 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50"/>
          <p:cNvSpPr/>
          <p:nvPr/>
        </p:nvSpPr>
        <p:spPr>
          <a:xfrm>
            <a:off x="6883560" y="5829480"/>
            <a:ext cx="1320480" cy="393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494,7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5448240" y="838080"/>
            <a:ext cx="41403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50"/>
          <p:cNvSpPr/>
          <p:nvPr/>
        </p:nvSpPr>
        <p:spPr>
          <a:xfrm>
            <a:off x="6832440" y="4508640"/>
            <a:ext cx="132084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8659,1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0"/>
          <p:cNvSpPr/>
          <p:nvPr/>
        </p:nvSpPr>
        <p:spPr>
          <a:xfrm>
            <a:off x="266760" y="5803920"/>
            <a:ext cx="466092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музейной 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20" descr="73099b4a3b5a0e1d2b348e49007495c5.jpg"/>
          <p:cNvPicPr/>
          <p:nvPr/>
        </p:nvPicPr>
        <p:blipFill>
          <a:blip r:embed="rId1"/>
          <a:stretch/>
        </p:blipFill>
        <p:spPr>
          <a:xfrm>
            <a:off x="146160" y="1803240"/>
            <a:ext cx="3157560" cy="208764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21" descr="eebc1cae3053558bf599de592a2898f7.jpg"/>
          <p:cNvPicPr/>
          <p:nvPr/>
        </p:nvPicPr>
        <p:blipFill>
          <a:blip r:embed="rId2"/>
          <a:stretch/>
        </p:blipFill>
        <p:spPr>
          <a:xfrm>
            <a:off x="3389400" y="1803240"/>
            <a:ext cx="3159000" cy="20876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2" descr="fc37875f3a54b4157027d16e98c87512.jpg"/>
          <p:cNvPicPr/>
          <p:nvPr/>
        </p:nvPicPr>
        <p:blipFill>
          <a:blip r:embed="rId3"/>
          <a:stretch/>
        </p:blipFill>
        <p:spPr>
          <a:xfrm>
            <a:off x="6634080" y="1803240"/>
            <a:ext cx="31575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0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70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F5E5-9A62-40D6-BC52-EFCD55C141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4C1F-1792-46BA-BCCC-A8D7C1B2EA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291960" y="380880"/>
            <a:ext cx="92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МП «Поддержка семьи в Ленском районе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3"/>
          <p:cNvSpPr/>
          <p:nvPr/>
        </p:nvSpPr>
        <p:spPr>
          <a:xfrm>
            <a:off x="5283360" y="1104840"/>
            <a:ext cx="383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5 год –  1580,1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6 год –  1296,8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50"/>
          <p:cNvSpPr/>
          <p:nvPr/>
        </p:nvSpPr>
        <p:spPr>
          <a:xfrm>
            <a:off x="266760" y="4381560"/>
            <a:ext cx="4648320" cy="20318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и и осуществлению 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6 год – 1205,5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0"/>
          <p:cNvSpPr/>
          <p:nvPr/>
        </p:nvSpPr>
        <p:spPr>
          <a:xfrm>
            <a:off x="5003640" y="2616120"/>
            <a:ext cx="4470480" cy="1981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о выплате вознагра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6 год – 91,3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10" descr="C:\Users\Кривошеина ТА\Desktop\c3100801bdf72b9cacdbce370dbcd682.jpg"/>
          <p:cNvPicPr/>
          <p:nvPr/>
        </p:nvPicPr>
        <p:blipFill>
          <a:blip r:embed="rId1"/>
          <a:stretch/>
        </p:blipFill>
        <p:spPr>
          <a:xfrm>
            <a:off x="1155600" y="2031840"/>
            <a:ext cx="3238560" cy="2146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C:\Users\Кривошеина ТА\Desktop\087562b215bc504fc78dcc6a353109f1.jpg"/>
          <p:cNvPicPr/>
          <p:nvPr/>
        </p:nvPicPr>
        <p:blipFill>
          <a:blip r:embed="rId2"/>
          <a:stretch/>
        </p:blipFill>
        <p:spPr>
          <a:xfrm>
            <a:off x="5613480" y="4762440"/>
            <a:ext cx="317484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86A9-4BF2-49E9-8F5C-2D75238BF6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FE3E-168D-4157-B62C-7D4ABE2085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84280" y="378000"/>
            <a:ext cx="88264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в сфере экономики и ЖК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27"/>
          <p:cNvSpPr/>
          <p:nvPr/>
        </p:nvSpPr>
        <p:spPr>
          <a:xfrm>
            <a:off x="673200" y="2006640"/>
            <a:ext cx="8481960" cy="388620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Создание условий для развития сельского хозяйс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Ремонт и содержание сети автомобильных дорог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Развитие малого и среднего предпринимательс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Развитие торговл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0443-4D19-4292-A418-EBA6213797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2B56-12A0-4D77-9236-E4AC17DF5A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0" y="372960"/>
            <a:ext cx="92073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П «Развитие малого, среднего предпринимательства и создание условий для развития сельского хозяйств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5956200" y="1600200"/>
            <a:ext cx="37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5 год – 1541,5 тыс.рублей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6 год – 845,8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 14"/>
          <p:cNvSpPr/>
          <p:nvPr/>
        </p:nvSpPr>
        <p:spPr>
          <a:xfrm flipV="1">
            <a:off x="368280" y="255168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оугольник 15"/>
          <p:cNvSpPr/>
          <p:nvPr/>
        </p:nvSpPr>
        <p:spPr>
          <a:xfrm>
            <a:off x="5156280" y="2766960"/>
            <a:ext cx="447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 17"/>
          <p:cNvSpPr/>
          <p:nvPr/>
        </p:nvSpPr>
        <p:spPr>
          <a:xfrm>
            <a:off x="4411800" y="3075120"/>
            <a:ext cx="190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13" descr="C:\Users\Кривошеина ТА\Desktop\bUmLyQ2-oag.jpg"/>
          <p:cNvPicPr/>
          <p:nvPr/>
        </p:nvPicPr>
        <p:blipFill>
          <a:blip r:embed="rId1"/>
          <a:stretch/>
        </p:blipFill>
        <p:spPr>
          <a:xfrm>
            <a:off x="577800" y="4265640"/>
            <a:ext cx="3994200" cy="234144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4" descr="P1010120.JPG"/>
          <p:cNvPicPr/>
          <p:nvPr/>
        </p:nvPicPr>
        <p:blipFill>
          <a:blip r:embed="rId2"/>
          <a:stretch/>
        </p:blipFill>
        <p:spPr>
          <a:xfrm>
            <a:off x="5767560" y="4143240"/>
            <a:ext cx="312084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E191-738F-4179-9DD5-E5F11ED697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7BFB-FA0B-4B3C-9EF8-75A1B08EFF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520560"/>
            <a:ext cx="941076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Расходы бюджета муниципального образования «Ленский муниципальный район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362320" y="3121200"/>
            <a:ext cx="4601880" cy="9871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6 год – 618001,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C721-ECBC-45C6-8C22-2D80CB3C0F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39384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Times New Roman"/>
              </a:rPr>
              <a:t>МП «Ремонт и содержание сети автомобильных дорог в Ленском  районе»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76CD-4914-4B64-A415-BE589A5577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3795840" y="4194000"/>
            <a:ext cx="58388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5124600" y="1692360"/>
            <a:ext cx="429876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1,4 млн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7,3 млн.рублей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9"/>
          <p:cNvSpPr/>
          <p:nvPr/>
        </p:nvSpPr>
        <p:spPr>
          <a:xfrm>
            <a:off x="291960" y="1930320"/>
            <a:ext cx="38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держание 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11"/>
          <p:cNvSpPr/>
          <p:nvPr/>
        </p:nvSpPr>
        <p:spPr>
          <a:xfrm flipH="1">
            <a:off x="6350040" y="5511960"/>
            <a:ext cx="30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монт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11" descr="C:\Users\Кривошеина ТА\Desktop\traktor(1).jpg"/>
          <p:cNvPicPr/>
          <p:nvPr/>
        </p:nvPicPr>
        <p:blipFill>
          <a:blip r:embed="rId1"/>
          <a:stretch/>
        </p:blipFill>
        <p:spPr>
          <a:xfrm>
            <a:off x="457200" y="2819520"/>
            <a:ext cx="3289320" cy="2844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C:\Users\Кривошеина ТА\Desktop\6639360_6njjs0zinq.jpg"/>
          <p:cNvPicPr/>
          <p:nvPr/>
        </p:nvPicPr>
        <p:blipFill>
          <a:blip r:embed="rId2"/>
          <a:stretch/>
        </p:blipFill>
        <p:spPr>
          <a:xfrm>
            <a:off x="4521240" y="3251160"/>
            <a:ext cx="4444920" cy="22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0BFE-CBE4-4744-88A3-3A37C7BE64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526C-D6B0-40E7-9E6D-46CC912BFB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2760" y="603000"/>
            <a:ext cx="913896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П «Развитие торговли на территории» МО «Ленский муниципальный район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50"/>
          <p:cNvSpPr/>
          <p:nvPr/>
        </p:nvSpPr>
        <p:spPr>
          <a:xfrm>
            <a:off x="190440" y="2717640"/>
            <a:ext cx="4826160" cy="23749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оставка муки и лекарственных средств в район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райнего Севера и приравненные к ним мес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 ограниченными сроками завоза груз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6 год – 29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50"/>
          <p:cNvSpPr/>
          <p:nvPr/>
        </p:nvSpPr>
        <p:spPr>
          <a:xfrm>
            <a:off x="5354640" y="3772080"/>
            <a:ext cx="4361040" cy="23112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 формированию торгового реес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6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5284800" y="1704960"/>
            <a:ext cx="4329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32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32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FA71-D710-46BB-87F2-47D1A86A7C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073D-6157-4930-9D10-A31A0AE9A3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98400" y="604440"/>
            <a:ext cx="890280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направленные на решение 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общегосударственных вопро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27"/>
          <p:cNvSpPr/>
          <p:nvPr/>
        </p:nvSpPr>
        <p:spPr>
          <a:xfrm>
            <a:off x="619200" y="2451240"/>
            <a:ext cx="8502480" cy="371952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Совершенствование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муниципальной служб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Управление муниципальными финансам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Совершенствование муниципаль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управления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E2B5-CAEB-4485-8349-821EBB62AD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041A-E620-47DB-92DA-B3E7A1FD7A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50"/>
          <p:cNvSpPr/>
          <p:nvPr/>
        </p:nvSpPr>
        <p:spPr>
          <a:xfrm>
            <a:off x="307800" y="1992240"/>
            <a:ext cx="5150160" cy="1152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рганизация и обеспечение бюджет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роцесса и развитие информационных сист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я финансами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5613480" y="1595520"/>
            <a:ext cx="40464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17,2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14,9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50"/>
          <p:cNvSpPr/>
          <p:nvPr/>
        </p:nvSpPr>
        <p:spPr>
          <a:xfrm>
            <a:off x="270000" y="3525840"/>
            <a:ext cx="5149800" cy="1224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 дол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50"/>
          <p:cNvSpPr/>
          <p:nvPr/>
        </p:nvSpPr>
        <p:spPr>
          <a:xfrm>
            <a:off x="257040" y="5089680"/>
            <a:ext cx="5150160" cy="1223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оддержание устойчивого исполн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бюджетов  муниципальных образова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Ленского  рай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560" y="768240"/>
            <a:ext cx="9426600" cy="3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П «Управление муниципальными финансами и муниципальным долго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9" descr="http://govorim.by/uploads/posts/2013-07/thumbs/1375277413112.jpeg"/>
          <p:cNvPicPr/>
          <p:nvPr/>
        </p:nvPicPr>
        <p:blipFill>
          <a:blip r:embed="rId1"/>
          <a:stretch/>
        </p:blipFill>
        <p:spPr>
          <a:xfrm>
            <a:off x="5969160" y="3962520"/>
            <a:ext cx="3644640" cy="22352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00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5F2C-FF68-4CEB-9E85-3EC8D20D97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52C7-0811-43E1-98CB-9708A0EC3F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2" descr="1"/>
          <p:cNvPicPr/>
          <p:nvPr/>
        </p:nvPicPr>
        <p:blipFill>
          <a:blip r:embed="rId1"/>
          <a:stretch/>
        </p:blipFill>
        <p:spPr>
          <a:xfrm>
            <a:off x="6980400" y="1341360"/>
            <a:ext cx="1560240" cy="1079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18" name="Picture 3" descr="pravo_bilboard"/>
          <p:cNvPicPr/>
          <p:nvPr/>
        </p:nvPicPr>
        <p:blipFill>
          <a:blip r:embed="rId2"/>
          <a:stretch/>
        </p:blipFill>
        <p:spPr>
          <a:xfrm>
            <a:off x="7620120" y="2095560"/>
            <a:ext cx="2057400" cy="10285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156960"/>
            <a:ext cx="10163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50"/>
          <p:cNvSpPr/>
          <p:nvPr/>
        </p:nvSpPr>
        <p:spPr>
          <a:xfrm>
            <a:off x="193680" y="1484280"/>
            <a:ext cx="3357720" cy="382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 сфере охраны тру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50"/>
          <p:cNvSpPr/>
          <p:nvPr/>
        </p:nvSpPr>
        <p:spPr>
          <a:xfrm>
            <a:off x="4251240" y="1471680"/>
            <a:ext cx="195912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1,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3470400" y="981000"/>
            <a:ext cx="34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6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50"/>
          <p:cNvSpPr/>
          <p:nvPr/>
        </p:nvSpPr>
        <p:spPr>
          <a:xfrm>
            <a:off x="193680" y="1955880"/>
            <a:ext cx="3357720" cy="876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созданию комиссий по дел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есовершеннолетних и защит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х пра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50"/>
          <p:cNvSpPr/>
          <p:nvPr/>
        </p:nvSpPr>
        <p:spPr>
          <a:xfrm>
            <a:off x="4254480" y="2263680"/>
            <a:ext cx="198108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50"/>
          <p:cNvSpPr/>
          <p:nvPr/>
        </p:nvSpPr>
        <p:spPr>
          <a:xfrm>
            <a:off x="206280" y="2933640"/>
            <a:ext cx="3357720" cy="812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организации, осуществлени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50"/>
          <p:cNvSpPr/>
          <p:nvPr/>
        </p:nvSpPr>
        <p:spPr>
          <a:xfrm>
            <a:off x="4216320" y="3141720"/>
            <a:ext cx="2044800" cy="757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205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50"/>
          <p:cNvSpPr/>
          <p:nvPr/>
        </p:nvSpPr>
        <p:spPr>
          <a:xfrm>
            <a:off x="206280" y="3873600"/>
            <a:ext cx="3357720" cy="1574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регистрации и учёту граждан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меющих право на получ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жилищных субсидий в связ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 переселением из район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Крайнего Север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 приравненных к ним местност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50"/>
          <p:cNvSpPr/>
          <p:nvPr/>
        </p:nvSpPr>
        <p:spPr>
          <a:xfrm>
            <a:off x="4229280" y="4076640"/>
            <a:ext cx="2070000" cy="85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50"/>
          <p:cNvSpPr/>
          <p:nvPr/>
        </p:nvSpPr>
        <p:spPr>
          <a:xfrm>
            <a:off x="193680" y="6237360"/>
            <a:ext cx="33577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50"/>
          <p:cNvSpPr/>
          <p:nvPr/>
        </p:nvSpPr>
        <p:spPr>
          <a:xfrm>
            <a:off x="4317840" y="6237360"/>
            <a:ext cx="203220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507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50"/>
          <p:cNvSpPr/>
          <p:nvPr/>
        </p:nvSpPr>
        <p:spPr>
          <a:xfrm>
            <a:off x="193680" y="5524560"/>
            <a:ext cx="3357720" cy="673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выплате вознагра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32"/>
          <p:cNvSpPr/>
          <p:nvPr/>
        </p:nvSpPr>
        <p:spPr>
          <a:xfrm>
            <a:off x="276120" y="87624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50"/>
          <p:cNvSpPr/>
          <p:nvPr/>
        </p:nvSpPr>
        <p:spPr>
          <a:xfrm>
            <a:off x="4280040" y="5470560"/>
            <a:ext cx="203184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35" descr="Я сидела дома все три года, хотя время от времени мне давали знать, что неплохо было бы выйти на своё место.,Развивалки-после вы"/>
          <p:cNvPicPr/>
          <p:nvPr/>
        </p:nvPicPr>
        <p:blipFill>
          <a:blip r:embed="rId3"/>
          <a:stretch/>
        </p:blipFill>
        <p:spPr>
          <a:xfrm>
            <a:off x="6927840" y="2868480"/>
            <a:ext cx="1663560" cy="1247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35" name="Picture 36" descr="1"/>
          <p:cNvPicPr/>
          <p:nvPr/>
        </p:nvPicPr>
        <p:blipFill>
          <a:blip r:embed="rId4"/>
          <a:stretch/>
        </p:blipFill>
        <p:spPr>
          <a:xfrm>
            <a:off x="8072280" y="3716280"/>
            <a:ext cx="1630440" cy="11048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36" name="Picture 37" descr="a-nagrada.a5.ru"/>
          <p:cNvPicPr/>
          <p:nvPr/>
        </p:nvPicPr>
        <p:blipFill>
          <a:blip r:embed="rId5"/>
          <a:stretch/>
        </p:blipFill>
        <p:spPr>
          <a:xfrm>
            <a:off x="6966000" y="4546440"/>
            <a:ext cx="1695240" cy="1130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37" name="Picture 38" descr="i?id=88253289-65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54760" y="5305320"/>
            <a:ext cx="1970280" cy="1086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500"/>
                            </p:stCondLst>
                            <p:childTnLst>
                              <p:par>
                                <p:cTn id="6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77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9" dur="770" fill="hold"/>
                                        <p:tgtEl>
                                          <p:spTgt spid="3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1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3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500"/>
                            </p:stCondLst>
                            <p:childTnLst>
                              <p:par>
                                <p:cTn id="6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5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500"/>
                            </p:stCondLst>
                            <p:childTnLst>
                              <p:par>
                                <p:cTn id="6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77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770" fill="hold"/>
                                        <p:tgtEl>
                                          <p:spTgt spid="3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4" dur="77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95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1500"/>
                            </p:stCondLst>
                            <p:childTnLst>
                              <p:par>
                                <p:cTn id="6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77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1" dur="770" fill="hold"/>
                                        <p:tgtEl>
                                          <p:spTgt spid="3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3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5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5500"/>
                            </p:stCondLst>
                            <p:childTnLst>
                              <p:par>
                                <p:cTn id="6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77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2" dur="770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4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6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7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2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4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6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9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1500"/>
                            </p:stCondLst>
                            <p:childTnLst>
                              <p:par>
                                <p:cTn id="7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77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3" dur="770" fill="hold"/>
                                        <p:tgtEl>
                                          <p:spTgt spid="3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5" dur="77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3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5500"/>
                            </p:stCondLst>
                            <p:childTnLst>
                              <p:par>
                                <p:cTn id="7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8946-0B4A-4849-82D0-C1ECD1DBDF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79FB-B120-4850-9785-9E17A93963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Object 4"/>
          <p:cNvGraphicFramePr/>
          <p:nvPr/>
        </p:nvGraphicFramePr>
        <p:xfrm>
          <a:off x="4965840" y="523800"/>
          <a:ext cx="494028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5840" y="523800"/>
                    <a:ext cx="494028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Text Box 5"/>
          <p:cNvSpPr/>
          <p:nvPr/>
        </p:nvSpPr>
        <p:spPr>
          <a:xfrm>
            <a:off x="662040" y="1341360"/>
            <a:ext cx="319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программные расходы -4,6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662040" y="836640"/>
            <a:ext cx="3954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раммная часть бюджета – 95,4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7"/>
          <p:cNvSpPr/>
          <p:nvPr/>
        </p:nvSpPr>
        <p:spPr>
          <a:xfrm flipH="1" flipV="1">
            <a:off x="4641480" y="1052640"/>
            <a:ext cx="701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3782880" y="1484280"/>
            <a:ext cx="33544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428760" y="376200"/>
            <a:ext cx="8902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Непрограммные расходы бюдж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50"/>
          <p:cNvSpPr/>
          <p:nvPr/>
        </p:nvSpPr>
        <p:spPr>
          <a:xfrm>
            <a:off x="193680" y="1844640"/>
            <a:ext cx="5540400" cy="792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беспечение деятельности Собрания депу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6 год – 1551,4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0"/>
          <p:cNvSpPr/>
          <p:nvPr/>
        </p:nvSpPr>
        <p:spPr>
          <a:xfrm>
            <a:off x="819000" y="2781360"/>
            <a:ext cx="6320160" cy="863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беспечение деятельности контрольно-счётной коми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6 год – 1456,2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50"/>
          <p:cNvSpPr/>
          <p:nvPr/>
        </p:nvSpPr>
        <p:spPr>
          <a:xfrm>
            <a:off x="1562040" y="3772080"/>
            <a:ext cx="6512040" cy="10411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Мероприятия  в сфере гражданской обороны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чрезвычайных ситу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6 год – 194,5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50"/>
          <p:cNvSpPr/>
          <p:nvPr/>
        </p:nvSpPr>
        <p:spPr>
          <a:xfrm>
            <a:off x="2301840" y="4941720"/>
            <a:ext cx="6319800" cy="792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Резервный фонд 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6 год –  513,6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50"/>
          <p:cNvSpPr/>
          <p:nvPr/>
        </p:nvSpPr>
        <p:spPr>
          <a:xfrm>
            <a:off x="3159000" y="5950080"/>
            <a:ext cx="6319800" cy="792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Муниципальный дорожный фон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6 год –  957,8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5"/>
          <p:cNvSpPr/>
          <p:nvPr/>
        </p:nvSpPr>
        <p:spPr>
          <a:xfrm>
            <a:off x="276120" y="80316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5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000"/>
                            </p:stCondLst>
                            <p:childTnLst>
                              <p:par>
                                <p:cTn id="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45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0"/>
                            </p:stCondLst>
                            <p:childTnLst>
                              <p:par>
                                <p:cTn id="7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1636-044D-4B2F-8BE1-9D0245164B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877F-5416-4451-9001-AA91FAFBFB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23600" y="203040"/>
            <a:ext cx="891540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Дефицит бюджета 2016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"/>
          <p:cNvSpPr/>
          <p:nvPr/>
        </p:nvSpPr>
        <p:spPr>
          <a:xfrm>
            <a:off x="3860640" y="2133720"/>
            <a:ext cx="1971720" cy="97452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174" h="95">
                <a:moveTo>
                  <a:pt x="174" y="95"/>
                </a:moveTo>
                <a:cubicBezTo>
                  <a:pt x="174" y="61"/>
                  <a:pt x="164" y="28"/>
                  <a:pt x="145" y="0"/>
                </a:cubicBezTo>
                <a:lnTo>
                  <a:pt x="0" y="95"/>
                </a:lnTo>
                <a:lnTo>
                  <a:pt x="174" y="9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4"/>
          <p:cNvSpPr/>
          <p:nvPr/>
        </p:nvSpPr>
        <p:spPr>
          <a:xfrm>
            <a:off x="4014720" y="3352680"/>
            <a:ext cx="1973160" cy="93528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174" h="91">
                <a:moveTo>
                  <a:pt x="147" y="91"/>
                </a:moveTo>
                <a:cubicBezTo>
                  <a:pt x="164" y="64"/>
                  <a:pt x="174" y="32"/>
                  <a:pt x="174" y="0"/>
                </a:cubicBezTo>
                <a:lnTo>
                  <a:pt x="0" y="0"/>
                </a:lnTo>
                <a:lnTo>
                  <a:pt x="147" y="91"/>
                </a:lnTo>
                <a:close/>
              </a:path>
            </a:pathLst>
          </a:custGeom>
          <a:solidFill>
            <a:srgbClr val="ff3300"/>
          </a:solidFill>
          <a:ln w="11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5"/>
          <p:cNvSpPr/>
          <p:nvPr/>
        </p:nvSpPr>
        <p:spPr>
          <a:xfrm>
            <a:off x="1351080" y="1265400"/>
            <a:ext cx="3638520" cy="3943080"/>
          </a:xfrm>
          <a:custGeom>
            <a:avLst/>
            <a:gdLst>
              <a:gd name="textAreaLeft" fmla="*/ 0 w 3638520"/>
              <a:gd name="textAreaRight" fmla="*/ 3638880 w 3638520"/>
              <a:gd name="textAreaTop" fmla="*/ 0 h 3943080"/>
              <a:gd name="textAreaBottom" fmla="*/ 3943440 h 3943080"/>
            </a:gdLst>
            <a:ahLst/>
            <a:rect l="textAreaLeft" t="textAreaTop" r="textAreaRight" b="textAreaBottom"/>
            <a:pathLst>
              <a:path w="321" h="348">
                <a:moveTo>
                  <a:pt x="319" y="79"/>
                </a:moveTo>
                <a:cubicBezTo>
                  <a:pt x="287" y="29"/>
                  <a:pt x="232" y="0"/>
                  <a:pt x="174" y="0"/>
                </a:cubicBezTo>
                <a:cubicBezTo>
                  <a:pt x="77" y="0"/>
                  <a:pt x="0" y="77"/>
                  <a:pt x="0" y="174"/>
                </a:cubicBezTo>
                <a:cubicBezTo>
                  <a:pt x="0" y="270"/>
                  <a:pt x="77" y="348"/>
                  <a:pt x="174" y="348"/>
                </a:cubicBezTo>
                <a:cubicBezTo>
                  <a:pt x="234" y="347"/>
                  <a:pt x="290" y="316"/>
                  <a:pt x="321" y="265"/>
                </a:cubicBezTo>
                <a:lnTo>
                  <a:pt x="174" y="174"/>
                </a:lnTo>
                <a:lnTo>
                  <a:pt x="319" y="79"/>
                </a:lnTo>
                <a:close/>
              </a:path>
            </a:pathLst>
          </a:custGeom>
          <a:solidFill>
            <a:srgbClr val="0000ff"/>
          </a:solidFill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819000" y="1069920"/>
            <a:ext cx="19512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Рас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618,0  м.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835200" y="5181480"/>
            <a:ext cx="23382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До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503,5 м.р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4356000" y="3362400"/>
            <a:ext cx="184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фиц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14,5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4751280" y="4954680"/>
            <a:ext cx="471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лечение кредитов ба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6,1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5586480" y="3463920"/>
            <a:ext cx="471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врат креди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6,1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09704 -0.00185 E">
                                      <p:cBhvr>
                                        <p:cTn id="81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70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835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90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841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0FFE-C175-4C8F-A5D4-8BB1455AF8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685C-57DE-4DCE-912A-B54829209D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4440" y="306360"/>
            <a:ext cx="93013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Источники финансирования дефицита бюдж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74200" y="852120"/>
            <a:ext cx="89154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процессе принятия и исполнения бюджета района большое значение приобретает сбалансированность доходов и расходов. Если доходы превышают расходы, то возникает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рофици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Но чаще всего расходы превышают доходы. В таком случае возникает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дефици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"/>
          <p:cNvSpPr/>
          <p:nvPr/>
        </p:nvSpPr>
        <p:spPr>
          <a:xfrm>
            <a:off x="341280" y="87624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1317600" y="1984320"/>
            <a:ext cx="7224840" cy="360360"/>
          </a:xfrm>
          <a:prstGeom prst="rect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Times New Roman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627120" y="2938320"/>
            <a:ext cx="220968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муниципальные займы,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 осуществляемые путем выпуска муниципальных ценных бумаг от имен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046320" y="2921040"/>
            <a:ext cx="1954440" cy="1695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бюджетные кредиты,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 полученные от бюджетов других уровней бюджетной системы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5119560" y="2919240"/>
            <a:ext cx="199260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кредит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полученные от кредитных 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7253280" y="2909880"/>
            <a:ext cx="1982880" cy="1695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изменение остатков</a:t>
            </a:r>
            <a:r>
              <a:rPr b="0" lang="ru-RU" sz="10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средств на счетах по учету средств местного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"/>
          <p:cNvSpPr/>
          <p:nvPr/>
        </p:nvSpPr>
        <p:spPr>
          <a:xfrm>
            <a:off x="4941720" y="2327400"/>
            <a:ext cx="11160" cy="3538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1"/>
          <p:cNvSpPr/>
          <p:nvPr/>
        </p:nvSpPr>
        <p:spPr>
          <a:xfrm>
            <a:off x="1724040" y="269712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4048200" y="270036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6093000" y="2690640"/>
            <a:ext cx="0" cy="24480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8205840" y="268920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5"/>
          <p:cNvSpPr/>
          <p:nvPr/>
        </p:nvSpPr>
        <p:spPr>
          <a:xfrm>
            <a:off x="1731960" y="2689200"/>
            <a:ext cx="6488280" cy="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6"/>
          <p:cNvSpPr/>
          <p:nvPr/>
        </p:nvSpPr>
        <p:spPr>
          <a:xfrm flipV="1">
            <a:off x="284040" y="5049360"/>
            <a:ext cx="6880320" cy="190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7"/>
          <p:cNvSpPr/>
          <p:nvPr/>
        </p:nvSpPr>
        <p:spPr>
          <a:xfrm flipV="1">
            <a:off x="291960" y="469548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"/>
          <p:cNvSpPr/>
          <p:nvPr/>
        </p:nvSpPr>
        <p:spPr>
          <a:xfrm flipV="1">
            <a:off x="7153200" y="468432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9"/>
          <p:cNvSpPr/>
          <p:nvPr/>
        </p:nvSpPr>
        <p:spPr>
          <a:xfrm>
            <a:off x="1814400" y="5315040"/>
            <a:ext cx="3044880" cy="915840"/>
          </a:xfrm>
          <a:prstGeom prst="rect">
            <a:avLst/>
          </a:prstGeom>
          <a:solidFill>
            <a:srgbClr val="ffccff"/>
          </a:solidFill>
          <a:ln w="158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муниципальный долг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то есть совокупность долговых обязательств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85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9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9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8372-91CE-4511-B471-B201BBD998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2607-F05F-49F9-A2C4-7B583A2694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2"/>
          <p:cNvSpPr/>
          <p:nvPr/>
        </p:nvSpPr>
        <p:spPr>
          <a:xfrm rot="16200000">
            <a:off x="1112760" y="2090520"/>
            <a:ext cx="3463920" cy="35053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18.05.1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19,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2535120" y="1197000"/>
            <a:ext cx="57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На 01.01.2017 – 16,1 млн. 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477720" y="316080"/>
            <a:ext cx="84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униципальный долг Ленского район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4160880" y="2995560"/>
            <a:ext cx="180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1"/>
          <a:stretch/>
        </p:blipFill>
        <p:spPr>
          <a:xfrm>
            <a:off x="1930320" y="3809880"/>
            <a:ext cx="1752840" cy="10717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8"/>
          <p:cNvSpPr/>
          <p:nvPr/>
        </p:nvSpPr>
        <p:spPr>
          <a:xfrm rot="16200000">
            <a:off x="5435640" y="2197080"/>
            <a:ext cx="3454560" cy="32767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01.09.16 г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13,4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12" descr=""/>
          <p:cNvPicPr/>
          <p:nvPr/>
        </p:nvPicPr>
        <p:blipFill>
          <a:blip r:embed="rId2"/>
          <a:stretch/>
        </p:blipFill>
        <p:spPr>
          <a:xfrm>
            <a:off x="6095880" y="3860640"/>
            <a:ext cx="1905120" cy="1049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2" descr=""/>
          <p:cNvPicPr/>
          <p:nvPr/>
        </p:nvPicPr>
        <p:blipFill>
          <a:blip r:embed="rId3"/>
          <a:stretch/>
        </p:blipFill>
        <p:spPr>
          <a:xfrm>
            <a:off x="1905120" y="3809880"/>
            <a:ext cx="193032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3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73D8-E73A-4810-8268-B9BF30D395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AA84-8EA9-4A5C-A058-7AE00DAC5D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517320"/>
            <a:ext cx="8915400" cy="61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Информация для контак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23440" y="1166760"/>
            <a:ext cx="89154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47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Финансовый отдел Администрации муниципального образ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«Ленский муниципальный район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1657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Архангельская область, Ленский район, село Яренск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ул. Братьев Покровских, дом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Телефон:  8 (81859) 5-24-09, факс: 8 (81859) 5-25-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адрес электронной почты: </a:t>
            </a:r>
            <a:r>
              <a:rPr b="0" lang="en-US" sz="2400" spc="-1" strike="noStrike">
                <a:solidFill>
                  <a:srgbClr val="00005e"/>
                </a:solidFill>
                <a:latin typeface="Times New Roman"/>
              </a:rPr>
              <a:t>feuyarensk@yandex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9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5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000"/>
                            </p:stCondLst>
                            <p:childTnLst>
                              <p:par>
                                <p:cTn id="9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3500"/>
                            </p:stCondLst>
                            <p:childTnLst>
                              <p:par>
                                <p:cTn id="9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5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F3AD-100A-411C-A0A0-0576FC961B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8FEC-13EC-4EDD-AF61-FD7B8166B6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841400" y="1549440"/>
          <a:ext cx="7137360" cy="4943520"/>
        </p:xfrm>
        <a:graphic>
          <a:graphicData uri="http://schemas.openxmlformats.org/drawingml/2006/table">
            <a:tbl>
              <a:tblPr/>
              <a:tblGrid>
                <a:gridCol w="3900600"/>
                <a:gridCol w="1652400"/>
                <a:gridCol w="15843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5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отч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6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отч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83423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1800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895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689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8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2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53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024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669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298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6893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6297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Культура и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639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847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784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604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9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98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Обслуживание муниципального дол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3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41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91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02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68080" y="3394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раслевая структура расходов районного бюдж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BC01-42C0-4D59-876B-7DEA6B6A89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DFE5-9B50-4647-A82D-388335D908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87280"/>
            <a:ext cx="8915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Социальная сфера 2016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2411280" y="1392120"/>
            <a:ext cx="4808520" cy="2921040"/>
          </a:xfrm>
          <a:custGeom>
            <a:avLst/>
            <a:gdLst>
              <a:gd name="textAreaLeft" fmla="*/ 0 w 4808520"/>
              <a:gd name="textAreaRight" fmla="*/ 4808880 w 4808520"/>
              <a:gd name="textAreaTop" fmla="*/ 0 h 2921040"/>
              <a:gd name="textAreaBottom" fmla="*/ 2921400 h 2921040"/>
            </a:gdLst>
            <a:ahLst/>
            <a:rect l="textAreaLeft" t="textAreaTop" r="textAreaRight" b="textAreaBottom"/>
            <a:pathLst>
              <a:path w="349" h="307">
                <a:moveTo>
                  <a:pt x="291" y="303"/>
                </a:moveTo>
                <a:cubicBezTo>
                  <a:pt x="328" y="270"/>
                  <a:pt x="349" y="223"/>
                  <a:pt x="349" y="174"/>
                </a:cubicBezTo>
                <a:cubicBezTo>
                  <a:pt x="349" y="77"/>
                  <a:pt x="271" y="0"/>
                  <a:pt x="175" y="0"/>
                </a:cubicBezTo>
                <a:cubicBezTo>
                  <a:pt x="78" y="0"/>
                  <a:pt x="1" y="77"/>
                  <a:pt x="1" y="174"/>
                </a:cubicBezTo>
                <a:cubicBezTo>
                  <a:pt x="0" y="225"/>
                  <a:pt x="23" y="274"/>
                  <a:pt x="62" y="307"/>
                </a:cubicBezTo>
                <a:lnTo>
                  <a:pt x="175" y="174"/>
                </a:lnTo>
                <a:lnTo>
                  <a:pt x="291" y="303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4"/>
          <p:cNvSpPr/>
          <p:nvPr/>
        </p:nvSpPr>
        <p:spPr>
          <a:xfrm>
            <a:off x="4822920" y="3048120"/>
            <a:ext cx="1596960" cy="162720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116" h="171">
                <a:moveTo>
                  <a:pt x="26" y="171"/>
                </a:moveTo>
                <a:cubicBezTo>
                  <a:pt x="60" y="166"/>
                  <a:pt x="91" y="151"/>
                  <a:pt x="116" y="129"/>
                </a:cubicBezTo>
                <a:lnTo>
                  <a:pt x="0" y="0"/>
                </a:lnTo>
                <a:lnTo>
                  <a:pt x="26" y="171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5"/>
          <p:cNvSpPr/>
          <p:nvPr/>
        </p:nvSpPr>
        <p:spPr>
          <a:xfrm>
            <a:off x="4822920" y="3048120"/>
            <a:ext cx="357120" cy="1646280"/>
          </a:xfrm>
          <a:custGeom>
            <a:avLst/>
            <a:gdLst>
              <a:gd name="textAreaLeft" fmla="*/ 0 w 357120"/>
              <a:gd name="textAreaRight" fmla="*/ 357480 w 35712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26" h="173">
                <a:moveTo>
                  <a:pt x="8" y="173"/>
                </a:moveTo>
                <a:cubicBezTo>
                  <a:pt x="15" y="173"/>
                  <a:pt x="21" y="172"/>
                  <a:pt x="26" y="171"/>
                </a:cubicBezTo>
                <a:lnTo>
                  <a:pt x="0" y="0"/>
                </a:lnTo>
                <a:lnTo>
                  <a:pt x="8" y="17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6"/>
          <p:cNvSpPr/>
          <p:nvPr/>
        </p:nvSpPr>
        <p:spPr>
          <a:xfrm>
            <a:off x="4245120" y="3048120"/>
            <a:ext cx="687240" cy="1646280"/>
          </a:xfrm>
          <a:custGeom>
            <a:avLst/>
            <a:gdLst>
              <a:gd name="textAreaLeft" fmla="*/ 0 w 687240"/>
              <a:gd name="textAreaRight" fmla="*/ 687600 w 68724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50" h="173">
                <a:moveTo>
                  <a:pt x="0" y="168"/>
                </a:moveTo>
                <a:cubicBezTo>
                  <a:pt x="13" y="172"/>
                  <a:pt x="27" y="173"/>
                  <a:pt x="42" y="173"/>
                </a:cubicBezTo>
                <a:cubicBezTo>
                  <a:pt x="44" y="173"/>
                  <a:pt x="47" y="173"/>
                  <a:pt x="50" y="173"/>
                </a:cubicBezTo>
                <a:lnTo>
                  <a:pt x="42" y="0"/>
                </a:lnTo>
                <a:lnTo>
                  <a:pt x="0" y="16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7"/>
          <p:cNvSpPr/>
          <p:nvPr/>
        </p:nvSpPr>
        <p:spPr>
          <a:xfrm>
            <a:off x="3265560" y="3048120"/>
            <a:ext cx="1557360" cy="159840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1598400"/>
              <a:gd name="textAreaBottom" fmla="*/ 1598760 h 1598400"/>
            </a:gdLst>
            <a:ahLst/>
            <a:rect l="textAreaLeft" t="textAreaTop" r="textAreaRight" b="textAreaBottom"/>
            <a:pathLst>
              <a:path w="113" h="168">
                <a:moveTo>
                  <a:pt x="0" y="133"/>
                </a:moveTo>
                <a:cubicBezTo>
                  <a:pt x="21" y="150"/>
                  <a:pt x="45" y="162"/>
                  <a:pt x="71" y="168"/>
                </a:cubicBezTo>
                <a:lnTo>
                  <a:pt x="113" y="0"/>
                </a:lnTo>
                <a:lnTo>
                  <a:pt x="0" y="1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314880" y="1773360"/>
            <a:ext cx="280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Tahoma"/>
              </a:rPr>
              <a:t>Дошкольное и общее образо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Tahoma"/>
              </a:rPr>
              <a:t>92,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292880" y="4292640"/>
            <a:ext cx="2262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Социальная полит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2,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030640" y="5327640"/>
            <a:ext cx="273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Tahoma"/>
              </a:rPr>
              <a:t>Физическая культура и спор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Tahoma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222640" y="5254560"/>
            <a:ext cx="280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Молодежная политика                       и оздоровление дет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93680" y="4221000"/>
            <a:ext cx="22622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Другие расходы в области образ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41EF-7158-40A1-8780-6979CB5BDB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6C5F-77F4-4CC5-A645-58E81AD101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2400" y="723600"/>
            <a:ext cx="89154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Общегосударственные расх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590400" y="5938920"/>
            <a:ext cx="46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052640" y="5818320"/>
            <a:ext cx="626760" cy="9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052640" y="5724360"/>
            <a:ext cx="626760" cy="9396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052640" y="3749760"/>
            <a:ext cx="626760" cy="1976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052640" y="3656160"/>
            <a:ext cx="626760" cy="9360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1052640" y="3241800"/>
            <a:ext cx="626760" cy="41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1052640" y="3193920"/>
            <a:ext cx="626760" cy="6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052640" y="2933640"/>
            <a:ext cx="636480" cy="2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803520" y="6208560"/>
            <a:ext cx="1366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2016 год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2"/>
          <p:cNvSpPr/>
          <p:nvPr/>
        </p:nvSpPr>
        <p:spPr>
          <a:xfrm>
            <a:off x="6056280" y="2093760"/>
            <a:ext cx="3413160" cy="4106880"/>
          </a:xfrm>
          <a:prstGeom prst="rect">
            <a:avLst/>
          </a:prstGeom>
          <a:solidFill>
            <a:srgbClr val="dc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6297480" y="2430360"/>
            <a:ext cx="119160" cy="109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4"/>
          <p:cNvSpPr/>
          <p:nvPr/>
        </p:nvSpPr>
        <p:spPr>
          <a:xfrm>
            <a:off x="6564240" y="2371680"/>
            <a:ext cx="1616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Другие расход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7750080" y="1641600"/>
            <a:ext cx="1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7"/>
          <p:cNvSpPr/>
          <p:nvPr/>
        </p:nvSpPr>
        <p:spPr>
          <a:xfrm>
            <a:off x="6297480" y="3000240"/>
            <a:ext cx="119160" cy="109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8"/>
          <p:cNvSpPr/>
          <p:nvPr/>
        </p:nvSpPr>
        <p:spPr>
          <a:xfrm>
            <a:off x="6627240" y="2941560"/>
            <a:ext cx="169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Резервный фонд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6284880" y="3479760"/>
            <a:ext cx="119160" cy="11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2"/>
          <p:cNvSpPr/>
          <p:nvPr/>
        </p:nvSpPr>
        <p:spPr>
          <a:xfrm>
            <a:off x="6598800" y="3371760"/>
            <a:ext cx="194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Финансовый отде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3"/>
          <p:cNvSpPr/>
          <p:nvPr/>
        </p:nvSpPr>
        <p:spPr>
          <a:xfrm>
            <a:off x="6284880" y="4079880"/>
            <a:ext cx="119160" cy="10944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4"/>
          <p:cNvSpPr/>
          <p:nvPr/>
        </p:nvSpPr>
        <p:spPr>
          <a:xfrm>
            <a:off x="6625080" y="4010040"/>
            <a:ext cx="274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Контрольно-счетный орган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6284880" y="4668840"/>
            <a:ext cx="119160" cy="11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6"/>
          <p:cNvSpPr/>
          <p:nvPr/>
        </p:nvSpPr>
        <p:spPr>
          <a:xfrm>
            <a:off x="6550560" y="4599000"/>
            <a:ext cx="164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Администрац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7"/>
          <p:cNvSpPr/>
          <p:nvPr/>
        </p:nvSpPr>
        <p:spPr>
          <a:xfrm>
            <a:off x="6284880" y="5259240"/>
            <a:ext cx="119160" cy="10980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8"/>
          <p:cNvSpPr/>
          <p:nvPr/>
        </p:nvSpPr>
        <p:spPr>
          <a:xfrm>
            <a:off x="6591600" y="5187960"/>
            <a:ext cx="205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обрание депутат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9"/>
          <p:cNvSpPr/>
          <p:nvPr/>
        </p:nvSpPr>
        <p:spPr>
          <a:xfrm>
            <a:off x="6284880" y="5848200"/>
            <a:ext cx="119160" cy="1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0"/>
          <p:cNvSpPr/>
          <p:nvPr/>
        </p:nvSpPr>
        <p:spPr>
          <a:xfrm>
            <a:off x="6595200" y="5778360"/>
            <a:ext cx="19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одержание глав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1"/>
          <p:cNvSpPr/>
          <p:nvPr/>
        </p:nvSpPr>
        <p:spPr>
          <a:xfrm>
            <a:off x="177840" y="561492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285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4"/>
          <p:cNvSpPr/>
          <p:nvPr/>
        </p:nvSpPr>
        <p:spPr>
          <a:xfrm>
            <a:off x="1754280" y="555624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551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7"/>
          <p:cNvSpPr/>
          <p:nvPr/>
        </p:nvSpPr>
        <p:spPr>
          <a:xfrm>
            <a:off x="190440" y="458136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29619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0"/>
          <p:cNvSpPr/>
          <p:nvPr/>
        </p:nvSpPr>
        <p:spPr>
          <a:xfrm>
            <a:off x="165240" y="353520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455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1689120" y="3149640"/>
            <a:ext cx="819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513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4914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9"/>
          <p:cNvSpPr/>
          <p:nvPr/>
        </p:nvSpPr>
        <p:spPr>
          <a:xfrm>
            <a:off x="177840" y="308628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5"/>
          <p:cNvSpPr/>
          <p:nvPr/>
        </p:nvSpPr>
        <p:spPr>
          <a:xfrm>
            <a:off x="1625760" y="2890800"/>
            <a:ext cx="101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7558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5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B606-581C-47AA-9D39-5B29982E48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CF2E-5F47-4F77-88FD-4A2E5D629C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672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7"/>
          <p:cNvSpPr/>
          <p:nvPr/>
        </p:nvSpPr>
        <p:spPr>
          <a:xfrm>
            <a:off x="396720" y="3517920"/>
            <a:ext cx="3942000" cy="194472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направленные на ре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общегосударственных во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27"/>
          <p:cNvSpPr/>
          <p:nvPr/>
        </p:nvSpPr>
        <p:spPr>
          <a:xfrm>
            <a:off x="1974960" y="1996920"/>
            <a:ext cx="6318000" cy="100836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циальной направ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27"/>
          <p:cNvSpPr/>
          <p:nvPr/>
        </p:nvSpPr>
        <p:spPr>
          <a:xfrm>
            <a:off x="5513400" y="3517920"/>
            <a:ext cx="3944880" cy="195732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в сфере экономики и ЖК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1228680" y="1174680"/>
            <a:ext cx="87624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5130720" y="1162080"/>
            <a:ext cx="12960" cy="63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8271000" y="1154160"/>
            <a:ext cx="71100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98EA-73E5-45CE-9BA5-06138BCE47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2F79-1D83-4DB0-9777-7C596A814C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186840"/>
            <a:ext cx="8915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социальной направл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27"/>
          <p:cNvSpPr/>
          <p:nvPr/>
        </p:nvSpPr>
        <p:spPr>
          <a:xfrm>
            <a:off x="888840" y="1625760"/>
            <a:ext cx="7670880" cy="4914720"/>
          </a:xfrm>
          <a:prstGeom prst="roundRect">
            <a:avLst>
              <a:gd name="adj" fmla="val 16667"/>
            </a:avLst>
          </a:prstGeom>
          <a:solidFill>
            <a:srgbClr val="9999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Развитие образования Ленского муниципального район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«Развитие местного самоуправления в МО «Ленский муниципа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йон  и поддержка социально-ориентированных некоммерческ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рганизаций»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Развитие сферы культуры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Развитие физической культуры, спорта, туризма, повыш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эффективности реализации молодёжной и семейной политик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Обеспечение качественным, доступным жильем и объектами жилищ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оммунального хозяйства населе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Профилактика безнадзорности и правонарушений несовершеннолетних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Устойчивое развитие сельских территор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308E-25B3-4312-A94D-1127316D41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AB57-032A-49B8-BEF1-5502A21AD5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0"/>
          <p:cNvSpPr/>
          <p:nvPr/>
        </p:nvSpPr>
        <p:spPr>
          <a:xfrm>
            <a:off x="291960" y="1062000"/>
            <a:ext cx="5102280" cy="4240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еализация общеобразовательных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564160" y="1536840"/>
            <a:ext cx="41101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5 год – 668,9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465,2 млн.рублей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0"/>
          <p:cNvSpPr/>
          <p:nvPr/>
        </p:nvSpPr>
        <p:spPr>
          <a:xfrm>
            <a:off x="219240" y="1587600"/>
            <a:ext cx="5149800" cy="1226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Компенсация родительской платы за присмотр и ух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за ребёнком в образовательных  организациях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еализующих образовательную програм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дошко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0"/>
          <p:cNvSpPr/>
          <p:nvPr/>
        </p:nvSpPr>
        <p:spPr>
          <a:xfrm>
            <a:off x="231840" y="2878200"/>
            <a:ext cx="5149800" cy="1020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беспечение предоставления жилых помещений детям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иротам и детям, оставшимся без попечения родител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лицам из их числа по договорам най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пециализированных жилых помещ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0"/>
          <p:cNvSpPr/>
          <p:nvPr/>
        </p:nvSpPr>
        <p:spPr>
          <a:xfrm>
            <a:off x="228600" y="4038480"/>
            <a:ext cx="5178600" cy="444600"/>
          </a:xfrm>
          <a:prstGeom prst="roundRect">
            <a:avLst>
              <a:gd name="adj" fmla="val 2348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Мероприятия по оздоровлению де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1365120" y="347760"/>
            <a:ext cx="703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Муниципальная программа  «Развитие образования Ленского муниципального района (2015-2018 годы)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50"/>
          <p:cNvSpPr/>
          <p:nvPr/>
        </p:nvSpPr>
        <p:spPr>
          <a:xfrm>
            <a:off x="254160" y="5460840"/>
            <a:ext cx="5190840" cy="774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троительство школы на 86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мест в п.Урдо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Рисунок 4" descr="http://yarsh.ucoz.ru/novosti/starshaja_shkola.jpg"/>
          <p:cNvPicPr/>
          <p:nvPr/>
        </p:nvPicPr>
        <p:blipFill>
          <a:blip r:embed="rId1"/>
          <a:stretch/>
        </p:blipFill>
        <p:spPr>
          <a:xfrm>
            <a:off x="5551560" y="3073320"/>
            <a:ext cx="4135320" cy="3213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0"/>
          <p:cNvSpPr/>
          <p:nvPr/>
        </p:nvSpPr>
        <p:spPr>
          <a:xfrm>
            <a:off x="241200" y="4610160"/>
            <a:ext cx="5178600" cy="533520"/>
          </a:xfrm>
          <a:prstGeom prst="roundRect">
            <a:avLst>
              <a:gd name="adj" fmla="val 2348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овершенствование системы выявления и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талантов дет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1766-C231-4908-AE47-C646DB6AF5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76C2-F0AB-4C2E-8692-4DA3EDBF38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463680"/>
            <a:ext cx="95252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Муниципальная программа «Развитие образования Ленского муниципального района (2015-2018 годы)»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(строительство объектов муниципальной собственнос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7"/>
          <p:cNvSpPr/>
          <p:nvPr/>
        </p:nvSpPr>
        <p:spPr>
          <a:xfrm>
            <a:off x="4027320" y="1832040"/>
            <a:ext cx="5713560" cy="2168640"/>
          </a:xfrm>
          <a:prstGeom prst="roundRect">
            <a:avLst>
              <a:gd name="adj" fmla="val 16667"/>
            </a:avLst>
          </a:prstGeom>
          <a:solidFill>
            <a:srgbClr val="00007d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роительство средн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щеобразовате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колы на 860 учащихся в п. Урдо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5 год – 210,7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6 год –  107,7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rcRect l="6851" t="0" r="0" b="7874"/>
          <a:stretch/>
        </p:blipFill>
        <p:spPr>
          <a:xfrm>
            <a:off x="258840" y="4102200"/>
            <a:ext cx="4844880" cy="2465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User</cp:lastModifiedBy>
  <dcterms:modified xsi:type="dcterms:W3CDTF">2017-05-29T10:24:29Z</dcterms:modified>
  <cp:revision>1137</cp:revision>
  <dc:subject/>
  <dc:title>Бюджет для граждан на 2014 год</dc:title>
</cp:coreProperties>
</file>