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90D-485B-48E7-BB67-D199757D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57A-A861-4E46-83D8-87A25166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A3DF0-FFC1-46BC-9076-F3AE96C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A84B6-C25C-4782-99D5-FE4EFA92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B1F09-BC0F-40DC-A3DF-27B4474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C7882-B825-4ECE-83E1-849BE6FD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9E671-6284-4299-99FA-0C26C5F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0C79B-6A81-4F3F-BA32-5E1A39B1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C6AB3-5DE2-4C99-ABEF-7DF398C0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4FF35-88C7-435C-80E6-4657C58F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E34D8-3A10-4B88-B58D-121239B6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AAFAE-BD2A-41F5-9F6B-59010EF3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F63-12FF-4B11-BBE2-8803937A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7C0D5-5C5E-4C28-9EEB-F50F99C7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5BDA2-E0E8-4BBA-82F8-AC53D93F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E45A8-686A-4445-AB5A-845DF6E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9309B-439D-49E3-9650-F812D0A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07D23-25F6-4F3D-BBCF-74889C51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DF5AC-AB35-4670-A5E1-EFC251B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05507-F542-411F-AA4A-7F4B7A91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AE181-00F4-4D52-A606-AFB28452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6EA5D-149F-45C0-A39F-76F55171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B2BBD-A51E-40D0-BD77-A8D9777C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D7B-657C-4969-89CA-A2215642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7E78A-2439-4B8E-8440-D0858453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97FB3-5A52-4EDA-AB5F-F6BA302D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4AB64-61D5-484D-8BCD-CB079C50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EAEFD-6A0C-4406-AD3A-09C58634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BA5C7-B12F-4BF3-B726-9AE452E5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DFAFA-D683-4D29-A423-D4DE6895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90CDA-41F2-4C16-B6AC-7F3A3DBD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2F94A-FBF7-43B2-873D-B3D2B233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0FF1F-37C4-482B-82C5-93041682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BCD2-F9D7-45D6-AFE9-B4A28902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FCE9-5907-4C3E-B322-4AD78E6E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677A7-9D1F-4863-8F60-58453D2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E7DD-44C7-4ABD-B756-0DCE7DD8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4C6D8-69A5-4C07-8598-07C0E129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B3C28-54E0-44B1-A6CB-B0392728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E1A8E-74FF-4AA5-A024-6C3256A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70661-010E-456A-8E44-37A5F17E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B39A2-200D-46FC-AAB3-4F70D02A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31C7D-66C0-4501-96E9-DECB09C3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7BE57-2972-42FE-A011-73592806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A3404-1CEA-4F56-A4D0-22BD8D3E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DAAD-C118-4701-BEB7-4A4EC58A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64B6A-B292-4B0D-AB8A-3D8000D1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49E4E-C125-4C80-B614-8F53013A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E2C71-E026-4A50-9637-4BE510A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0ACDC-5252-49E3-9AE0-F2FA699A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079A2-D409-4769-995B-56309EFA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ED49E-A6FA-47FF-A6D3-15E49982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74CE9-1A9B-4451-9216-9030AAC3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092C3-4583-40B1-9B89-BA3500D6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35C58-9B4C-47C2-B34C-78846250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EBF50-732A-4B8E-991D-C11C7C2E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DB82-8775-4EE3-90BF-DC1866EC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22961-AC40-4DF7-9E5E-5A3025C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F5AB2-D1ED-4F8C-89C7-4861683D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99A2D-09A6-4E9E-BEBA-B22A007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411E8-F7B8-40F5-8943-8818A5C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62A21-82D9-430C-A204-7ED4A1D8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516B9-DBCE-4CC3-BB5F-61BDADF9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3F184-F3DD-4C8A-A4D1-B1C9A704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5CD8D-0D84-4CCE-88D1-149A5A55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068C6-488D-45F1-964D-4E759A3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10D85-3857-4239-AFA7-AD46BC8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FB4A-1B74-450E-A29A-3D7958F2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616F5-ACCE-44C1-B848-A2DD9ED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DFE2F-958F-429B-B0E4-FA455633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07AB2-4DCA-4A86-8842-408B8B4D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419E4-686B-46F0-88F2-00612EF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6AF5A-C69E-4F6C-9CB1-A93E2D70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85F0B-DEDE-4FB3-81B9-CC1E783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3B01C-A63E-436D-84B9-84E12AFE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751E8-E049-43BB-89F1-E2B9C3E1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23504-31AE-405A-8C3C-B67A7B4C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0D598-D198-4C49-B295-F9CF7037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F44D-B816-443B-A7E4-D7080E3A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E3D00F-5B15-44CB-B63A-C5E2C1C3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ABA53-FFDE-4F15-8E64-A9F6F9C7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5B567-8EED-46A4-8146-892E3EB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C043B-B190-497E-B37C-4F7B963B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EADE5-D7A2-4264-A756-4AA77356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175C5-AD1C-4ECE-A4F9-7E2CDB7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FC89B-A17E-4939-A67F-46B5F5C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905DC-523D-4505-8810-9FB8589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51572-D892-4835-AC29-0527C60B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19B68-EC58-41F7-8C10-14101B6A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FDCB-D203-42A4-BDB1-BDA74EA8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3629A-C253-4A83-9AE5-01FE0860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E309-0AAE-4929-B254-20DB321C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7BD-8F73-46F9-A950-FF9E621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F981-2B21-4179-A575-F8529077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AEF6-88E8-4765-AB5E-408FE4A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A484-DB92-423A-8FD7-CEB4BAB0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FD70-2C03-472C-8331-53DD1115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061-F0C8-41AB-A18D-A618A416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236F-7DB8-416E-B1D0-FC2D3A8A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C113-A6C6-45F5-9B7B-23954A40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30F5-3676-4ECC-8EC7-CC4B55FC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F797-13DE-4CD5-8B50-CD5C19E7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8693-E685-4314-9936-BFFE03E2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594-D1CB-43A2-982A-B3F2DF3C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C195-F752-4285-946A-2B594202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C610-40F6-4C54-8A0F-C812EBC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881D-4B80-473D-8C6C-5FFD17B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9CBA-7730-44AA-8B38-C19BC28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F381-156B-41C3-B665-BC851306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49A8-3431-4B00-8476-867DAAED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E580-5809-4887-869E-C855EC1E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ED334-DA02-433C-9A73-580F62B9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A0DE-3D78-4B2E-BEC2-FAD8F808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08F6-B5EB-4FF0-B031-8FEB681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343-C1AD-4E66-AE9E-7745E0B4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CCEB-2049-4A70-96A5-59AEE141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1DDEB-BF5C-43A8-AEE1-528138BA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BE7E-3E5F-40ED-BB78-B49C5A2D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DA1C-1EAB-44F5-8634-BC0FE55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4E07-25EF-4D07-9B8A-5376D828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7BB7-30AC-4D2D-88BE-8CE3672F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4827-782F-42C2-9ED5-28AC207F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06CA-66F7-4951-92FD-C11F6F04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067B-8B35-4012-8D2F-F7F4FD5B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1C02A-AC5C-4A46-96C8-1ECA6DDE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B86-1B32-4438-9D36-B18769C0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A130A-799A-4A4F-87FF-F439A5E0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6A5CC-0E2B-41A0-BEAD-190BC06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6E79-3A7D-421C-8CEE-DD0FFBD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D077-2A4F-4E13-8E2C-69015B4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C206-E28B-4828-A463-44CDA11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C5C15-6901-4E23-A79B-BF75C732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72D5B-8AD1-4474-B731-55AA2D3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108F-D382-4816-879E-269AA34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4BE28-069D-4769-937E-3F087BE9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FCDF-6D0C-4D50-BDCA-E5B374A6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8EB-3FE6-488B-B404-059885D6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9902-3467-4FD2-84EF-98B8D7E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CCC52-DA71-4460-AE88-C4E3EDDB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7D50-DF6E-4262-9AB8-323CB70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7FC3-8D29-45A3-846A-75C1249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3AF43-DE85-454A-804A-0BD83771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7D769-663E-4B13-A1B3-59937FA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9679-2CA0-474E-800B-FE3D4D99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C8388-A704-4D3B-AD34-103B9FB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B169-F4CE-4382-8EFF-2987C05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D4DAD-E77E-46DB-B770-C39141B0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B52-36BC-4B24-98E7-AF70EB6A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BE556-140A-4A61-8321-DD0AF80E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AA02-B50C-4AC0-AC1E-4D3FFDE5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C246D-0066-4BC8-9B39-6DEF0128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E0104-EA66-455D-BE2B-48A62EDE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09453-ACD6-45E5-A1C9-59FB017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78E13-8F5E-4F8C-BE25-F9A86DBD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65177-8228-40C7-A8B8-DE116AEA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1A003-0726-4DD6-9435-C9F9FA5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63B83-7449-45D5-8948-5B1D3BD3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62CF-BE4D-49F2-BB46-6A95484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B54-DA73-4174-B9D5-94F4770E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80A36-407B-44A8-85FE-3F69B02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DCBDA-3C7B-4D8E-A645-77533F5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01973-90BD-4C5B-B4CF-AA24E6B2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FB98-265E-485F-A95E-7AC381DA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32A98-1804-4292-AE05-913D86FF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72B40-6A04-4F3A-9B1A-3F71888C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1639E-70EB-49BD-BED1-DED20D29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2891E-BB30-4455-B399-B28A8986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ECB1-5AE0-4464-A063-D785DAF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A42E3-0DEA-47DE-A9B5-AF5A7FA5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891-ACBB-4EE6-908B-CDC5AE2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D1CD-3559-4FCE-A4D7-F411EDD7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E57D-87BE-4924-8875-4F4F0F4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EAC26-A361-48E6-AA26-D4DA769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730A-630D-4881-BAD9-DE6E83AE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080EC-47C0-44F1-A5CC-DB7C4E5A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7B7F3-8AAB-4D4F-9893-1EB7FBE8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F50B-37BC-4DC6-9D82-90F4ED79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44642-379A-4391-BBA0-C1C615DE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9CC27-EFE7-4E6D-BB40-2589755F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3E58E-3D91-460D-8AC4-7F399106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8A3A-1316-46F4-8668-ED5D569D987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C8A-851A-4739-A4BC-6584205EAF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75BC-5E77-4E00-BECC-E6C268E67D3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3011-64F3-44D9-B737-6CE96A2566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12D3-0129-4644-A21F-6E9ACE00F19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53C1-8C17-42B7-BD0D-4691A1D134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7D00-05C7-4F6A-A529-107040A9540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8A32-A297-4437-AAFC-59C407FF52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639C-B5F3-42D8-B1FA-2DFD5DDE725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ADCC-0414-4D1D-B60C-A4552D44D0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1480-C461-46B1-A084-5F305ABDED4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3EC-0AC4-46FF-A683-D3E1E9615A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8B6F-12BF-4754-94D1-1EFB404B0AB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4530-EE05-4547-B776-A3AA0CBBB2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98A6-1162-44F6-AF5D-A59ADD31A07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321C-7602-4A82-B898-17B47DD0FA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4652-5F63-4346-A874-C34DF03E94C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E9CD-1357-4371-AFB4-21BCDA8B56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89A-5B22-4CBC-B922-B4326120AF5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F779-2296-490F-98E7-29B58B9B13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B77B-F424-4E93-9D16-2B40BC5C12F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4166-60DC-4273-B994-670F1188CC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B406-336F-4AF6-990E-07C35C01F65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36F9-1B71-429C-8131-67AA3F725D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837C-CBD3-46E3-BE71-FC1BFB5A1D4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F9D4-9684-4EE6-80EA-975E92B0A7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30CE-CF83-4943-A5E7-DC8D262D267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0F7-B21B-4775-BBAA-A31985948F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1105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1105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1105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110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110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11052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1105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2154-B3E0-4E85-B214-478A4430C3E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A6BD-83D0-41E5-A363-FE8A516ED2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6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B0D-678E-4723-9523-5FE5D9F1BB3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0ABE-4992-4787-A286-4D48625BDD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за 2016 год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1015920" y="1609560"/>
          <a:ext cx="8128080" cy="4953240"/>
        </p:xfrm>
        <a:graphic>
          <a:graphicData uri="http://schemas.openxmlformats.org/drawingml/2006/table">
            <a:tbl>
              <a:tblPr/>
              <a:tblGrid>
                <a:gridCol w="6235920"/>
                <a:gridCol w="1892160"/>
              </a:tblGrid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 46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5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 4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42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9 6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8 0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2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14 5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 5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18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5A84-1B17-428A-AB30-8DC5C79753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842-8459-409A-9DB4-15206C41B6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FECF-D23D-45FA-B5F6-6E2CCCE3FB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8294-9ACB-455F-8460-56874671AC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з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3" name="Object 4"/>
          <p:cNvGraphicFramePr/>
          <p:nvPr/>
        </p:nvGraphicFramePr>
        <p:xfrm>
          <a:off x="1652760" y="1300320"/>
          <a:ext cx="6621120" cy="46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300320"/>
                    <a:ext cx="6621120" cy="46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F37-FD03-40BF-93C2-B7CD60B0D5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455C-8E41-4CD4-B944-6B6ADEDD4A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1960560" y="1052640"/>
          <a:ext cx="6291360" cy="5554440"/>
        </p:xfrm>
        <a:graphic>
          <a:graphicData uri="http://schemas.openxmlformats.org/drawingml/2006/table">
            <a:tbl>
              <a:tblPr/>
              <a:tblGrid>
                <a:gridCol w="3382560"/>
                <a:gridCol w="1229040"/>
                <a:gridCol w="1248120"/>
                <a:gridCol w="216000"/>
                <a:gridCol w="2160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239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24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47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78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0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3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9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8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79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3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C018-69AE-4459-8355-CECF2E052E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5576-D0AC-41D3-B5AC-6AEA01E44A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2" name="Object 4"/>
          <p:cNvGraphicFramePr/>
          <p:nvPr/>
        </p:nvGraphicFramePr>
        <p:xfrm>
          <a:off x="466560" y="2328840"/>
          <a:ext cx="8963280" cy="36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28840"/>
                    <a:ext cx="896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31D-4CDD-4AFB-9642-810D996C8C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3F3-7632-4C3A-8475-A498E5D4B1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7" name="Object 4"/>
          <p:cNvGraphicFramePr/>
          <p:nvPr/>
        </p:nvGraphicFramePr>
        <p:xfrm>
          <a:off x="378000" y="2014560"/>
          <a:ext cx="936144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014560"/>
                    <a:ext cx="93614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4004-C3C4-4022-80DA-79AC98A726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D172-72FD-430E-A43E-C3E0688419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3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8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42C6-F749-4325-A949-9C83C28C8B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C5E2-511D-414C-B5CA-BA9B5A5815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з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3" name="Object 4"/>
          <p:cNvGraphicFramePr/>
          <p:nvPr/>
        </p:nvGraphicFramePr>
        <p:xfrm>
          <a:off x="276120" y="2432160"/>
          <a:ext cx="918684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432160"/>
                    <a:ext cx="918684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7320-72B6-48F0-994D-6381C8677D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5860-BF9A-4643-B9AE-999C99FE20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E5FB-42E3-4A83-80B0-17C4776F94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97ED-52A4-4EE1-8D05-AC6AAABCF8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2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39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7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8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49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1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2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10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C308-E1B4-43FC-8D5E-1C817030C1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65F9-9446-4678-9CEE-F32C74E93A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0ADE-5930-49B2-BAED-4B488A6ECA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4FA-FFF0-40C9-8062-50E4B14E20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8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5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B81-FBA9-496E-AF6D-27C9AF2153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0F84-0525-44D6-9151-1CD7E8F2FD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959120" y="1990800"/>
          <a:ext cx="6270480" cy="3778200"/>
        </p:xfrm>
        <a:graphic>
          <a:graphicData uri="http://schemas.openxmlformats.org/drawingml/2006/table">
            <a:tbl>
              <a:tblPr/>
              <a:tblGrid>
                <a:gridCol w="3255840"/>
                <a:gridCol w="301464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186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7191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 004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C9B0-15C4-470C-B7A1-03F50587B8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B1D6-9F32-4E98-80EA-D253D9554A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2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3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5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6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2D74-6F61-4BE1-9AD1-A1E22F7C36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3E9-D206-4683-BCFA-DCDDDAE15F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571680" y="2690640"/>
          <a:ext cx="7716600" cy="2982960"/>
        </p:xfrm>
        <a:graphic>
          <a:graphicData uri="http://schemas.openxmlformats.org/drawingml/2006/table">
            <a:tbl>
              <a:tblPr/>
              <a:tblGrid>
                <a:gridCol w="3821040"/>
                <a:gridCol w="389556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 465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 00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14 536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Your User Name</cp:lastModifiedBy>
  <dcterms:modified xsi:type="dcterms:W3CDTF">2017-05-29T12:00:40Z</dcterms:modified>
  <cp:revision>862</cp:revision>
  <dc:subject/>
  <dc:title>Бюджет для граждан на 2014 год</dc:title>
</cp:coreProperties>
</file>