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4.jpeg" ContentType="image/jpeg"/>
  <Override PartName="/ppt/media/image19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5.wmf" ContentType="image/x-wmf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8FA3-4700-43AC-B1D1-C1074CB1C91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81FD-A3C6-46BC-9078-0F13454AABB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08D3E-3F86-4D92-9DA2-B219D0AF0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B3ED8-7742-4727-B600-005FB69D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C6DF4-A5CF-46DD-BB2F-330826535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32AD5-ECE6-4ABA-95C5-B1D277EC2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AAF6-A9A6-4578-9F93-52E9B85AA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2947-295D-45CC-839C-4BF8F05B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0C47-2529-41FA-BC87-E74B18DE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FFF2-30ED-4F2A-9ACC-E4B02570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D522-364A-46E3-85EA-D2180F8B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3E05-DD12-4CAD-818B-48C47919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CBD5-86D6-4753-9872-3E90530F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3B641-E242-46D3-BA70-1B1E81E9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2995-B4E5-4495-9553-9A6D7D8F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CB30-B883-4116-9488-8F9A3498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950A-69E9-463D-8643-894C63E0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DFAD-367A-4D79-AA4A-0972EAE3C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B50E-AB76-4C82-928B-B68E69C36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689D2-770A-4ABD-8D8B-23377AA2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0B273-D41D-4368-9FFF-7DF612C5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E24DF-1E0F-4143-AEBD-2C9FB5C9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0A2F9-22D1-4A59-9A7F-77ADE67D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37ADF-2F23-4628-A9C8-4C9FD24C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5A0DE-2B56-4A22-B989-AD853F84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EFB61-0E77-4A37-8162-B09B49B7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1556-AD97-49C3-820C-BCFA16AC3F3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905760" cy="546120"/>
            <a:chOff x="0" y="0"/>
            <a:chExt cx="990576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30960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47120" y="135000"/>
              <a:ext cx="945864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43520" y="135000"/>
              <a:ext cx="14904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92920" y="0"/>
              <a:ext cx="1512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92920" y="135000"/>
              <a:ext cx="15120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97360" y="274680"/>
              <a:ext cx="1548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42560" y="136440"/>
              <a:ext cx="15264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3520" y="271440"/>
              <a:ext cx="14904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97360" y="409680"/>
              <a:ext cx="15480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D023-26CB-44E4-B93E-426032979117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79728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859040" y="1690560"/>
              <a:ext cx="804672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3105360" cy="3157560"/>
              <a:chOff x="0" y="1066680"/>
              <a:chExt cx="310536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620640" y="3583080"/>
                <a:ext cx="62928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858680" y="1690560"/>
                <a:ext cx="62928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471040" y="1066680"/>
                <a:ext cx="6343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236240" y="3583080"/>
                <a:ext cx="6325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471040" y="1690560"/>
                <a:ext cx="6343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236240" y="2324160"/>
                <a:ext cx="6325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63072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858680" y="2324160"/>
                <a:ext cx="62928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620640" y="2948040"/>
                <a:ext cx="62928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236240" y="2948040"/>
                <a:ext cx="6325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3393-C635-4EDE-A084-94C23E9A3FF4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3F7D-EF46-4903-B68C-92F67E4F9D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hyperlink" Target="http://images.yandex.ru/yandsearch?source=wiz&amp;fp=0&amp;img_url=http%3A%2F%2Fwww.bbc.co.uk%2Fradio4%2Fwomanshour%2Fmedia%2Fcarer_sized.jpg&amp;text=&#1086;&#1087;&#1077;&#1082;&#1072;%20&#1085;&#1072;&#1076;%20&#1089;&#1086;&#1074;&#1077;&#1088;&#1096;&#1077;&#1085;&#1085;&#1086;&#1083;&#1077;&#1090;&#1085;&#1080;&#1084;&#1080;%20&#1085;&#1077;&#1076;&#1077;&#1077;&#1089;&#1087;&#1086;&#1089;&#1086;&#1073;&#1085;&#1099;&#1084;&#1080;%20&#1074;%20&#1082;&#1072;&#1088;&#1090;&#1080;&#1085;&#1082;&#1072;&#1093;&amp;noreask=1&amp;pos=17&amp;lr=20&amp;rpt=simage&amp;nojs=1" TargetMode="External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98FD-DA09-421D-97CD-987B57E793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5CAD-3B26-43C5-A224-1D9407F0C0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343080"/>
            <a:ext cx="8915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Расходы районного бюдже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922320"/>
            <a:ext cx="8915400" cy="6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Times New Roman"/>
              </a:rPr>
              <a:t>Расходы бюджета – выплачиваемые из бюджета  денежные средства, за исключением   средств, являющихся источниками финансирования дефицита бюдже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287280" y="977760"/>
            <a:ext cx="9204480" cy="0"/>
          </a:xfrm>
          <a:prstGeom prst="line">
            <a:avLst/>
          </a:prstGeom>
          <a:ln w="4752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3782880" y="1697040"/>
            <a:ext cx="2341800" cy="1096920"/>
          </a:xfrm>
          <a:prstGeom prst="roundRect">
            <a:avLst>
              <a:gd name="adj" fmla="val 16667"/>
            </a:avLst>
          </a:prstGeom>
          <a:solidFill>
            <a:srgbClr val="ff505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спределение расходов в районном бюдже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336600" y="3386160"/>
            <a:ext cx="2801880" cy="26128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 функциям местного самоуправления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отраслевая» структура расход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3414600" y="3425760"/>
            <a:ext cx="2801880" cy="2613240"/>
          </a:xfrm>
          <a:prstGeom prst="rect">
            <a:avLst/>
          </a:prstGeom>
          <a:solidFill>
            <a:srgbClr val="ffff99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 органам местного самоуправления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ведомственная» структура расход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6413400" y="3435480"/>
            <a:ext cx="3108600" cy="2612880"/>
          </a:xfrm>
          <a:prstGeom prst="rect">
            <a:avLst/>
          </a:prstGeom>
          <a:solidFill>
            <a:srgbClr val="3366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 муниципальным программам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программная» структура расход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9"/>
          <p:cNvSpPr/>
          <p:nvPr/>
        </p:nvSpPr>
        <p:spPr>
          <a:xfrm rot="7897200">
            <a:off x="1767600" y="2100600"/>
            <a:ext cx="1611360" cy="882720"/>
          </a:xfrm>
          <a:custGeom>
            <a:avLst/>
            <a:gdLst>
              <a:gd name="textAreaLeft" fmla="*/ 285120 w 1611360"/>
              <a:gd name="textAreaRight" fmla="*/ 1154520 w 1611360"/>
              <a:gd name="textAreaTop" fmla="*/ 118080 h 882720"/>
              <a:gd name="textAreaBottom" fmla="*/ 76464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50" hR="21600" stAng="10800000" swAng="-5400000"/>
                <a:lnTo>
                  <a:pt x="11648" y="21600"/>
                </a:lnTo>
                <a:arcTo wR="7650" hR="21600" stAng="5400000" swAng="-1050565"/>
                <a:lnTo>
                  <a:pt x="19038" y="16129"/>
                </a:lnTo>
                <a:lnTo>
                  <a:pt x="17299" y="0"/>
                </a:lnTo>
                <a:lnTo>
                  <a:pt x="10436" y="16129"/>
                </a:lnTo>
                <a:lnTo>
                  <a:pt x="12738" y="16129"/>
                </a:lnTo>
                <a:arcTo wR="7650" hR="21600" stAng="4349435" swAng="721967"/>
                <a:lnTo>
                  <a:pt x="9649" y="20850"/>
                </a:lnTo>
                <a:arcTo wR="7650" hR="21600" stAng="5728598" swAng="5071402"/>
                <a:close/>
              </a:path>
              <a:path fill="darkenLess" w="21600" h="21600">
                <a:moveTo>
                  <a:pt x="0" y="0"/>
                </a:moveTo>
                <a:arcTo wR="7650" hR="21600" stAng="10800000" swAng="-5400000"/>
                <a:lnTo>
                  <a:pt x="11648" y="21600"/>
                </a:lnTo>
                <a:arcTo wR="7650" hR="21600" stAng="5400000" swAng="328598"/>
                <a:lnTo>
                  <a:pt x="9649" y="20850"/>
                </a:lnTo>
                <a:arcTo wR="7650" hR="21600" stAng="5728598" swAng="5071402"/>
                <a:close/>
              </a:path>
            </a:pathLst>
          </a:custGeom>
          <a:solidFill>
            <a:srgbClr val="ccffcc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10"/>
          <p:cNvSpPr/>
          <p:nvPr/>
        </p:nvSpPr>
        <p:spPr>
          <a:xfrm rot="2313000">
            <a:off x="6381360" y="2165400"/>
            <a:ext cx="1701720" cy="609480"/>
          </a:xfrm>
          <a:custGeom>
            <a:avLst/>
            <a:gdLst>
              <a:gd name="textAreaLeft" fmla="*/ 312480 w 1701720"/>
              <a:gd name="textAreaRight" fmla="*/ 1238400 w 17017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39" hR="21600" stAng="10800000" swAng="5400000"/>
                <a:lnTo>
                  <a:pt x="11748" y="0"/>
                </a:lnTo>
                <a:arcTo wR="7939" hR="21600" stAng="-5400000" swAng="819454"/>
                <a:lnTo>
                  <a:pt x="18040" y="3582"/>
                </a:lnTo>
                <a:lnTo>
                  <a:pt x="17782" y="21600"/>
                </a:lnTo>
                <a:lnTo>
                  <a:pt x="10403" y="3582"/>
                </a:lnTo>
                <a:lnTo>
                  <a:pt x="12317" y="3582"/>
                </a:lnTo>
                <a:arcTo wR="7939" hR="21600" stAng="-4580546" swAng="-508080"/>
                <a:lnTo>
                  <a:pt x="9843" y="631"/>
                </a:lnTo>
                <a:arcTo wR="7939" hR="21600" stAng="-5711375" swAng="-5088625"/>
                <a:close/>
              </a:path>
              <a:path fill="darkenLess" w="21600" h="21600">
                <a:moveTo>
                  <a:pt x="0" y="21600"/>
                </a:moveTo>
                <a:arcTo wR="7939" hR="21600" stAng="10800000" swAng="5400000"/>
                <a:lnTo>
                  <a:pt x="7939" y="0"/>
                </a:lnTo>
                <a:arcTo wR="7939" hR="21600" stAng="-5400000" swAng="311375"/>
                <a:lnTo>
                  <a:pt x="9843" y="631"/>
                </a:lnTo>
                <a:arcTo wR="7939" hR="21600" stAng="-5711375" swAng="-5088625"/>
                <a:close/>
              </a:path>
            </a:pathLst>
          </a:custGeom>
          <a:solidFill>
            <a:srgbClr val="3366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11"/>
          <p:cNvSpPr/>
          <p:nvPr/>
        </p:nvSpPr>
        <p:spPr>
          <a:xfrm>
            <a:off x="4543560" y="2860560"/>
            <a:ext cx="766800" cy="492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5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82280" y="2451240"/>
            <a:ext cx="84200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2017  ГОД –  19297,5 ТЫС.РУБ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82280" y="1143000"/>
            <a:ext cx="8420040" cy="119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униципальная программа «Развитие образования Ленского муниципального района (2015-2018 годы)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расходы на дополнительное образование детей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Номер слайда 1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E768-9EB1-4B28-B9DD-5843DD58C97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2" descr="C:\Users\Кривошеина ТА\Desktop\hAA92US1dEc.jpg"/>
          <p:cNvPicPr/>
          <p:nvPr/>
        </p:nvPicPr>
        <p:blipFill>
          <a:blip r:embed="rId1"/>
          <a:stretch/>
        </p:blipFill>
        <p:spPr>
          <a:xfrm>
            <a:off x="1036800" y="3486240"/>
            <a:ext cx="3309840" cy="2324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C:\Users\Кривошеина ТА\Desktop\lop.jpg"/>
          <p:cNvPicPr/>
          <p:nvPr/>
        </p:nvPicPr>
        <p:blipFill>
          <a:blip r:embed="rId2"/>
          <a:stretch/>
        </p:blipFill>
        <p:spPr>
          <a:xfrm>
            <a:off x="5626080" y="3835440"/>
            <a:ext cx="3314880" cy="2222640"/>
          </a:xfrm>
          <a:prstGeom prst="rect">
            <a:avLst/>
          </a:prstGeom>
          <a:ln w="25560">
            <a:solidFill>
              <a:srgbClr val="6f6fbc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Муниципальная программа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«Развитие образования Ленского муниципального района» (2015-2018 годы)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95360" y="1981080"/>
          <a:ext cx="8699400" cy="3337200"/>
        </p:xfrm>
        <a:graphic>
          <a:graphicData uri="http://schemas.openxmlformats.org/drawingml/2006/table">
            <a:tbl>
              <a:tblPr/>
              <a:tblGrid>
                <a:gridCol w="3998880"/>
                <a:gridCol w="4700520"/>
              </a:tblGrid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7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62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школьное 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50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е 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211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полнительное образование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29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одёжная поли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1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88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  <p:sp>
        <p:nvSpPr>
          <p:cNvPr id="217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4386-4475-4071-9B28-83B07C5927D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2D65-2843-4DF6-94AE-361EDF3BCA8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1CDF-CCCB-4CEF-953A-21FCF165366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30120" y="596880"/>
            <a:ext cx="9321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Times New Roman"/>
              </a:rPr>
              <a:t>МП «Развитие инициатив и поддержка различных социальных групп населения Ленского район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749160" y="4861080"/>
            <a:ext cx="33148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Times New Roman"/>
              </a:rPr>
              <a:t>Старшее поко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7d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00007d"/>
                </a:solidFill>
                <a:latin typeface="Times New Roman"/>
              </a:rPr>
              <a:t>(на оплату проезда в общественно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7d"/>
                </a:solidFill>
                <a:latin typeface="Times New Roman"/>
              </a:rPr>
              <a:t>транспорте)</a:t>
            </a:r>
            <a:r>
              <a:rPr b="1" i="1" lang="ru-RU" sz="2400" spc="-1" strike="noStrike">
                <a:solidFill>
                  <a:srgbClr val="00007d"/>
                </a:solidFill>
                <a:latin typeface="Times New Roman"/>
              </a:rPr>
              <a:t>          </a:t>
            </a:r>
            <a:br>
              <a:rPr sz="2400"/>
            </a:br>
            <a:r>
              <a:rPr b="1" i="1" lang="ru-RU" sz="2200" spc="-1" strike="noStrike">
                <a:solidFill>
                  <a:srgbClr val="ff0000"/>
                </a:solidFill>
                <a:latin typeface="Times New Roman"/>
              </a:rPr>
              <a:t>2016 год – 56,1 тыс.руб.       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Times New Roman"/>
              </a:rPr>
              <a:t>2017 год- 40,1 тыс.руб.       </a:t>
            </a:r>
            <a:br>
              <a:rPr sz="2200"/>
            </a:b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5118120" y="2146320"/>
            <a:ext cx="369900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Times New Roman"/>
              </a:rPr>
              <a:t>Развитие территориального общественного самоуправления</a:t>
            </a:r>
            <a:br>
              <a:rPr sz="2000"/>
            </a:br>
            <a:r>
              <a:rPr b="1" i="1" lang="ru-RU" sz="2200" spc="-1" strike="noStrike">
                <a:solidFill>
                  <a:srgbClr val="ff0000"/>
                </a:solidFill>
                <a:latin typeface="Times New Roman"/>
              </a:rPr>
              <a:t>2016 год – 469,4 тыс.руб.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Times New Roman"/>
              </a:rPr>
              <a:t>2017 год – 469,2 тыс.руб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4965840" y="1308240"/>
            <a:ext cx="427644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10" descr="C:\Users\Кривошеина ТА\Desktop\mf3AhARxB0Y.jpg"/>
          <p:cNvPicPr/>
          <p:nvPr/>
        </p:nvPicPr>
        <p:blipFill>
          <a:blip r:embed="rId1"/>
          <a:stretch/>
        </p:blipFill>
        <p:spPr>
          <a:xfrm>
            <a:off x="1206360" y="2806560"/>
            <a:ext cx="2374920" cy="1575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1" descr="C:\Users\Кривошеина ТА\Desktop\4d31d7d312b1d41a8acf70abf9403588.jpg"/>
          <p:cNvPicPr/>
          <p:nvPr/>
        </p:nvPicPr>
        <p:blipFill>
          <a:blip r:embed="rId2"/>
          <a:stretch/>
        </p:blipFill>
        <p:spPr>
          <a:xfrm>
            <a:off x="4851360" y="4280040"/>
            <a:ext cx="3251160" cy="207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CEA2-D68F-4912-82F1-5686C267DC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Номер слайда 1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FC99-CD85-49CE-8D33-8811262853F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Прямоугольник 3"/>
          <p:cNvSpPr/>
          <p:nvPr/>
        </p:nvSpPr>
        <p:spPr>
          <a:xfrm>
            <a:off x="216000" y="406440"/>
            <a:ext cx="8902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Times New Roman"/>
              </a:rPr>
              <a:t>МП «Устойчивое</a:t>
            </a: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7d"/>
                </a:solidFill>
                <a:latin typeface="Times New Roman"/>
              </a:rPr>
              <a:t>развитие сельски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Times New Roman"/>
              </a:rPr>
              <a:t>территорий Ленского района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Прямоугольник 5"/>
          <p:cNvSpPr/>
          <p:nvPr/>
        </p:nvSpPr>
        <p:spPr>
          <a:xfrm>
            <a:off x="152280" y="210816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6 год –  2502,7 тыс.рублей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7 год –  2130,6 тыс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Прямоугольник 6"/>
          <p:cNvSpPr/>
          <p:nvPr/>
        </p:nvSpPr>
        <p:spPr>
          <a:xfrm>
            <a:off x="4483080" y="2044800"/>
            <a:ext cx="51814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Times New Roman"/>
              </a:rPr>
              <a:t>Улучшение жилищных условий граждан, проживающих в сельской мест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2017 год – 545,9 тыс.руб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в.т.ч. из федерального бюджета-243,1 тыс.руб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в т.ч. из областного бюджета- 274,8 тыс.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в т.ч. из местного бюджета – 28,0 тыс.руб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Прямоугольник 8"/>
          <p:cNvSpPr/>
          <p:nvPr/>
        </p:nvSpPr>
        <p:spPr>
          <a:xfrm>
            <a:off x="4457880" y="4102200"/>
            <a:ext cx="52956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Times New Roman"/>
              </a:rPr>
              <a:t>Обеспечение жильем молодых семей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Times New Roman"/>
              </a:rPr>
              <a:t>молодых специалистов, проживающи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Times New Roman"/>
              </a:rPr>
              <a:t>в сельской местности</a:t>
            </a:r>
            <a:br>
              <a:rPr sz="2400"/>
            </a:b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2017 год – 1584,7 тыс.руб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в т.ч. из федерального бюджета- 572,5 тыс.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в т.ч. из областного бюджета- 977,7 тыс.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в т.ч. из местного бюджета – 34,5 тыс.руб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Рисунок 11" descr="P1010125.JPG"/>
          <p:cNvPicPr/>
          <p:nvPr/>
        </p:nvPicPr>
        <p:blipFill>
          <a:blip r:embed="rId1"/>
          <a:stretch/>
        </p:blipFill>
        <p:spPr>
          <a:xfrm>
            <a:off x="190440" y="3213000"/>
            <a:ext cx="4030560" cy="30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00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45FB-3169-4913-A968-C06AA202D52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C1D2-61AC-49FA-B9B7-012D02103B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601560"/>
            <a:ext cx="913896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Times New Roman"/>
              </a:rPr>
              <a:t>МП «Профилактика безнадзорности и правонарушений несовершеннолетних на территории МО «Ленский муниципальный район» на 2017-2020 годы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5576760" y="3278160"/>
            <a:ext cx="39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2016        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50"/>
          <p:cNvSpPr/>
          <p:nvPr/>
        </p:nvSpPr>
        <p:spPr>
          <a:xfrm>
            <a:off x="193680" y="4005360"/>
            <a:ext cx="5307120" cy="10080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Профилактика безнадзорности и правонаруше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несовершеннолетни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50"/>
          <p:cNvSpPr/>
          <p:nvPr/>
        </p:nvSpPr>
        <p:spPr>
          <a:xfrm>
            <a:off x="5946840" y="4005360"/>
            <a:ext cx="1325520" cy="93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964,4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50"/>
          <p:cNvSpPr/>
          <p:nvPr/>
        </p:nvSpPr>
        <p:spPr>
          <a:xfrm>
            <a:off x="7439040" y="4017960"/>
            <a:ext cx="1249200" cy="936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964,4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4991040" y="1827360"/>
            <a:ext cx="466092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6 год – 964,4 тыс. руб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7 год –  964,4 тыс. ру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16" descr="C:\Users\Кривошеина ТА\Desktop\038ec6fd924417e0a25450612295dfbc.jpg"/>
          <p:cNvPicPr/>
          <p:nvPr/>
        </p:nvPicPr>
        <p:blipFill>
          <a:blip r:embed="rId1"/>
          <a:stretch/>
        </p:blipFill>
        <p:spPr>
          <a:xfrm>
            <a:off x="1092240" y="1727280"/>
            <a:ext cx="3200400" cy="201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500"/>
                            </p:stCondLst>
                            <p:childTnLst>
                              <p:par>
                                <p:cTn id="3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30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4000"/>
                            </p:stCondLst>
                            <p:childTnLst>
                              <p:par>
                                <p:cTn id="3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2689-989A-424E-B249-888608DC6DF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A204-54F3-48C7-926F-E3B455048A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58360" y="431280"/>
            <a:ext cx="907596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МП «Развитие сферы культуры МО «Ленский муниципальный район» на 2015-2017 годы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5715000" y="4114800"/>
            <a:ext cx="373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50"/>
          <p:cNvSpPr/>
          <p:nvPr/>
        </p:nvSpPr>
        <p:spPr>
          <a:xfrm>
            <a:off x="279360" y="4483080"/>
            <a:ext cx="4648320" cy="5205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Библиотечное обслуживание насе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50"/>
          <p:cNvSpPr/>
          <p:nvPr/>
        </p:nvSpPr>
        <p:spPr>
          <a:xfrm>
            <a:off x="6845400" y="5156280"/>
            <a:ext cx="1358640" cy="431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4658,3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50"/>
          <p:cNvSpPr/>
          <p:nvPr/>
        </p:nvSpPr>
        <p:spPr>
          <a:xfrm>
            <a:off x="279360" y="5156280"/>
            <a:ext cx="4673520" cy="5079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рганизация досуга, туристских  и культурно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развлекательных  програм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50"/>
          <p:cNvSpPr/>
          <p:nvPr/>
        </p:nvSpPr>
        <p:spPr>
          <a:xfrm>
            <a:off x="6883560" y="5829480"/>
            <a:ext cx="1320480" cy="393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5072,8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7"/>
          <p:cNvSpPr/>
          <p:nvPr/>
        </p:nvSpPr>
        <p:spPr>
          <a:xfrm>
            <a:off x="5448240" y="838080"/>
            <a:ext cx="41403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50"/>
          <p:cNvSpPr/>
          <p:nvPr/>
        </p:nvSpPr>
        <p:spPr>
          <a:xfrm>
            <a:off x="6832440" y="4508640"/>
            <a:ext cx="1320840" cy="419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1703,3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AutoShape 50"/>
          <p:cNvSpPr/>
          <p:nvPr/>
        </p:nvSpPr>
        <p:spPr>
          <a:xfrm>
            <a:off x="266760" y="5803920"/>
            <a:ext cx="4660920" cy="5079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рганизация музейной деятель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Рисунок 20" descr="73099b4a3b5a0e1d2b348e49007495c5.jpg"/>
          <p:cNvPicPr/>
          <p:nvPr/>
        </p:nvPicPr>
        <p:blipFill>
          <a:blip r:embed="rId1"/>
          <a:stretch/>
        </p:blipFill>
        <p:spPr>
          <a:xfrm>
            <a:off x="146160" y="1803240"/>
            <a:ext cx="3157560" cy="208764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21" descr="eebc1cae3053558bf599de592a2898f7.jpg"/>
          <p:cNvPicPr/>
          <p:nvPr/>
        </p:nvPicPr>
        <p:blipFill>
          <a:blip r:embed="rId2"/>
          <a:stretch/>
        </p:blipFill>
        <p:spPr>
          <a:xfrm>
            <a:off x="3389400" y="1803240"/>
            <a:ext cx="3159000" cy="208764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22" descr="fc37875f3a54b4157027d16e98c87512.jpg"/>
          <p:cNvPicPr/>
          <p:nvPr/>
        </p:nvPicPr>
        <p:blipFill>
          <a:blip r:embed="rId3"/>
          <a:stretch/>
        </p:blipFill>
        <p:spPr>
          <a:xfrm>
            <a:off x="6634080" y="1803240"/>
            <a:ext cx="3157560" cy="20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000"/>
                            </p:stCondLst>
                            <p:childTnLst>
                              <p:par>
                                <p:cTn id="4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4000"/>
                            </p:stCondLst>
                            <p:childTnLst>
                              <p:par>
                                <p:cTn id="4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0"/>
                            </p:stCondLst>
                            <p:childTnLst>
                              <p:par>
                                <p:cTn id="4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6000"/>
                            </p:stCondLst>
                            <p:childTnLst>
                              <p:par>
                                <p:cTn id="4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7000"/>
                            </p:stCondLst>
                            <p:childTnLst>
                              <p:par>
                                <p:cTn id="4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F152-FA5C-47D2-A7E3-089A4E1312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Номер слайда 1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762C-D868-4088-A248-AAF958EF479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оугольник 2"/>
          <p:cNvSpPr/>
          <p:nvPr/>
        </p:nvSpPr>
        <p:spPr>
          <a:xfrm>
            <a:off x="291960" y="380880"/>
            <a:ext cx="928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Times New Roman"/>
              </a:rPr>
              <a:t>МП «Поддержка семьи в Ленском районе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3"/>
          <p:cNvSpPr/>
          <p:nvPr/>
        </p:nvSpPr>
        <p:spPr>
          <a:xfrm>
            <a:off x="5283360" y="1104840"/>
            <a:ext cx="383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016 год –  1296,8 тыс.руб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017 год –  1779,0 тыс.руб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AutoShape 50"/>
          <p:cNvSpPr/>
          <p:nvPr/>
        </p:nvSpPr>
        <p:spPr>
          <a:xfrm>
            <a:off x="266760" y="4381560"/>
            <a:ext cx="4648320" cy="20318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существление государственных полномочий п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рганизации и осуществлению деятельности п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пеке и попечительств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2017 год – 1687,7 т.р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50"/>
          <p:cNvSpPr/>
          <p:nvPr/>
        </p:nvSpPr>
        <p:spPr>
          <a:xfrm>
            <a:off x="5003640" y="2616120"/>
            <a:ext cx="4470480" cy="19814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существление государственных полномоч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по выплате вознаграждени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профессиональным опекун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2017 год – 91,3 т.р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10" descr="C:\Users\Кривошеина ТА\Desktop\c3100801bdf72b9cacdbce370dbcd682.jpg"/>
          <p:cNvPicPr/>
          <p:nvPr/>
        </p:nvPicPr>
        <p:blipFill>
          <a:blip r:embed="rId1"/>
          <a:stretch/>
        </p:blipFill>
        <p:spPr>
          <a:xfrm>
            <a:off x="1155600" y="2031840"/>
            <a:ext cx="3238560" cy="21463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1" descr="C:\Users\Кривошеина ТА\Desktop\087562b215bc504fc78dcc6a353109f1.jpg"/>
          <p:cNvPicPr/>
          <p:nvPr/>
        </p:nvPicPr>
        <p:blipFill>
          <a:blip r:embed="rId2"/>
          <a:stretch/>
        </p:blipFill>
        <p:spPr>
          <a:xfrm>
            <a:off x="5613480" y="4762440"/>
            <a:ext cx="3174840" cy="168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500"/>
                            </p:stCondLst>
                            <p:childTnLst>
                              <p:par>
                                <p:cTn id="4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4BAE-725D-429C-BE61-CEF0C6CEBC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A9AA1-37F9-463E-A290-46862D6C9A2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84280" y="378000"/>
            <a:ext cx="882648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Муниципальные программы</a:t>
            </a:r>
            <a:br>
              <a:rPr sz="3600"/>
            </a:b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в сфере экономики и ЖК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utoShape 27"/>
          <p:cNvSpPr/>
          <p:nvPr/>
        </p:nvSpPr>
        <p:spPr>
          <a:xfrm>
            <a:off x="673200" y="2006640"/>
            <a:ext cx="8481960" cy="3886200"/>
          </a:xfrm>
          <a:prstGeom prst="roundRect">
            <a:avLst>
              <a:gd name="adj" fmla="val 16667"/>
            </a:avLst>
          </a:prstGeom>
          <a:solidFill>
            <a:srgbClr val="0000ff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«Создание условий для развития сельского хозяйств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«Ремонт и содержание сети автомобильных дорог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«Развитие малого и среднего предпринимательств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«Развитие торговл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2E0D-98C1-46EB-8892-8CF7C7A98C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Номер слайда 1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FC95-F4C8-44E0-B933-4C2A090CC5D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0" y="372960"/>
            <a:ext cx="920736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Times New Roman"/>
              </a:rPr>
              <a:t>МП «Развитие малого, среднего предпринимательства и создание условий для развития сельского хозяйства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Прямоугольник 3"/>
          <p:cNvSpPr/>
          <p:nvPr/>
        </p:nvSpPr>
        <p:spPr>
          <a:xfrm>
            <a:off x="5956200" y="1600200"/>
            <a:ext cx="3708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016 год – 845,8 тыс.рублей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017 год – 20,0 тыс.руб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Прямоугольник 15"/>
          <p:cNvSpPr/>
          <p:nvPr/>
        </p:nvSpPr>
        <p:spPr>
          <a:xfrm>
            <a:off x="457200" y="3048120"/>
            <a:ext cx="916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Прямоугольник 17"/>
          <p:cNvSpPr/>
          <p:nvPr/>
        </p:nvSpPr>
        <p:spPr>
          <a:xfrm>
            <a:off x="4411800" y="3075120"/>
            <a:ext cx="1900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13" descr="C:\Users\Кривошеина ТА\Desktop\bUmLyQ2-oag.jpg"/>
          <p:cNvPicPr/>
          <p:nvPr/>
        </p:nvPicPr>
        <p:blipFill>
          <a:blip r:embed="rId1"/>
          <a:stretch/>
        </p:blipFill>
        <p:spPr>
          <a:xfrm>
            <a:off x="577800" y="4265640"/>
            <a:ext cx="3994200" cy="234144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14" descr="P1010120.JPG"/>
          <p:cNvPicPr/>
          <p:nvPr/>
        </p:nvPicPr>
        <p:blipFill>
          <a:blip r:embed="rId2"/>
          <a:stretch/>
        </p:blipFill>
        <p:spPr>
          <a:xfrm>
            <a:off x="5767560" y="4143240"/>
            <a:ext cx="3120840" cy="23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C29A-B553-465A-90AF-B4B9A2972B9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39384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7d"/>
                </a:solidFill>
                <a:latin typeface="Times New Roman"/>
              </a:rPr>
              <a:t>МП «Ремонт и содержание сети автомобильных дорог в Ленском  районе»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6300-E830-4649-97C3-4615075FF6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3795840" y="4194000"/>
            <a:ext cx="58388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5124600" y="1692360"/>
            <a:ext cx="4298760" cy="14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6 год – 7,3 млн.рублей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7 год – 6,0 млн.рублей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9"/>
          <p:cNvSpPr/>
          <p:nvPr/>
        </p:nvSpPr>
        <p:spPr>
          <a:xfrm>
            <a:off x="291960" y="1930320"/>
            <a:ext cx="387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держание  автомобильных доро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Box 11"/>
          <p:cNvSpPr/>
          <p:nvPr/>
        </p:nvSpPr>
        <p:spPr>
          <a:xfrm flipH="1">
            <a:off x="6350040" y="5511960"/>
            <a:ext cx="308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монт автомобильных доро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11" descr="C:\Users\Кривошеина ТА\Desktop\traktor(1).jpg"/>
          <p:cNvPicPr/>
          <p:nvPr/>
        </p:nvPicPr>
        <p:blipFill>
          <a:blip r:embed="rId1"/>
          <a:stretch/>
        </p:blipFill>
        <p:spPr>
          <a:xfrm>
            <a:off x="457200" y="2819520"/>
            <a:ext cx="3289320" cy="28447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2" descr="C:\Users\Кривошеина ТА\Desktop\6639360_6njjs0zinq.jpg"/>
          <p:cNvPicPr/>
          <p:nvPr/>
        </p:nvPicPr>
        <p:blipFill>
          <a:blip r:embed="rId2"/>
          <a:stretch/>
        </p:blipFill>
        <p:spPr>
          <a:xfrm>
            <a:off x="4521240" y="3251160"/>
            <a:ext cx="4444920" cy="226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A998-8C11-4A37-AC36-AF7A6AF71D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AA70-CE11-40F7-B306-C087B9272C2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520560"/>
            <a:ext cx="9410760" cy="8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Times New Roman"/>
              </a:rPr>
              <a:t>Расходы бюджета муниципального образования «Ленский муниципальный район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2362320" y="3121200"/>
            <a:ext cx="4601880" cy="9871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Times New Roman"/>
              </a:rPr>
              <a:t>2017 год – 509527,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B585-5F9F-4C16-8382-5AF25947811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F343-2774-4FE3-8519-6878E96AA6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82760" y="603000"/>
            <a:ext cx="913896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МП «Развитие торговли на территории» МО «Ленский муниципальный район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50"/>
          <p:cNvSpPr/>
          <p:nvPr/>
        </p:nvSpPr>
        <p:spPr>
          <a:xfrm>
            <a:off x="190440" y="2717640"/>
            <a:ext cx="4826160" cy="23749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Доставка муки и лекарственных средств в район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Крайнего Севера и приравненные к ним мест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с ограниченными сроками завоза груз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2017 год – 174,0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50"/>
          <p:cNvSpPr/>
          <p:nvPr/>
        </p:nvSpPr>
        <p:spPr>
          <a:xfrm>
            <a:off x="5354640" y="3772080"/>
            <a:ext cx="4361040" cy="23112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Осуществление государственных полномоч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о формированию торгового реестр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2017 год – 25,0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8"/>
          <p:cNvSpPr/>
          <p:nvPr/>
        </p:nvSpPr>
        <p:spPr>
          <a:xfrm>
            <a:off x="5284800" y="1704960"/>
            <a:ext cx="43290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6 год – 320,0 тыс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7 год – 199,0 тыс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500"/>
                            </p:stCondLst>
                            <p:childTnLst>
                              <p:par>
                                <p:cTn id="5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500"/>
                            </p:stCondLst>
                            <p:childTnLst>
                              <p:par>
                                <p:cTn id="5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C933B-E5CE-48BA-9B28-1DFF216416C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FE7C-5416-43EA-8C31-D768210CAD1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98400" y="604440"/>
            <a:ext cx="8902800" cy="15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Муниципальные программы</a:t>
            </a:r>
            <a:br>
              <a:rPr sz="3600"/>
            </a:b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направленные на решение </a:t>
            </a:r>
            <a:br>
              <a:rPr sz="3600"/>
            </a:b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общегосударственных вопрос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utoShape 27"/>
          <p:cNvSpPr/>
          <p:nvPr/>
        </p:nvSpPr>
        <p:spPr>
          <a:xfrm>
            <a:off x="619200" y="2451240"/>
            <a:ext cx="8502480" cy="3719520"/>
          </a:xfrm>
          <a:prstGeom prst="roundRect">
            <a:avLst>
              <a:gd name="adj" fmla="val 16667"/>
            </a:avLst>
          </a:prstGeom>
          <a:solidFill>
            <a:srgbClr val="0000ff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ffff"/>
                </a:solidFill>
                <a:latin typeface="Times New Roman"/>
              </a:rPr>
              <a:t>«Совершенствование систе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ffff"/>
                </a:solidFill>
                <a:latin typeface="Times New Roman"/>
              </a:rPr>
              <a:t>муниципальной службы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Times New Roman"/>
              </a:rPr>
              <a:t>«Управление муниципальными финансам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Times New Roman"/>
              </a:rPr>
              <a:t>«Совершенствование муниципально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Times New Roman"/>
              </a:rPr>
              <a:t>управления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"/>
                            </p:stCondLst>
                            <p:childTnLst>
                              <p:par>
                                <p:cTn id="5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1B5E-0C5F-4907-9092-096F76622BD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7DD3-707B-4EFC-884F-DEBC3B00D0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AutoShape 50"/>
          <p:cNvSpPr/>
          <p:nvPr/>
        </p:nvSpPr>
        <p:spPr>
          <a:xfrm>
            <a:off x="307800" y="1992240"/>
            <a:ext cx="5150160" cy="11527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Организация и обеспечение бюджетног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процесса и развитие информационных сист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управления финансами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5613480" y="1595520"/>
            <a:ext cx="4046400" cy="25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6 год – 14,9 млн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7 год – 16,4 млн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50"/>
          <p:cNvSpPr/>
          <p:nvPr/>
        </p:nvSpPr>
        <p:spPr>
          <a:xfrm>
            <a:off x="270000" y="3525840"/>
            <a:ext cx="5149800" cy="12240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Управление муниципальным долг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AutoShape 50"/>
          <p:cNvSpPr/>
          <p:nvPr/>
        </p:nvSpPr>
        <p:spPr>
          <a:xfrm>
            <a:off x="257040" y="5089680"/>
            <a:ext cx="5150160" cy="12236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Поддержание устойчивого исполн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бюджетов  муниципальных образован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Ленского  райо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50560" y="768240"/>
            <a:ext cx="9426600" cy="3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МП «Управление муниципальными финансами и муниципальным долгом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Picture 9" descr="http://govorim.by/uploads/posts/2013-07/thumbs/1375277413112.jpeg"/>
          <p:cNvPicPr/>
          <p:nvPr/>
        </p:nvPicPr>
        <p:blipFill>
          <a:blip r:embed="rId1"/>
          <a:stretch/>
        </p:blipFill>
        <p:spPr>
          <a:xfrm>
            <a:off x="5969160" y="3962520"/>
            <a:ext cx="3644640" cy="223524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43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500"/>
                            </p:stCondLst>
                            <p:childTnLst>
                              <p:par>
                                <p:cTn id="5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3000"/>
                            </p:stCondLst>
                            <p:childTnLst>
                              <p:par>
                                <p:cTn id="5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3500"/>
                            </p:stCondLst>
                            <p:childTnLst>
                              <p:par>
                                <p:cTn id="5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1979-DA71-4CE5-8DCA-1A7ECE4145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0E5D-1777-4927-9FA0-D1E2AE3997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Picture 2" descr="1"/>
          <p:cNvPicPr/>
          <p:nvPr/>
        </p:nvPicPr>
        <p:blipFill>
          <a:blip r:embed="rId1"/>
          <a:stretch/>
        </p:blipFill>
        <p:spPr>
          <a:xfrm>
            <a:off x="6980400" y="1341360"/>
            <a:ext cx="1560240" cy="107964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306" name="Picture 3" descr="pravo_bilboard"/>
          <p:cNvPicPr/>
          <p:nvPr/>
        </p:nvPicPr>
        <p:blipFill>
          <a:blip r:embed="rId2"/>
          <a:stretch/>
        </p:blipFill>
        <p:spPr>
          <a:xfrm>
            <a:off x="7620120" y="2095560"/>
            <a:ext cx="2057400" cy="10285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-360" y="156960"/>
            <a:ext cx="101631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Осуществление государственных полномоч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50"/>
          <p:cNvSpPr/>
          <p:nvPr/>
        </p:nvSpPr>
        <p:spPr>
          <a:xfrm>
            <a:off x="193680" y="1484280"/>
            <a:ext cx="3357720" cy="3826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в сфере охраны тру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AutoShape 50"/>
          <p:cNvSpPr/>
          <p:nvPr/>
        </p:nvSpPr>
        <p:spPr>
          <a:xfrm>
            <a:off x="4251240" y="1471680"/>
            <a:ext cx="195912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41,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9"/>
          <p:cNvSpPr/>
          <p:nvPr/>
        </p:nvSpPr>
        <p:spPr>
          <a:xfrm>
            <a:off x="3470400" y="981000"/>
            <a:ext cx="34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017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AutoShape 50"/>
          <p:cNvSpPr/>
          <p:nvPr/>
        </p:nvSpPr>
        <p:spPr>
          <a:xfrm>
            <a:off x="193680" y="1955880"/>
            <a:ext cx="3357720" cy="8762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о созданию комиссий по дела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несовершеннолетних и защит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их пра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AutoShape 50"/>
          <p:cNvSpPr/>
          <p:nvPr/>
        </p:nvSpPr>
        <p:spPr>
          <a:xfrm>
            <a:off x="4254480" y="2263680"/>
            <a:ext cx="198108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964,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AutoShape 50"/>
          <p:cNvSpPr/>
          <p:nvPr/>
        </p:nvSpPr>
        <p:spPr>
          <a:xfrm>
            <a:off x="206280" y="2933640"/>
            <a:ext cx="3357720" cy="8128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о организации, осуществлению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деятельности п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опеке и попечительств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utoShape 50"/>
          <p:cNvSpPr/>
          <p:nvPr/>
        </p:nvSpPr>
        <p:spPr>
          <a:xfrm>
            <a:off x="4216320" y="3141720"/>
            <a:ext cx="2044800" cy="757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687,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AutoShape 50"/>
          <p:cNvSpPr/>
          <p:nvPr/>
        </p:nvSpPr>
        <p:spPr>
          <a:xfrm>
            <a:off x="206280" y="3873600"/>
            <a:ext cx="3357720" cy="1574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о регистрации и учёту граждан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имеющих право на получени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жилищных субсидий в связ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с переселением из район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Крайнего Север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и приравненных к ним местностя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AutoShape 50"/>
          <p:cNvSpPr/>
          <p:nvPr/>
        </p:nvSpPr>
        <p:spPr>
          <a:xfrm>
            <a:off x="4229280" y="4076640"/>
            <a:ext cx="2070000" cy="851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5,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AutoShape 50"/>
          <p:cNvSpPr/>
          <p:nvPr/>
        </p:nvSpPr>
        <p:spPr>
          <a:xfrm>
            <a:off x="193680" y="6237360"/>
            <a:ext cx="3357720" cy="576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СЕ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AutoShape 50"/>
          <p:cNvSpPr/>
          <p:nvPr/>
        </p:nvSpPr>
        <p:spPr>
          <a:xfrm>
            <a:off x="4317840" y="6237360"/>
            <a:ext cx="203220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989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AutoShape 50"/>
          <p:cNvSpPr/>
          <p:nvPr/>
        </p:nvSpPr>
        <p:spPr>
          <a:xfrm>
            <a:off x="193680" y="5524560"/>
            <a:ext cx="3357720" cy="6732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о выплате вознагражде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рофессиональным опекун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32"/>
          <p:cNvSpPr/>
          <p:nvPr/>
        </p:nvSpPr>
        <p:spPr>
          <a:xfrm>
            <a:off x="276120" y="876240"/>
            <a:ext cx="9204480" cy="0"/>
          </a:xfrm>
          <a:prstGeom prst="line">
            <a:avLst/>
          </a:prstGeom>
          <a:ln w="4752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AutoShape 50"/>
          <p:cNvSpPr/>
          <p:nvPr/>
        </p:nvSpPr>
        <p:spPr>
          <a:xfrm>
            <a:off x="4280040" y="5470560"/>
            <a:ext cx="203184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91,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35" descr="Я сидела дома все три года, хотя время от времени мне давали знать, что неплохо было бы выйти на своё место.,Развивалки-после вы"/>
          <p:cNvPicPr/>
          <p:nvPr/>
        </p:nvPicPr>
        <p:blipFill>
          <a:blip r:embed="rId3"/>
          <a:stretch/>
        </p:blipFill>
        <p:spPr>
          <a:xfrm>
            <a:off x="6927840" y="2868480"/>
            <a:ext cx="1663560" cy="124776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323" name="Picture 36" descr="1"/>
          <p:cNvPicPr/>
          <p:nvPr/>
        </p:nvPicPr>
        <p:blipFill>
          <a:blip r:embed="rId4"/>
          <a:stretch/>
        </p:blipFill>
        <p:spPr>
          <a:xfrm>
            <a:off x="8072280" y="3716280"/>
            <a:ext cx="1630440" cy="110484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324" name="Picture 37" descr="a-nagrada.a5.ru"/>
          <p:cNvPicPr/>
          <p:nvPr/>
        </p:nvPicPr>
        <p:blipFill>
          <a:blip r:embed="rId5"/>
          <a:stretch/>
        </p:blipFill>
        <p:spPr>
          <a:xfrm>
            <a:off x="6966000" y="4546440"/>
            <a:ext cx="1695240" cy="11304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325" name="Picture 38" descr="i?id=88253289-65-72&amp;n=2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754760" y="5305320"/>
            <a:ext cx="1970280" cy="10861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</p:spTree>
  </p:cSld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500"/>
                            </p:stCondLst>
                            <p:childTnLst>
                              <p:par>
                                <p:cTn id="5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3500"/>
                            </p:stCondLst>
                            <p:childTnLst>
                              <p:par>
                                <p:cTn id="58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77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1" dur="770" fill="hold"/>
                                        <p:tgtEl>
                                          <p:spTgt spid="3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3" dur="77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5" dur="77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6500"/>
                            </p:stCondLst>
                            <p:childTnLst>
                              <p:par>
                                <p:cTn id="6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7500"/>
                            </p:stCondLst>
                            <p:childTnLst>
                              <p:par>
                                <p:cTn id="60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77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2" dur="770" fill="hold"/>
                                        <p:tgtEl>
                                          <p:spTgt spid="3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4" dur="77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6" dur="77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9500"/>
                            </p:stCondLst>
                            <p:childTnLst>
                              <p:par>
                                <p:cTn id="6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6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1500"/>
                            </p:stCondLst>
                            <p:childTnLst>
                              <p:par>
                                <p:cTn id="63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77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3" dur="770" fill="hold"/>
                                        <p:tgtEl>
                                          <p:spTgt spid="3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5" dur="77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7" dur="77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3500"/>
                            </p:stCondLst>
                            <p:childTnLst>
                              <p:par>
                                <p:cTn id="6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4500"/>
                            </p:stCondLst>
                            <p:childTnLst>
                              <p:par>
                                <p:cTn id="6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5500"/>
                            </p:stCondLst>
                            <p:childTnLst>
                              <p:par>
                                <p:cTn id="65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77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4" dur="770" fill="hold"/>
                                        <p:tgtEl>
                                          <p:spTgt spid="3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6" dur="77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8" dur="77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7500"/>
                            </p:stCondLst>
                            <p:childTnLst>
                              <p:par>
                                <p:cTn id="66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77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4" dur="770" fill="hold"/>
                                        <p:tgtEl>
                                          <p:spTgt spid="3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6" dur="77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8" dur="77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9500"/>
                            </p:stCondLst>
                            <p:childTnLst>
                              <p:par>
                                <p:cTn id="6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0500"/>
                            </p:stCondLst>
                            <p:childTnLst>
                              <p:par>
                                <p:cTn id="6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21500"/>
                            </p:stCondLst>
                            <p:childTnLst>
                              <p:par>
                                <p:cTn id="68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77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5" dur="770" fill="hold"/>
                                        <p:tgtEl>
                                          <p:spTgt spid="3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7" dur="77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9" dur="77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23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4500"/>
                            </p:stCondLst>
                            <p:childTnLst>
                              <p:par>
                                <p:cTn id="6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25500"/>
                            </p:stCondLst>
                            <p:childTnLst>
                              <p:par>
                                <p:cTn id="70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A325-BA87-4FE3-9A0D-0F223B9522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Номер слайда 2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2297-F54C-4F38-86C3-9B2BEA376D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8" name="Object 4"/>
          <p:cNvGraphicFramePr/>
          <p:nvPr/>
        </p:nvGraphicFramePr>
        <p:xfrm>
          <a:off x="4965840" y="523800"/>
          <a:ext cx="4940280" cy="172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5840" y="523800"/>
                    <a:ext cx="4940280" cy="17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Text Box 5"/>
          <p:cNvSpPr/>
          <p:nvPr/>
        </p:nvSpPr>
        <p:spPr>
          <a:xfrm>
            <a:off x="662040" y="1341360"/>
            <a:ext cx="31986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Непрограммные расходы -1,6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662040" y="836640"/>
            <a:ext cx="39542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рограммная часть бюджета – 98,4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7"/>
          <p:cNvSpPr/>
          <p:nvPr/>
        </p:nvSpPr>
        <p:spPr>
          <a:xfrm flipH="1" flipV="1">
            <a:off x="4641480" y="1052640"/>
            <a:ext cx="70164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8"/>
          <p:cNvSpPr/>
          <p:nvPr/>
        </p:nvSpPr>
        <p:spPr>
          <a:xfrm>
            <a:off x="3782880" y="1484280"/>
            <a:ext cx="33544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9"/>
          <p:cNvSpPr/>
          <p:nvPr/>
        </p:nvSpPr>
        <p:spPr>
          <a:xfrm>
            <a:off x="428760" y="376200"/>
            <a:ext cx="890244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Непрограммные расходы бюдже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50"/>
          <p:cNvSpPr/>
          <p:nvPr/>
        </p:nvSpPr>
        <p:spPr>
          <a:xfrm>
            <a:off x="193680" y="1844640"/>
            <a:ext cx="5540400" cy="7923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Обеспечение деятельности Собрания депута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2017 год – 1481,8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AutoShape 50"/>
          <p:cNvSpPr/>
          <p:nvPr/>
        </p:nvSpPr>
        <p:spPr>
          <a:xfrm>
            <a:off x="819000" y="2781360"/>
            <a:ext cx="6320160" cy="8636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Обеспечение деятельности контрольно-счётной комисс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2017 год – 1500,6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AutoShape 50"/>
          <p:cNvSpPr/>
          <p:nvPr/>
        </p:nvSpPr>
        <p:spPr>
          <a:xfrm>
            <a:off x="1562040" y="3772080"/>
            <a:ext cx="6512040" cy="10411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Мероприятия  в сфере гражданской обороны 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чрезвычайных ситуац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2017 год – 235,3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AutoShape 50"/>
          <p:cNvSpPr/>
          <p:nvPr/>
        </p:nvSpPr>
        <p:spPr>
          <a:xfrm>
            <a:off x="2301840" y="4941720"/>
            <a:ext cx="6319800" cy="7923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Резервный фонд администр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2017год –  131,7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AutoShape 50"/>
          <p:cNvSpPr/>
          <p:nvPr/>
        </p:nvSpPr>
        <p:spPr>
          <a:xfrm>
            <a:off x="3159000" y="5950080"/>
            <a:ext cx="6319800" cy="7920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Муниципальный дорожный фон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2017 год –  866,2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15"/>
          <p:cNvSpPr/>
          <p:nvPr/>
        </p:nvSpPr>
        <p:spPr>
          <a:xfrm>
            <a:off x="276120" y="803160"/>
            <a:ext cx="9204480" cy="0"/>
          </a:xfrm>
          <a:prstGeom prst="line">
            <a:avLst/>
          </a:prstGeom>
          <a:ln w="4752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3000"/>
                            </p:stCondLst>
                            <p:childTnLst>
                              <p:par>
                                <p:cTn id="7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3500"/>
                            </p:stCondLst>
                            <p:childTnLst>
                              <p:par>
                                <p:cTn id="7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4000"/>
                            </p:stCondLst>
                            <p:childTnLst>
                              <p:par>
                                <p:cTn id="7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4500"/>
                            </p:stCondLst>
                            <p:childTnLst>
                              <p:par>
                                <p:cTn id="7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5000"/>
                            </p:stCondLst>
                            <p:childTnLst>
                              <p:par>
                                <p:cTn id="7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B1B8-6D6F-447E-9DFB-B1EA635661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B1A4-DD7A-4ABA-82A7-464D742C734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23600" y="203040"/>
            <a:ext cx="8915400" cy="82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Дефицит бюджета 2018 го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Freeform 3"/>
          <p:cNvSpPr/>
          <p:nvPr/>
        </p:nvSpPr>
        <p:spPr>
          <a:xfrm>
            <a:off x="3860640" y="2133720"/>
            <a:ext cx="1971720" cy="974520"/>
          </a:xfrm>
          <a:custGeom>
            <a:avLst/>
            <a:gdLst>
              <a:gd name="textAreaLeft" fmla="*/ 0 w 1971720"/>
              <a:gd name="textAreaRight" fmla="*/ 1972080 w 1971720"/>
              <a:gd name="textAreaTop" fmla="*/ 0 h 974520"/>
              <a:gd name="textAreaBottom" fmla="*/ 974880 h 974520"/>
            </a:gdLst>
            <a:ahLst/>
            <a:rect l="textAreaLeft" t="textAreaTop" r="textAreaRight" b="textAreaBottom"/>
            <a:pathLst>
              <a:path w="174" h="95">
                <a:moveTo>
                  <a:pt x="174" y="95"/>
                </a:moveTo>
                <a:cubicBezTo>
                  <a:pt x="174" y="61"/>
                  <a:pt x="164" y="28"/>
                  <a:pt x="145" y="0"/>
                </a:cubicBezTo>
                <a:lnTo>
                  <a:pt x="0" y="95"/>
                </a:lnTo>
                <a:lnTo>
                  <a:pt x="174" y="95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Freeform 4"/>
          <p:cNvSpPr/>
          <p:nvPr/>
        </p:nvSpPr>
        <p:spPr>
          <a:xfrm>
            <a:off x="4014720" y="3352680"/>
            <a:ext cx="1973160" cy="935280"/>
          </a:xfrm>
          <a:custGeom>
            <a:avLst/>
            <a:gdLst>
              <a:gd name="textAreaLeft" fmla="*/ 0 w 1973160"/>
              <a:gd name="textAreaRight" fmla="*/ 1973520 w 1973160"/>
              <a:gd name="textAreaTop" fmla="*/ 0 h 935280"/>
              <a:gd name="textAreaBottom" fmla="*/ 935640 h 935280"/>
            </a:gdLst>
            <a:ahLst/>
            <a:rect l="textAreaLeft" t="textAreaTop" r="textAreaRight" b="textAreaBottom"/>
            <a:pathLst>
              <a:path w="174" h="91">
                <a:moveTo>
                  <a:pt x="147" y="91"/>
                </a:moveTo>
                <a:cubicBezTo>
                  <a:pt x="164" y="64"/>
                  <a:pt x="174" y="32"/>
                  <a:pt x="174" y="0"/>
                </a:cubicBezTo>
                <a:lnTo>
                  <a:pt x="0" y="0"/>
                </a:lnTo>
                <a:lnTo>
                  <a:pt x="147" y="91"/>
                </a:lnTo>
                <a:close/>
              </a:path>
            </a:pathLst>
          </a:custGeom>
          <a:solidFill>
            <a:srgbClr val="ff3300"/>
          </a:solidFill>
          <a:ln w="11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Freeform 5"/>
          <p:cNvSpPr/>
          <p:nvPr/>
        </p:nvSpPr>
        <p:spPr>
          <a:xfrm>
            <a:off x="1351080" y="1265400"/>
            <a:ext cx="3638520" cy="3943080"/>
          </a:xfrm>
          <a:custGeom>
            <a:avLst/>
            <a:gdLst>
              <a:gd name="textAreaLeft" fmla="*/ 0 w 3638520"/>
              <a:gd name="textAreaRight" fmla="*/ 3638880 w 3638520"/>
              <a:gd name="textAreaTop" fmla="*/ 0 h 3943080"/>
              <a:gd name="textAreaBottom" fmla="*/ 3943440 h 3943080"/>
            </a:gdLst>
            <a:ahLst/>
            <a:rect l="textAreaLeft" t="textAreaTop" r="textAreaRight" b="textAreaBottom"/>
            <a:pathLst>
              <a:path w="321" h="348">
                <a:moveTo>
                  <a:pt x="319" y="79"/>
                </a:moveTo>
                <a:cubicBezTo>
                  <a:pt x="287" y="29"/>
                  <a:pt x="232" y="0"/>
                  <a:pt x="174" y="0"/>
                </a:cubicBezTo>
                <a:cubicBezTo>
                  <a:pt x="77" y="0"/>
                  <a:pt x="0" y="77"/>
                  <a:pt x="0" y="174"/>
                </a:cubicBezTo>
                <a:cubicBezTo>
                  <a:pt x="0" y="270"/>
                  <a:pt x="77" y="348"/>
                  <a:pt x="174" y="348"/>
                </a:cubicBezTo>
                <a:cubicBezTo>
                  <a:pt x="234" y="347"/>
                  <a:pt x="290" y="316"/>
                  <a:pt x="321" y="265"/>
                </a:cubicBezTo>
                <a:lnTo>
                  <a:pt x="174" y="174"/>
                </a:lnTo>
                <a:lnTo>
                  <a:pt x="319" y="79"/>
                </a:lnTo>
                <a:close/>
              </a:path>
            </a:pathLst>
          </a:custGeom>
          <a:solidFill>
            <a:srgbClr val="0000ff"/>
          </a:solidFill>
          <a:ln w="11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819000" y="1069920"/>
            <a:ext cx="195120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Расход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514,4  м.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835200" y="5181480"/>
            <a:ext cx="23382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Доход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505,5м.р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8"/>
          <p:cNvSpPr/>
          <p:nvPr/>
        </p:nvSpPr>
        <p:spPr>
          <a:xfrm>
            <a:off x="4356000" y="3362400"/>
            <a:ext cx="1847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фици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8,9 м.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9"/>
          <p:cNvSpPr/>
          <p:nvPr/>
        </p:nvSpPr>
        <p:spPr>
          <a:xfrm>
            <a:off x="4751280" y="4954680"/>
            <a:ext cx="471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влечение кредитов бан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3,9 м.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10"/>
          <p:cNvSpPr/>
          <p:nvPr/>
        </p:nvSpPr>
        <p:spPr>
          <a:xfrm>
            <a:off x="5586480" y="3463920"/>
            <a:ext cx="471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зврат креди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5,0 м.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0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1000"/>
                            </p:stCondLst>
                            <p:childTnLst>
                              <p:par>
                                <p:cTn id="7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000"/>
                            </p:stCondLst>
                            <p:childTnLst>
                              <p:par>
                                <p:cTn id="7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000"/>
                            </p:stCondLst>
                            <p:childTnLst>
                              <p:par>
                                <p:cTn id="76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7037E-007 L -0.09704 -0.00185 E">
                                      <p:cBhvr>
                                        <p:cTn id="768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7000"/>
                            </p:stCondLst>
                            <p:childTnLst>
                              <p:par>
                                <p:cTn id="7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073 4.44444E-006 L -1.66667E-006 4.44444E-006 E">
                                      <p:cBhvr>
                                        <p:cTn id="787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9000"/>
                            </p:stCondLst>
                            <p:childTnLst>
                              <p:par>
                                <p:cTn id="7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073 4.44444E-006 L -1.66667E-006 4.44444E-006 E">
                                      <p:cBhvr>
                                        <p:cTn id="793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B7F8-54FD-446B-809E-0BE26D661F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D416-1D8C-458C-91AD-533F4DCA0CB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4440" y="306360"/>
            <a:ext cx="930132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Times New Roman"/>
              </a:rPr>
              <a:t>Источники финансирования дефицита бюдже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74200" y="852120"/>
            <a:ext cx="891540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 процессе принятия и исполнения бюджета района большое значение приобретает сбалансированность доходов и расходов. Если доходы превышают расходы, то возникает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профицит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 Но чаще всего расходы превышают доходы. В таком случае возникает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дефицит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4"/>
          <p:cNvSpPr/>
          <p:nvPr/>
        </p:nvSpPr>
        <p:spPr>
          <a:xfrm>
            <a:off x="341280" y="876240"/>
            <a:ext cx="9204480" cy="0"/>
          </a:xfrm>
          <a:prstGeom prst="line">
            <a:avLst/>
          </a:prstGeom>
          <a:ln w="4752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1317600" y="1984320"/>
            <a:ext cx="7224840" cy="360360"/>
          </a:xfrm>
          <a:prstGeom prst="rect">
            <a:avLst/>
          </a:prstGeom>
          <a:solidFill>
            <a:srgbClr val="99ccff"/>
          </a:solidFill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Times New Roman"/>
              </a:rPr>
              <a:t>Источники финансирования дефицита бюдже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627120" y="2938320"/>
            <a:ext cx="2209680" cy="168624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7d"/>
                </a:solidFill>
                <a:uFillTx/>
                <a:latin typeface="Times New Roman"/>
              </a:rPr>
              <a:t>муниципальные займы,</a:t>
            </a:r>
            <a:r>
              <a:rPr b="0" lang="ru-RU" sz="1400" spc="-1" strike="noStrike">
                <a:solidFill>
                  <a:srgbClr val="00007d"/>
                </a:solidFill>
                <a:latin typeface="Times New Roman"/>
              </a:rPr>
              <a:t> осуществляемые путем выпуска муниципальных ценных бумаг от имени муниципального образ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3046320" y="2921040"/>
            <a:ext cx="1954440" cy="169524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7d"/>
                </a:solidFill>
                <a:uFillTx/>
                <a:latin typeface="Times New Roman"/>
              </a:rPr>
              <a:t>бюджетные кредиты,</a:t>
            </a:r>
            <a:r>
              <a:rPr b="0" lang="ru-RU" sz="1400" spc="-1" strike="noStrike">
                <a:solidFill>
                  <a:srgbClr val="00007d"/>
                </a:solidFill>
                <a:latin typeface="Times New Roman"/>
              </a:rPr>
              <a:t> полученные от бюджетов других уровней бюджетной системы Р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8"/>
          <p:cNvSpPr/>
          <p:nvPr/>
        </p:nvSpPr>
        <p:spPr>
          <a:xfrm>
            <a:off x="5119560" y="2919240"/>
            <a:ext cx="1992600" cy="168624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7d"/>
                </a:solidFill>
                <a:uFillTx/>
                <a:latin typeface="Times New Roman"/>
              </a:rPr>
              <a:t>кредиты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7d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7d"/>
                </a:solidFill>
                <a:latin typeface="Times New Roman"/>
              </a:rPr>
              <a:t>полученные от кредитных организац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9"/>
          <p:cNvSpPr/>
          <p:nvPr/>
        </p:nvSpPr>
        <p:spPr>
          <a:xfrm>
            <a:off x="7253280" y="2909880"/>
            <a:ext cx="1982880" cy="16956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7d"/>
                </a:solidFill>
                <a:uFillTx/>
                <a:latin typeface="Times New Roman"/>
              </a:rPr>
              <a:t>изменение остатков</a:t>
            </a:r>
            <a:r>
              <a:rPr b="0" lang="ru-RU" sz="1000" spc="-1" strike="noStrike">
                <a:solidFill>
                  <a:srgbClr val="00007d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7d"/>
                </a:solidFill>
                <a:latin typeface="Times New Roman"/>
              </a:rPr>
              <a:t>средств на счетах по учету средств местного бюдже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10"/>
          <p:cNvSpPr/>
          <p:nvPr/>
        </p:nvSpPr>
        <p:spPr>
          <a:xfrm>
            <a:off x="4941720" y="2327400"/>
            <a:ext cx="11160" cy="35388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1"/>
          <p:cNvSpPr/>
          <p:nvPr/>
        </p:nvSpPr>
        <p:spPr>
          <a:xfrm>
            <a:off x="1724040" y="2697120"/>
            <a:ext cx="0" cy="24444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2"/>
          <p:cNvSpPr/>
          <p:nvPr/>
        </p:nvSpPr>
        <p:spPr>
          <a:xfrm>
            <a:off x="4048200" y="2700360"/>
            <a:ext cx="0" cy="24444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3"/>
          <p:cNvSpPr/>
          <p:nvPr/>
        </p:nvSpPr>
        <p:spPr>
          <a:xfrm>
            <a:off x="6093000" y="2690640"/>
            <a:ext cx="0" cy="24480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4"/>
          <p:cNvSpPr/>
          <p:nvPr/>
        </p:nvSpPr>
        <p:spPr>
          <a:xfrm>
            <a:off x="8205840" y="2689200"/>
            <a:ext cx="0" cy="24444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15"/>
          <p:cNvSpPr/>
          <p:nvPr/>
        </p:nvSpPr>
        <p:spPr>
          <a:xfrm>
            <a:off x="1731960" y="2689200"/>
            <a:ext cx="6488280" cy="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16"/>
          <p:cNvSpPr/>
          <p:nvPr/>
        </p:nvSpPr>
        <p:spPr>
          <a:xfrm flipV="1">
            <a:off x="284040" y="5049360"/>
            <a:ext cx="6880320" cy="1908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17"/>
          <p:cNvSpPr/>
          <p:nvPr/>
        </p:nvSpPr>
        <p:spPr>
          <a:xfrm flipV="1">
            <a:off x="291960" y="4695480"/>
            <a:ext cx="0" cy="360360"/>
          </a:xfrm>
          <a:prstGeom prst="line">
            <a:avLst/>
          </a:prstGeom>
          <a:ln w="15840">
            <a:solidFill>
              <a:srgbClr val="3366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8"/>
          <p:cNvSpPr/>
          <p:nvPr/>
        </p:nvSpPr>
        <p:spPr>
          <a:xfrm flipV="1">
            <a:off x="7153200" y="4684320"/>
            <a:ext cx="0" cy="360360"/>
          </a:xfrm>
          <a:prstGeom prst="line">
            <a:avLst/>
          </a:prstGeom>
          <a:ln w="15840">
            <a:solidFill>
              <a:srgbClr val="3366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9"/>
          <p:cNvSpPr/>
          <p:nvPr/>
        </p:nvSpPr>
        <p:spPr>
          <a:xfrm>
            <a:off x="1814400" y="5315040"/>
            <a:ext cx="3044880" cy="915840"/>
          </a:xfrm>
          <a:prstGeom prst="rect">
            <a:avLst/>
          </a:prstGeom>
          <a:solidFill>
            <a:srgbClr val="ffccff"/>
          </a:solidFill>
          <a:ln w="158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7d"/>
                </a:solidFill>
                <a:uFillTx/>
                <a:latin typeface="Times New Roman"/>
              </a:rPr>
              <a:t>муниципальный долг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7d"/>
                </a:solidFill>
                <a:latin typeface="Times New Roman"/>
              </a:rPr>
              <a:t>то есть совокупность долговых обязательств муниципального образ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0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000"/>
                            </p:stCondLst>
                            <p:childTnLst>
                              <p:par>
                                <p:cTn id="8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2000"/>
                            </p:stCondLst>
                            <p:childTnLst>
                              <p:par>
                                <p:cTn id="8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3000"/>
                            </p:stCondLst>
                            <p:childTnLst>
                              <p:par>
                                <p:cTn id="8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3500"/>
                            </p:stCondLst>
                            <p:childTnLst>
                              <p:par>
                                <p:cTn id="8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4000"/>
                            </p:stCondLst>
                            <p:childTnLst>
                              <p:par>
                                <p:cTn id="8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4500"/>
                            </p:stCondLst>
                            <p:childTnLst>
                              <p:par>
                                <p:cTn id="8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5500"/>
                            </p:stCondLst>
                            <p:childTnLst>
                              <p:par>
                                <p:cTn id="8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7000"/>
                            </p:stCondLst>
                            <p:childTnLst>
                              <p:par>
                                <p:cTn id="8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7500"/>
                            </p:stCondLst>
                            <p:childTnLst>
                              <p:par>
                                <p:cTn id="8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8500"/>
                            </p:stCondLst>
                            <p:childTnLst>
                              <p:par>
                                <p:cTn id="8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9000"/>
                            </p:stCondLst>
                            <p:childTnLst>
                              <p:par>
                                <p:cTn id="8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8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10500"/>
                            </p:stCondLst>
                            <p:childTnLst>
                              <p:par>
                                <p:cTn id="8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1000"/>
                            </p:stCondLst>
                            <p:childTnLst>
                              <p:par>
                                <p:cTn id="8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6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03DA-8683-41BD-AFBF-23E6E12889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Номер слайда 2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A4FC-ADC1-43E9-86E2-757A28B4FEF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2"/>
          <p:cNvSpPr/>
          <p:nvPr/>
        </p:nvSpPr>
        <p:spPr>
          <a:xfrm rot="16200000">
            <a:off x="1341360" y="2077920"/>
            <a:ext cx="3463920" cy="350532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Кредит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догов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17.04.2017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Arial"/>
              </a:rPr>
              <a:t>11,3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3"/>
          <p:cNvSpPr/>
          <p:nvPr/>
        </p:nvSpPr>
        <p:spPr>
          <a:xfrm>
            <a:off x="2535120" y="1197000"/>
            <a:ext cx="57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На 01.01.2018 – 18,1 млн. 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477720" y="316080"/>
            <a:ext cx="841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Times New Roman"/>
              </a:rPr>
              <a:t>Муниципальный долг Ленского район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4363920" y="2970360"/>
            <a:ext cx="1807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6" descr=""/>
          <p:cNvPicPr/>
          <p:nvPr/>
        </p:nvPicPr>
        <p:blipFill>
          <a:blip r:embed="rId1"/>
          <a:stretch/>
        </p:blipFill>
        <p:spPr>
          <a:xfrm>
            <a:off x="1930320" y="3809880"/>
            <a:ext cx="1752840" cy="10717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"/>
          <p:cNvPicPr/>
          <p:nvPr/>
        </p:nvPicPr>
        <p:blipFill>
          <a:blip r:embed="rId2"/>
          <a:stretch/>
        </p:blipFill>
        <p:spPr>
          <a:xfrm>
            <a:off x="6680160" y="3975120"/>
            <a:ext cx="1752480" cy="1071720"/>
          </a:xfrm>
          <a:prstGeom prst="rect">
            <a:avLst/>
          </a:prstGeom>
          <a:ln w="0">
            <a:noFill/>
          </a:ln>
        </p:spPr>
      </p:pic>
      <p:sp>
        <p:nvSpPr>
          <p:cNvPr id="380" name="AutoShape 2"/>
          <p:cNvSpPr/>
          <p:nvPr/>
        </p:nvSpPr>
        <p:spPr>
          <a:xfrm rot="16200000">
            <a:off x="5570280" y="2052360"/>
            <a:ext cx="3463920" cy="350532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Кредит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догов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09.08.2017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Arial"/>
              </a:rPr>
              <a:t>9,23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Picture 6" descr=""/>
          <p:cNvPicPr/>
          <p:nvPr/>
        </p:nvPicPr>
        <p:blipFill>
          <a:blip r:embed="rId3"/>
          <a:stretch/>
        </p:blipFill>
        <p:spPr>
          <a:xfrm>
            <a:off x="6413400" y="3848040"/>
            <a:ext cx="1752840" cy="10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0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1000"/>
                            </p:stCondLst>
                            <p:childTnLst>
                              <p:par>
                                <p:cTn id="87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5000"/>
                            </p:stCondLst>
                            <p:childTnLst>
                              <p:par>
                                <p:cTn id="8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4B57-39D9-4B2E-AC2F-7C6B6025FB4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E074-67EC-486E-9E44-C29D0195ED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71320" y="517320"/>
            <a:ext cx="8915400" cy="61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Times New Roman"/>
              </a:rPr>
              <a:t>Информация для контакт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23440" y="1166760"/>
            <a:ext cx="8915400" cy="39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477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4774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2800" spc="-1" strike="noStrike">
                <a:solidFill>
                  <a:srgbClr val="00007d"/>
                </a:solidFill>
                <a:latin typeface="Times New Roman"/>
              </a:rPr>
              <a:t>Финансовый отдел Администрации муниципального образова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4774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Times New Roman"/>
              </a:rPr>
              <a:t>«Ленский муниципальный район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47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7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Times New Roman"/>
              </a:rPr>
              <a:t>1657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7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Times New Roman"/>
              </a:rPr>
              <a:t>Архангельская область, Ленский район, село Яренск</a:t>
            </a: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7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Times New Roman"/>
              </a:rPr>
              <a:t>ул. Братьев Покровских, дом</a:t>
            </a: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7d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7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Times New Roman"/>
              </a:rPr>
              <a:t>Телефон:  8 (81859) 5-24-09, факс: 8 (81859) 5-25-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7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Times New Roman"/>
              </a:rPr>
              <a:t>адрес электронной почты: </a:t>
            </a:r>
            <a:r>
              <a:rPr b="0" lang="en-US" sz="2400" spc="-1" strike="noStrike">
                <a:solidFill>
                  <a:srgbClr val="00005e"/>
                </a:solidFill>
                <a:latin typeface="Times New Roman"/>
              </a:rPr>
              <a:t>feuyarensk@yandex.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7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7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4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2000"/>
                            </p:stCondLst>
                            <p:childTnLst>
                              <p:par>
                                <p:cTn id="9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8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2500"/>
                            </p:stCondLst>
                            <p:childTnLst>
                              <p:par>
                                <p:cTn id="9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2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3000"/>
                            </p:stCondLst>
                            <p:childTnLst>
                              <p:par>
                                <p:cTn id="9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6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3500"/>
                            </p:stCondLst>
                            <p:childTnLst>
                              <p:par>
                                <p:cTn id="9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0" dur="5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5" dur="500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500"/>
                            </p:stCondLst>
                            <p:childTnLst>
                              <p:par>
                                <p:cTn id="9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9" dur="50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1000"/>
                            </p:stCondLst>
                            <p:childTnLst>
                              <p:par>
                                <p:cTn id="9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3" dur="500"/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1500"/>
                            </p:stCondLst>
                            <p:childTnLst>
                              <p:par>
                                <p:cTn id="9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500"/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2000"/>
                            </p:stCondLst>
                            <p:childTnLst>
                              <p:par>
                                <p:cTn id="9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1" dur="500"/>
                                        <p:tgtEl>
                                          <p:spTgt spid="3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0164-5B19-47B9-BB23-E0ADFF0B831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60EA-F6DD-4451-9AF0-5E9A28ABBDD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841400" y="1549440"/>
          <a:ext cx="7061400" cy="5189400"/>
        </p:xfrm>
        <a:graphic>
          <a:graphicData uri="http://schemas.openxmlformats.org/drawingml/2006/table">
            <a:tbl>
              <a:tblPr/>
              <a:tblGrid>
                <a:gridCol w="3900600"/>
                <a:gridCol w="1652400"/>
                <a:gridCol w="150840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2016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(отчет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2017 г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(отчет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РАСХОДЫ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61800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50952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4689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4582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Национальная обо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72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71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22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23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1024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681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4298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804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Охрана окружающей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46297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37952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Культура и кинемат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2847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4143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Социальная поли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1604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1556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Физическая культура и 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98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9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141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195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Межбюджетные трансфер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7026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845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68080" y="3394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траслевая структура расходов районного бюдже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67E0-E085-4A3B-BECC-2F060CB4F62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801F-FCAD-4691-8BCD-38FCD534A7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87280"/>
            <a:ext cx="8915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           </a:t>
            </a: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Социальная сфера 2017 го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Freeform 3"/>
          <p:cNvSpPr/>
          <p:nvPr/>
        </p:nvSpPr>
        <p:spPr>
          <a:xfrm>
            <a:off x="2411280" y="1392120"/>
            <a:ext cx="4808520" cy="2921040"/>
          </a:xfrm>
          <a:custGeom>
            <a:avLst/>
            <a:gdLst>
              <a:gd name="textAreaLeft" fmla="*/ 0 w 4808520"/>
              <a:gd name="textAreaRight" fmla="*/ 4808880 w 4808520"/>
              <a:gd name="textAreaTop" fmla="*/ 0 h 2921040"/>
              <a:gd name="textAreaBottom" fmla="*/ 2921400 h 2921040"/>
            </a:gdLst>
            <a:ahLst/>
            <a:rect l="textAreaLeft" t="textAreaTop" r="textAreaRight" b="textAreaBottom"/>
            <a:pathLst>
              <a:path w="349" h="307">
                <a:moveTo>
                  <a:pt x="291" y="303"/>
                </a:moveTo>
                <a:cubicBezTo>
                  <a:pt x="328" y="270"/>
                  <a:pt x="349" y="223"/>
                  <a:pt x="349" y="174"/>
                </a:cubicBezTo>
                <a:cubicBezTo>
                  <a:pt x="349" y="77"/>
                  <a:pt x="271" y="0"/>
                  <a:pt x="175" y="0"/>
                </a:cubicBezTo>
                <a:cubicBezTo>
                  <a:pt x="78" y="0"/>
                  <a:pt x="1" y="77"/>
                  <a:pt x="1" y="174"/>
                </a:cubicBezTo>
                <a:cubicBezTo>
                  <a:pt x="0" y="225"/>
                  <a:pt x="23" y="274"/>
                  <a:pt x="62" y="307"/>
                </a:cubicBezTo>
                <a:lnTo>
                  <a:pt x="175" y="174"/>
                </a:lnTo>
                <a:lnTo>
                  <a:pt x="291" y="303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reeform 4"/>
          <p:cNvSpPr/>
          <p:nvPr/>
        </p:nvSpPr>
        <p:spPr>
          <a:xfrm>
            <a:off x="4822920" y="3048120"/>
            <a:ext cx="1596960" cy="1627200"/>
          </a:xfrm>
          <a:custGeom>
            <a:avLst/>
            <a:gdLst>
              <a:gd name="textAreaLeft" fmla="*/ 0 w 1596960"/>
              <a:gd name="textAreaRight" fmla="*/ 1597320 w 159696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w="116" h="171">
                <a:moveTo>
                  <a:pt x="26" y="171"/>
                </a:moveTo>
                <a:cubicBezTo>
                  <a:pt x="60" y="166"/>
                  <a:pt x="91" y="151"/>
                  <a:pt x="116" y="129"/>
                </a:cubicBezTo>
                <a:lnTo>
                  <a:pt x="0" y="0"/>
                </a:lnTo>
                <a:lnTo>
                  <a:pt x="26" y="171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reeform 5"/>
          <p:cNvSpPr/>
          <p:nvPr/>
        </p:nvSpPr>
        <p:spPr>
          <a:xfrm>
            <a:off x="4822920" y="3048120"/>
            <a:ext cx="357120" cy="1646280"/>
          </a:xfrm>
          <a:custGeom>
            <a:avLst/>
            <a:gdLst>
              <a:gd name="textAreaLeft" fmla="*/ 0 w 357120"/>
              <a:gd name="textAreaRight" fmla="*/ 357480 w 357120"/>
              <a:gd name="textAreaTop" fmla="*/ 0 h 1646280"/>
              <a:gd name="textAreaBottom" fmla="*/ 1646640 h 1646280"/>
            </a:gdLst>
            <a:ahLst/>
            <a:rect l="textAreaLeft" t="textAreaTop" r="textAreaRight" b="textAreaBottom"/>
            <a:pathLst>
              <a:path w="26" h="173">
                <a:moveTo>
                  <a:pt x="8" y="173"/>
                </a:moveTo>
                <a:cubicBezTo>
                  <a:pt x="15" y="173"/>
                  <a:pt x="21" y="172"/>
                  <a:pt x="26" y="171"/>
                </a:cubicBezTo>
                <a:lnTo>
                  <a:pt x="0" y="0"/>
                </a:lnTo>
                <a:lnTo>
                  <a:pt x="8" y="173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reeform 6"/>
          <p:cNvSpPr/>
          <p:nvPr/>
        </p:nvSpPr>
        <p:spPr>
          <a:xfrm>
            <a:off x="4245120" y="3048120"/>
            <a:ext cx="687240" cy="1646280"/>
          </a:xfrm>
          <a:custGeom>
            <a:avLst/>
            <a:gdLst>
              <a:gd name="textAreaLeft" fmla="*/ 0 w 687240"/>
              <a:gd name="textAreaRight" fmla="*/ 687600 w 687240"/>
              <a:gd name="textAreaTop" fmla="*/ 0 h 1646280"/>
              <a:gd name="textAreaBottom" fmla="*/ 1646640 h 1646280"/>
            </a:gdLst>
            <a:ahLst/>
            <a:rect l="textAreaLeft" t="textAreaTop" r="textAreaRight" b="textAreaBottom"/>
            <a:pathLst>
              <a:path w="50" h="173">
                <a:moveTo>
                  <a:pt x="0" y="168"/>
                </a:moveTo>
                <a:cubicBezTo>
                  <a:pt x="13" y="172"/>
                  <a:pt x="27" y="173"/>
                  <a:pt x="42" y="173"/>
                </a:cubicBezTo>
                <a:cubicBezTo>
                  <a:pt x="44" y="173"/>
                  <a:pt x="47" y="173"/>
                  <a:pt x="50" y="173"/>
                </a:cubicBezTo>
                <a:lnTo>
                  <a:pt x="42" y="0"/>
                </a:lnTo>
                <a:lnTo>
                  <a:pt x="0" y="16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reeform 7"/>
          <p:cNvSpPr/>
          <p:nvPr/>
        </p:nvSpPr>
        <p:spPr>
          <a:xfrm>
            <a:off x="3265560" y="3048120"/>
            <a:ext cx="1557360" cy="1598400"/>
          </a:xfrm>
          <a:custGeom>
            <a:avLst/>
            <a:gdLst>
              <a:gd name="textAreaLeft" fmla="*/ 0 w 1557360"/>
              <a:gd name="textAreaRight" fmla="*/ 1557720 w 1557360"/>
              <a:gd name="textAreaTop" fmla="*/ 0 h 1598400"/>
              <a:gd name="textAreaBottom" fmla="*/ 1598760 h 1598400"/>
            </a:gdLst>
            <a:ahLst/>
            <a:rect l="textAreaLeft" t="textAreaTop" r="textAreaRight" b="textAreaBottom"/>
            <a:pathLst>
              <a:path w="113" h="168">
                <a:moveTo>
                  <a:pt x="0" y="133"/>
                </a:moveTo>
                <a:cubicBezTo>
                  <a:pt x="21" y="150"/>
                  <a:pt x="45" y="162"/>
                  <a:pt x="71" y="168"/>
                </a:cubicBezTo>
                <a:lnTo>
                  <a:pt x="113" y="0"/>
                </a:lnTo>
                <a:lnTo>
                  <a:pt x="0" y="13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3314880" y="1773360"/>
            <a:ext cx="2808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7d"/>
                </a:solidFill>
                <a:latin typeface="Tahoma"/>
              </a:rPr>
              <a:t>Дошкольное и общее образова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7d"/>
                </a:solidFill>
                <a:latin typeface="Tahoma"/>
              </a:rPr>
              <a:t>8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7292880" y="4292640"/>
            <a:ext cx="22622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ahoma"/>
              </a:rPr>
              <a:t>Социальная политик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ahoma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5030640" y="5327640"/>
            <a:ext cx="2730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ff"/>
                </a:solidFill>
                <a:latin typeface="Tahoma"/>
              </a:rPr>
              <a:t>Физическая культура и спор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ff"/>
                </a:solidFill>
                <a:latin typeface="Tahoma"/>
              </a:rPr>
              <a:t>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222640" y="5254560"/>
            <a:ext cx="2808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00"/>
                </a:solidFill>
                <a:latin typeface="Tahoma"/>
              </a:rPr>
              <a:t>Молодежная политика                       и оздоровление дете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00"/>
                </a:solidFill>
                <a:latin typeface="Tahoma"/>
              </a:rPr>
              <a:t>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193680" y="4221000"/>
            <a:ext cx="22622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Другие расходы в области образова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6,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5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5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5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5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A04A-E059-4356-A217-CCEB7DA336B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2795-CA61-4330-AD0A-60C720EC8D6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2400" y="723600"/>
            <a:ext cx="891540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Общегосударственные расход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3"/>
          <p:cNvSpPr/>
          <p:nvPr/>
        </p:nvSpPr>
        <p:spPr>
          <a:xfrm>
            <a:off x="590400" y="5938920"/>
            <a:ext cx="46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1052640" y="5818320"/>
            <a:ext cx="626760" cy="9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1052640" y="5724360"/>
            <a:ext cx="626760" cy="93960"/>
          </a:xfrm>
          <a:prstGeom prst="rect">
            <a:avLst/>
          </a:prstGeom>
          <a:solidFill>
            <a:srgbClr val="00ba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1052640" y="3749760"/>
            <a:ext cx="626760" cy="1976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1052640" y="3656160"/>
            <a:ext cx="626760" cy="93600"/>
          </a:xfrm>
          <a:prstGeom prst="rect">
            <a:avLst/>
          </a:prstGeom>
          <a:solidFill>
            <a:srgbClr val="2424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6"/>
          <p:cNvSpPr/>
          <p:nvPr/>
        </p:nvSpPr>
        <p:spPr>
          <a:xfrm>
            <a:off x="1052640" y="3241800"/>
            <a:ext cx="626760" cy="414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0"/>
          <p:cNvSpPr/>
          <p:nvPr/>
        </p:nvSpPr>
        <p:spPr>
          <a:xfrm>
            <a:off x="1052640" y="3193920"/>
            <a:ext cx="626760" cy="68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052640" y="2933640"/>
            <a:ext cx="636480" cy="2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9"/>
          <p:cNvSpPr/>
          <p:nvPr/>
        </p:nvSpPr>
        <p:spPr>
          <a:xfrm>
            <a:off x="803520" y="6208560"/>
            <a:ext cx="1366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</a:rPr>
              <a:t>2017 год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32"/>
          <p:cNvSpPr/>
          <p:nvPr/>
        </p:nvSpPr>
        <p:spPr>
          <a:xfrm>
            <a:off x="6056280" y="2093760"/>
            <a:ext cx="3413160" cy="4106880"/>
          </a:xfrm>
          <a:prstGeom prst="rect">
            <a:avLst/>
          </a:prstGeom>
          <a:solidFill>
            <a:srgbClr val="dce8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33"/>
          <p:cNvSpPr/>
          <p:nvPr/>
        </p:nvSpPr>
        <p:spPr>
          <a:xfrm>
            <a:off x="6297480" y="2430360"/>
            <a:ext cx="119160" cy="109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34"/>
          <p:cNvSpPr/>
          <p:nvPr/>
        </p:nvSpPr>
        <p:spPr>
          <a:xfrm>
            <a:off x="6564240" y="2371680"/>
            <a:ext cx="1616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Другие расходы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6"/>
          <p:cNvSpPr/>
          <p:nvPr/>
        </p:nvSpPr>
        <p:spPr>
          <a:xfrm>
            <a:off x="7750080" y="1641600"/>
            <a:ext cx="1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37"/>
          <p:cNvSpPr/>
          <p:nvPr/>
        </p:nvSpPr>
        <p:spPr>
          <a:xfrm>
            <a:off x="6297480" y="3000240"/>
            <a:ext cx="119160" cy="109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8"/>
          <p:cNvSpPr/>
          <p:nvPr/>
        </p:nvSpPr>
        <p:spPr>
          <a:xfrm>
            <a:off x="6627240" y="2941560"/>
            <a:ext cx="169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Резервный фонд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41"/>
          <p:cNvSpPr/>
          <p:nvPr/>
        </p:nvSpPr>
        <p:spPr>
          <a:xfrm>
            <a:off x="6284880" y="3479760"/>
            <a:ext cx="119160" cy="1112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42"/>
          <p:cNvSpPr/>
          <p:nvPr/>
        </p:nvSpPr>
        <p:spPr>
          <a:xfrm>
            <a:off x="6598800" y="3371760"/>
            <a:ext cx="194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Финансовый отдел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3"/>
          <p:cNvSpPr/>
          <p:nvPr/>
        </p:nvSpPr>
        <p:spPr>
          <a:xfrm>
            <a:off x="6284880" y="4079880"/>
            <a:ext cx="119160" cy="109440"/>
          </a:xfrm>
          <a:prstGeom prst="rect">
            <a:avLst/>
          </a:prstGeom>
          <a:solidFill>
            <a:srgbClr val="2424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4"/>
          <p:cNvSpPr/>
          <p:nvPr/>
        </p:nvSpPr>
        <p:spPr>
          <a:xfrm>
            <a:off x="6625080" y="4010040"/>
            <a:ext cx="274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Контрольно-счетный орган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45"/>
          <p:cNvSpPr/>
          <p:nvPr/>
        </p:nvSpPr>
        <p:spPr>
          <a:xfrm>
            <a:off x="6284880" y="4668840"/>
            <a:ext cx="119160" cy="111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46"/>
          <p:cNvSpPr/>
          <p:nvPr/>
        </p:nvSpPr>
        <p:spPr>
          <a:xfrm>
            <a:off x="6550560" y="4599000"/>
            <a:ext cx="164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Администрация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47"/>
          <p:cNvSpPr/>
          <p:nvPr/>
        </p:nvSpPr>
        <p:spPr>
          <a:xfrm>
            <a:off x="6284880" y="5259240"/>
            <a:ext cx="119160" cy="109800"/>
          </a:xfrm>
          <a:prstGeom prst="rect">
            <a:avLst/>
          </a:prstGeom>
          <a:solidFill>
            <a:srgbClr val="00ba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48"/>
          <p:cNvSpPr/>
          <p:nvPr/>
        </p:nvSpPr>
        <p:spPr>
          <a:xfrm>
            <a:off x="6591600" y="5187960"/>
            <a:ext cx="2058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Собрание депутатов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49"/>
          <p:cNvSpPr/>
          <p:nvPr/>
        </p:nvSpPr>
        <p:spPr>
          <a:xfrm>
            <a:off x="6284880" y="5848200"/>
            <a:ext cx="119160" cy="10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0"/>
          <p:cNvSpPr/>
          <p:nvPr/>
        </p:nvSpPr>
        <p:spPr>
          <a:xfrm>
            <a:off x="6595200" y="5778360"/>
            <a:ext cx="1920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Содержание главы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51"/>
          <p:cNvSpPr/>
          <p:nvPr/>
        </p:nvSpPr>
        <p:spPr>
          <a:xfrm>
            <a:off x="177840" y="5614920"/>
            <a:ext cx="81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1514,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4"/>
          <p:cNvSpPr/>
          <p:nvPr/>
        </p:nvSpPr>
        <p:spPr>
          <a:xfrm>
            <a:off x="1754280" y="5556240"/>
            <a:ext cx="81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1481,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57"/>
          <p:cNvSpPr/>
          <p:nvPr/>
        </p:nvSpPr>
        <p:spPr>
          <a:xfrm>
            <a:off x="190440" y="4581360"/>
            <a:ext cx="85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29408,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60"/>
          <p:cNvSpPr/>
          <p:nvPr/>
        </p:nvSpPr>
        <p:spPr>
          <a:xfrm>
            <a:off x="165240" y="3535200"/>
            <a:ext cx="81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1500,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63"/>
          <p:cNvSpPr/>
          <p:nvPr/>
        </p:nvSpPr>
        <p:spPr>
          <a:xfrm>
            <a:off x="1689120" y="3149640"/>
            <a:ext cx="819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131,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4970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69"/>
          <p:cNvSpPr/>
          <p:nvPr/>
        </p:nvSpPr>
        <p:spPr>
          <a:xfrm>
            <a:off x="177840" y="3086280"/>
            <a:ext cx="81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75"/>
          <p:cNvSpPr/>
          <p:nvPr/>
        </p:nvSpPr>
        <p:spPr>
          <a:xfrm>
            <a:off x="1625760" y="2890800"/>
            <a:ext cx="101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6820,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5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50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5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700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75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80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85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90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950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9A8B-6479-4DAB-9D32-EE9A78C32D4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F4D3-0DA1-4EBE-BB33-BD390838AC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672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Муниципальные програм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27"/>
          <p:cNvSpPr/>
          <p:nvPr/>
        </p:nvSpPr>
        <p:spPr>
          <a:xfrm>
            <a:off x="396720" y="3517920"/>
            <a:ext cx="3942000" cy="1944720"/>
          </a:xfrm>
          <a:prstGeom prst="roundRect">
            <a:avLst>
              <a:gd name="adj" fmla="val 16667"/>
            </a:avLst>
          </a:prstGeom>
          <a:solidFill>
            <a:srgbClr val="0000ff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Програм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imes New Roman"/>
              </a:rPr>
              <a:t>направленные на реш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imes New Roman"/>
              </a:rPr>
              <a:t>общегосударственных вопрос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27"/>
          <p:cNvSpPr/>
          <p:nvPr/>
        </p:nvSpPr>
        <p:spPr>
          <a:xfrm>
            <a:off x="1974960" y="1996920"/>
            <a:ext cx="6318000" cy="1008360"/>
          </a:xfrm>
          <a:prstGeom prst="roundRect">
            <a:avLst>
              <a:gd name="adj" fmla="val 16667"/>
            </a:avLst>
          </a:prstGeom>
          <a:solidFill>
            <a:srgbClr val="0000ff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Программы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социальной направлен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27"/>
          <p:cNvSpPr/>
          <p:nvPr/>
        </p:nvSpPr>
        <p:spPr>
          <a:xfrm>
            <a:off x="5513400" y="3517920"/>
            <a:ext cx="3944880" cy="1957320"/>
          </a:xfrm>
          <a:prstGeom prst="roundRect">
            <a:avLst>
              <a:gd name="adj" fmla="val 16667"/>
            </a:avLst>
          </a:prstGeom>
          <a:solidFill>
            <a:srgbClr val="0000ff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Программы </a:t>
            </a:r>
            <a:r>
              <a:rPr b="1" lang="ru-RU" sz="20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imes New Roman"/>
              </a:rPr>
              <a:t>в сфере экономики и ЖК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6"/>
          <p:cNvSpPr/>
          <p:nvPr/>
        </p:nvSpPr>
        <p:spPr>
          <a:xfrm flipH="1">
            <a:off x="1228680" y="1174680"/>
            <a:ext cx="876240" cy="20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5130720" y="1162080"/>
            <a:ext cx="12960" cy="63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8271000" y="1154160"/>
            <a:ext cx="711000" cy="20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1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2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70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8000"/>
                            </p:stCondLst>
                            <p:childTnLst>
                              <p:par>
                                <p:cTn id="23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3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960D-326B-4CAB-90D0-64A1A0A83E6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D098-8562-400C-AFEA-8D8D89640E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5000" y="186840"/>
            <a:ext cx="8915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Муниципальные программы</a:t>
            </a:r>
            <a:br>
              <a:rPr sz="3600"/>
            </a:b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социальной направлен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27"/>
          <p:cNvSpPr/>
          <p:nvPr/>
        </p:nvSpPr>
        <p:spPr>
          <a:xfrm>
            <a:off x="888840" y="1625760"/>
            <a:ext cx="7670880" cy="4914720"/>
          </a:xfrm>
          <a:prstGeom prst="roundRect">
            <a:avLst>
              <a:gd name="adj" fmla="val 16667"/>
            </a:avLst>
          </a:prstGeom>
          <a:solidFill>
            <a:srgbClr val="9999ff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«Развитие образования Ленского муниципального район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«Развитие местного самоуправления в МО «Ленский муниципальн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Район  и поддержка социально-ориентированных некоммерчески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организаций»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«Развитие сферы культуры МО «Ленский муниципальный район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«Развитие физической культуры, спорта, туризма, повышени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эффективности реализации молодёжной и семейной политики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«Обеспечение качественным, доступным жильем и объектами жилищно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коммунального хозяйства населения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«Профилактика безнадзорности и правонарушений несовершеннолетних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«Устойчивое развитие сельских территорий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4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3934-B754-4C2F-B68C-E6E50CEB5D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FD29-6F55-4B0A-9DA7-A3E38D9830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50"/>
          <p:cNvSpPr/>
          <p:nvPr/>
        </p:nvSpPr>
        <p:spPr>
          <a:xfrm>
            <a:off x="291960" y="1062000"/>
            <a:ext cx="5102280" cy="4240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Реализация общеобразовательных програм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5564160" y="1536840"/>
            <a:ext cx="411012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6 год – 465,2 млн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7 год –  386,6 млн.рублей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50"/>
          <p:cNvSpPr/>
          <p:nvPr/>
        </p:nvSpPr>
        <p:spPr>
          <a:xfrm>
            <a:off x="219240" y="1587600"/>
            <a:ext cx="5149800" cy="1226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Компенсация родительской платы за присмотр и уход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за ребёнком в образовательных  организациях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реализующих образовательную программ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дошкольного образ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50"/>
          <p:cNvSpPr/>
          <p:nvPr/>
        </p:nvSpPr>
        <p:spPr>
          <a:xfrm>
            <a:off x="231840" y="2878200"/>
            <a:ext cx="5149800" cy="1020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беспечение предоставления жилых помещений детям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сиротам и детям, оставшимся без попечения родителей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лицам из их числа по договорам най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специализированных жилых помещени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0"/>
          <p:cNvSpPr/>
          <p:nvPr/>
        </p:nvSpPr>
        <p:spPr>
          <a:xfrm>
            <a:off x="228600" y="4038480"/>
            <a:ext cx="5178600" cy="444600"/>
          </a:xfrm>
          <a:prstGeom prst="roundRect">
            <a:avLst>
              <a:gd name="adj" fmla="val 23486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Мероприятия по оздоровлению дет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1365120" y="347760"/>
            <a:ext cx="703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Times New Roman"/>
              </a:rPr>
              <a:t>Муниципальная программа  «Развитие образования Ленского муниципального района (2015-2018 годы)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50"/>
          <p:cNvSpPr/>
          <p:nvPr/>
        </p:nvSpPr>
        <p:spPr>
          <a:xfrm>
            <a:off x="254160" y="5460840"/>
            <a:ext cx="5190840" cy="7747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Строительство школы на 86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мест в п.Урдо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Рисунок 4" descr="http://yarsh.ucoz.ru/novosti/starshaja_shkola.jpg"/>
          <p:cNvPicPr/>
          <p:nvPr/>
        </p:nvPicPr>
        <p:blipFill>
          <a:blip r:embed="rId1"/>
          <a:stretch/>
        </p:blipFill>
        <p:spPr>
          <a:xfrm>
            <a:off x="5551560" y="3073320"/>
            <a:ext cx="4135320" cy="321336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50"/>
          <p:cNvSpPr/>
          <p:nvPr/>
        </p:nvSpPr>
        <p:spPr>
          <a:xfrm>
            <a:off x="241200" y="4610160"/>
            <a:ext cx="5178600" cy="533520"/>
          </a:xfrm>
          <a:prstGeom prst="roundRect">
            <a:avLst>
              <a:gd name="adj" fmla="val 23486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Совершенствование системы выявления и развит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талантов дете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5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500"/>
                            </p:stCondLst>
                            <p:childTnLst>
                              <p:par>
                                <p:cTn id="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500"/>
                            </p:stCondLst>
                            <p:childTnLst>
                              <p:par>
                                <p:cTn id="2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500"/>
                            </p:stCondLst>
                            <p:childTnLst>
                              <p:par>
                                <p:cTn id="2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65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26FB-E19D-42CD-854F-0F1F9B66FE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6825-882D-4E5B-84D9-430DE720C11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520" y="463680"/>
            <a:ext cx="952524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Times New Roman"/>
              </a:rPr>
              <a:t>Муниципальная программа «Развитие образования Ленского муниципального района (2015-2018 годы)»</a:t>
            </a:r>
            <a:br>
              <a:rPr sz="2800"/>
            </a:br>
            <a:r>
              <a:rPr b="1" lang="ru-RU" sz="2800" spc="-1" strike="noStrike">
                <a:solidFill>
                  <a:srgbClr val="00007d"/>
                </a:solidFill>
                <a:latin typeface="Times New Roman"/>
              </a:rPr>
              <a:t>(строительство объектов муниципальной собственност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27"/>
          <p:cNvSpPr/>
          <p:nvPr/>
        </p:nvSpPr>
        <p:spPr>
          <a:xfrm>
            <a:off x="4027320" y="1832040"/>
            <a:ext cx="5713560" cy="2168640"/>
          </a:xfrm>
          <a:prstGeom prst="roundRect">
            <a:avLst>
              <a:gd name="adj" fmla="val 16667"/>
            </a:avLst>
          </a:prstGeom>
          <a:solidFill>
            <a:srgbClr val="00007d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троительство средн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бщеобразовательн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школы на 860 учащихся в п. Урдо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016 год – 107,7 млн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017 год –  6,5 млн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7" descr=""/>
          <p:cNvPicPr/>
          <p:nvPr/>
        </p:nvPicPr>
        <p:blipFill>
          <a:blip r:embed="rId1"/>
          <a:srcRect l="6851" t="0" r="0" b="7874"/>
          <a:stretch/>
        </p:blipFill>
        <p:spPr>
          <a:xfrm>
            <a:off x="258840" y="4102200"/>
            <a:ext cx="4844880" cy="2465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1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3T10:56:41Z</dcterms:created>
  <dc:creator>user</dc:creator>
  <dc:description/>
  <dc:language>en-US</dc:language>
  <cp:lastModifiedBy>Беккер Ж.С</cp:lastModifiedBy>
  <dcterms:modified xsi:type="dcterms:W3CDTF">2018-05-04T13:49:29Z</dcterms:modified>
  <cp:revision>1184</cp:revision>
  <dc:subject/>
  <dc:title>Бюджет для граждан на 2014 год</dc:title>
</cp:coreProperties>
</file>