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C34-D00A-4F10-A03A-B9524FA0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11C-9F1B-4822-AC5C-88CFBDE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022F0-BD90-46A7-AEC1-1D55AAF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667F-3CF1-416A-954B-ECC81B0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61CC-DE75-4A1D-8906-DAC7D09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24312-CE4E-477F-9206-FFF0E7A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6F07C-96BC-46B6-91A2-568A9CF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2D949-AFDD-418C-B67C-E7EFC40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34544-F4A5-4452-A831-135B4610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63F73-C6F9-44FE-B07B-620611CA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B211-26F1-4EEE-A66A-0331A676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7C201-A4FD-443C-AC6F-ED8B0883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9BB-808B-409A-82AB-67EC111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60B73-5B5E-4C74-B463-0EB5CA6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B53B3-57FD-47F0-9176-4E21A1F0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37DB-1165-40CD-A3E3-A84920DB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FC8C8-6D82-40C2-B5E3-BD901EE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7358B-7506-4E73-9F42-68A9B66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D177F-B1F0-40D8-BC8C-04609CF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CFFA-C526-4A16-9BA5-DD094CE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B7C16-4A98-46AD-AFAD-9147BA6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B846E-F9CC-42E3-B7C0-B79B044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D386E-169C-4CEA-93D7-FFDE7F1F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743-D6FD-4C87-9AC2-AA48F8FF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712D8-6B45-4446-B516-21AC9B72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83832-7906-4E1B-A20B-BB04519A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9C163-C605-4295-9E0B-62E2D52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859C6-E60E-41A1-8120-2F448717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FB458-D150-4C87-9447-2408955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2353A-D3D9-40AA-A93A-A79A038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8434-8F46-4501-B6D2-1BB56ED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C204-7F90-44C8-8FDD-4AF6B38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D799-D081-449E-999F-328442C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14604-BE80-4FD4-ADD7-79C08A6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3F05-60F7-4E1F-B9B5-0B064DB9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1D75A-836B-4533-98A7-DCBF7959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0AF79-663E-4E14-A564-0703C8FC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AB01-3562-4106-B041-711E96F1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1778-1996-4FA3-8627-4CC85598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D2567-8065-4D3C-8EE6-F0DA967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96EB8-1AE1-4FB8-9DAD-4681DA4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9C3A5-A94E-4660-B97D-17F1C78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580D9-94D1-4A8A-8653-64A4EC6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6A1C0-EDD1-40EA-AFCF-F9F59EE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B756B-C60C-4488-9BBE-DF33F47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87F4-6648-4937-89BD-E2FC0F60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547CD-249D-478B-9E86-F799219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D5466-DCE6-4A22-B9CB-0D9CD60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C8FB8-B236-40B0-89D8-865CA97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FDB6B-4442-499C-8743-F8758ABD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E6CB2-80A4-4264-9466-6C542FD8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F7106-145A-4D94-8323-90CB5C9D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50A70-37AE-4D4C-B579-401CD2E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06730-075F-4751-BA0A-AB604306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62C07-8B06-442B-A40E-C1CBA3F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C2C51-1956-4B8A-8FAB-1C05EBA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B3E0-9CB2-4A36-B635-12FB842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8F8FB-B85E-400A-901D-0B8499A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780A4-CC64-4B72-A690-34ED2C3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55530-C3BA-44B1-8834-9194666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CCC92-93A0-479C-AC36-B597FE9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28558-567A-4CAC-A8B9-3639A933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CB76A-C391-475A-AEE1-B3D824FE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26A8-F7F6-470E-8D2B-52D27158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A602-7D4B-4B6C-9855-DEF6A554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58534-38EC-4FFD-A765-4BE945DD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2D5B3-D156-44B1-A46A-20C050D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2B1-4CA8-4C19-B103-CD5587B4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17900-A031-43D6-8344-0A08D36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6FB85-4032-4FF5-8998-BF1E084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35868-9D7F-4E7A-B9BD-38250D0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96DFD-9B2B-4DD5-A991-22AA9C0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AB54F-B1CF-4462-A0FA-C0D8D54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D7FD7-F6DA-423D-AEFC-5BC7C9A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D2329-E3E1-455E-85CA-9A6A6DDE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57306-6C00-409F-B86A-F4232571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85F29-19B1-4D63-A0C9-C3B85B9F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6ADBE-F346-47A4-B02E-CDB85034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BB49-853B-4C5F-935C-B65B18D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36C2C-BEBE-4664-B29D-2D2AA169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7EEF2-0BBC-43E3-ADBB-09E94D0E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E4CD5-7072-4AE2-9369-E3CF32F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E2EBA-0345-4899-AEEB-FE908844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5598A-CDA6-4146-9461-CC0508B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EC7C3-8269-411F-8213-CF85515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62398-2138-4333-A21F-0D47FA3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39F70-71A3-4070-9AC0-1C4C98B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B7516-EF4F-46F8-B6EC-C127C9C1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A63A6-2F6D-4743-A839-C6EBCB3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C8E5-2969-4F9A-8419-21EA0925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21C41-53BD-4B36-B6CA-DC1DC54D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2A10-D19C-4B92-B72A-9FF0EA2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096-765A-460D-B18A-D2A4F1E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6F69-88D3-4FB1-B12B-AFA1238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16F9-C1BB-4D0F-88A2-FD3C33C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376-6D26-4C2C-A4D0-8A944C1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31A-057B-44D1-8C6D-ECB2FF20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196D-215C-4A7E-9833-32E79D7A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D29F-49E1-44AA-965E-FA222DCD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64A6-4388-442E-8672-77A1B9EB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5E15-A151-49C6-B3D2-51909AB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687E-D23B-42DA-BE89-1BF6400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8F7E-2D99-4A09-8EA7-8900AE39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304-6166-40BC-9AFA-ECFF9D48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C9D7-3AD7-4103-9D9C-D921329F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2754-F355-4318-B8A1-6DFCB53B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1B93-245D-4167-9E7A-FC4B69E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484B-6ACD-4E8C-BBD2-8BDF8F9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CE23-727C-4C3F-B5C1-A3E73EF1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0B3E-DEE0-40BC-AD09-D95BF18F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898B-46EB-46B2-A6D5-8134DE51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B718-E6ED-44D9-89F4-3909B13F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4D5F-EB28-4F07-9565-6F9E1BF7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C9D9-5646-4DFF-BCC4-0A6E4AE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BA2-1312-4977-9C3E-F1E82867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7B52-E844-4D9C-952F-3529D2D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F245-493A-421F-8C14-8121532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6872-0D25-49E5-8FB6-CD632617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694E-DEBE-4F30-86CB-5042208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74B6-8DED-4C6E-95C8-81F7A29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050F-9EE2-4041-BA36-2C75297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8F6A-540E-4F46-8C17-80E3F1E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D9C2-ED2F-4BEE-B7DE-CEF3D4E5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2AD2-0433-4919-9E1D-624D8F0C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C670D-6927-44B3-B090-3F643697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510-A522-49BA-B6BA-1C6CCD8F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7F74-B15E-421B-BCB0-CA8429E4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004F-625B-47BB-A394-829565B1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74F4-B87A-4587-B17D-8F440471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2DD4C-6BED-4105-AB88-ADF3B09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8AB6-61D6-4D11-A186-9D4B6A9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60FA-7699-4DE3-97E8-7F3BBB2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9CE1-54FD-4985-841C-CD5C0B1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A09D-CEFA-46D2-A8B9-6D4554A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D81F-842C-4345-BA70-07CD56D9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7218-D0E4-4063-83FE-8677E342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F77-3B26-4E7D-B327-CA70AA57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E380-5C90-4EA8-8CA8-47453B70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1E4A-B7AD-4351-B0B8-81B6366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03CF-B199-47F7-A67E-B4315ADF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42C3-CAE1-42C0-B967-0F74CE76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FB778-2E9C-4681-BF81-D33354C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1085-A9B5-4D3B-B75E-3B29E7F6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08D3-B80D-4BC9-AEF2-7937778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2508-4641-4BF5-981F-D47D9AA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9EDE-A9D3-4724-92CC-9D1BAC6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9BB2-BDC1-4198-A9BD-E1157234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D26-82CA-4B7D-91DA-99D0607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3E1D-BDCE-485A-96E9-23FED4D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0BB25-7F1A-4DD6-8F28-8147B23B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68EC-EFB1-4BF0-A2EF-0B79A468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9E930-44F6-415B-993A-BC2F9E93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052E9-441D-4ADB-8A77-4FBE9778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B04C3-31E2-46DD-AE4B-9A788D6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38D1-65E9-4C90-8DBF-D0A23C7B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3816-9988-47E8-B14C-D3B85AD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F7086-B8BE-4234-B03C-7D28C625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A24E-74A4-4E39-9AA2-DE5C6F1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1F8-CBC9-401D-A023-26DF4209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F2CA-466C-41D2-83ED-A810499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CB49D-2FCA-4FB6-8B0A-7087CCF0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7314-532D-446D-B878-9917E71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630C0-7BB4-4F8C-803C-B7424012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3987-A509-4954-8CCC-840B2C7B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7552-F95C-415E-9DBD-C0E1242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60A7-8CC4-4666-BCDA-12AAAE8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B738C-673B-41C2-8199-FB652667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6677-2AEF-4E91-BB68-2ED6247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91B8-BB8D-4BCC-BADC-84DD3971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472-10EA-41C7-B514-094282B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C322-115C-4A48-A2DC-267E8A15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9AFA-24AC-43D0-BAF7-6B3EF3F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431C-40C7-4DAC-8C98-2678CDB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31BB-824D-4EAC-A6FB-16A9DAC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0B76-78BE-41A0-B90D-B66C0FE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5DC1-8092-4E6C-8AB7-0C9DE53F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CB3D-BE9E-4858-9D31-108604D0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3C8ED-22C6-44EA-8A05-07FD32A2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ED75-AFB8-482A-991B-2CB0E7AB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6DFF-5657-4BAC-B0B5-025271C2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A22D-BD7B-4ECF-B51F-BFDFB6711C6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EF80-DDFE-4439-9286-80C58710F8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5EF-AD66-47E5-8BC6-309C20C1A95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8EC-B376-4189-B486-B33DD07B5B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FCB-4135-4865-9A06-8866AE9A395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0CCC-ED0B-4204-87A2-C1A88EC8AE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00E4-D749-4760-B468-CCC95C84C59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663-CF80-4A0A-803E-67D523B134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FB2-3F10-4B1D-A735-AA7FB2E16ED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556-13F1-4776-8151-81E350E305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FD69-6A5A-4180-A045-E96DD197BE2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357-4EA1-4447-82D9-8E77FF223F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1B89-B530-4A3D-B79E-6B8E539707D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173-D738-43C5-A72D-3D26DE8A5A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0E5-65B4-457F-9413-7E034DB1888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6D6F-7569-4208-ACD2-E43ABC4CE0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F5A-A7F5-4AC8-B6CF-FBA3455037D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28F0-2052-45DB-BC94-F85E591EDD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5F0A-00D0-4419-8DFD-306BBE695CB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C03-AFBB-4A54-BE3C-9FEA800EC0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A674-2AA7-4957-9C7E-18F754F590B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479-2C6F-4DA3-9FDD-EBF78CE5ED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D2A-19E0-48D2-A2DF-113B3E8DEDF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F76-119C-4186-83B6-478041E1EA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73F-2A3F-4180-B73C-C1D92D2E623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D9D-AC42-4C7D-AB86-8F6A4D1FFA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7541-17A5-4E15-8C31-C5A44ECC4D3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6DB9-EDE9-4780-8236-3465C64D44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D6D-5A62-4E5D-A054-B6E6BF0D8B7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64F8-4223-449D-AF52-34D3D98A8F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6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BE2B-DBA1-4696-B612-4C94884EA3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7DF5-A352-49A9-BDCF-A38DC952D2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7 году  и среднесрочной перспективе сохранится  направленность  бюджетной политики на решение приоритетных задач социально-экономического развития, установленных в указах Президента Российской Федерации от 07 мая 2012  года, а также 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х стратегического планирования в Ленском районе.</a:t>
            </a: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) поддержание сбалансированности бюджета  МО «Ленский муниципальный район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при планировании «консервативного»( базового) варианта прогноза социально-экономического развития МО «Ленский муниципальны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овышение эффективности расх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FAD-E67F-4335-8AF1-56570FB96E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D64-87C1-4ED6-BC2D-D0EEA44D85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724-9234-4D4B-A73F-99A4383789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465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 862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654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 00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 96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 297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14 536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 097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 64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017-D5B5-4B47-A7AE-1205DB86C3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0281-1505-4A0E-91BF-5CC2FD80FD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5 – 2019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455760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5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91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98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5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3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по полному кругу с учетом филиалов и структурных подразделений,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40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26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7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7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6930,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766,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086,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300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6512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5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8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2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3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22D-6412-4E64-83CC-2D56F74C21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69F-636C-4169-9F48-A87179E190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14-2018 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8200" y="1609560"/>
          <a:ext cx="9180720" cy="523404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46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 8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6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 2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 4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0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 9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0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4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9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5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9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4 8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 13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 95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8 0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 9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4 2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7 8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7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4 5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9 09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 6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 53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 5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9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3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9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6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1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88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9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6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C5E-52DA-4A28-86C4-4C4142B667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B39-8F3F-4488-922B-7062F814F6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83FC-E5BC-4FED-8795-E5EE6393B7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2D9A-26BF-4D58-8D13-60E9F495DB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6" name="Object 4"/>
          <p:cNvGraphicFramePr/>
          <p:nvPr/>
        </p:nvGraphicFramePr>
        <p:xfrm>
          <a:off x="434880" y="1281240"/>
          <a:ext cx="734544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281240"/>
                    <a:ext cx="734544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5119-A027-499E-B4A9-F416005FA2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F73-E5DD-4DF8-AFC8-1DF1F6B94E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17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A1B8-FC61-432E-A4A2-1C23887749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208-AD88-41E5-81CF-591D605706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4-2018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5" name="Object 6"/>
          <p:cNvGraphicFramePr/>
          <p:nvPr/>
        </p:nvGraphicFramePr>
        <p:xfrm>
          <a:off x="496800" y="1008000"/>
          <a:ext cx="92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008000"/>
                    <a:ext cx="9217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BC2-2CF1-42C3-AD77-F0AA9D2589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77F-6198-47CA-9797-486F791958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239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4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60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8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47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7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169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45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0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652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9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1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69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11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3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2,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2AC-B485-48EB-9573-8A2D150C11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C1D8-A7F0-4DA0-9EDB-0804C71B49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50C-5D25-4176-B57E-AFD9E38C3C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CEC-C7C3-4B1F-9770-CCE9125310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4" name="Object 4"/>
          <p:cNvGraphicFramePr/>
          <p:nvPr/>
        </p:nvGraphicFramePr>
        <p:xfrm>
          <a:off x="466560" y="1677960"/>
          <a:ext cx="89632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7960"/>
                    <a:ext cx="89632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43C-48D2-4FB3-BEB0-BB84BEC56D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FD8F-6896-4EAB-AC3F-DCA3173DC1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378000" y="1249200"/>
          <a:ext cx="93614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49200"/>
                    <a:ext cx="93614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E8C-C66D-4141-9129-B8083430E0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A8C9-9398-4838-8FD2-E46B27FDD5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980-7A19-4F7C-896A-115312E8C8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1F9-304A-4020-B8B4-7F5A6F11B8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17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85" name="Object 4"/>
          <p:cNvGraphicFramePr/>
          <p:nvPr/>
        </p:nvGraphicFramePr>
        <p:xfrm>
          <a:off x="276120" y="1523880"/>
          <a:ext cx="918684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91868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55B-66C4-4BA9-8061-4BF0C8C3C0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BA64-9936-439A-B049-31498CE9D0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422,8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49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4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344,8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0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3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352,1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05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27"/>
          <p:cNvSpPr/>
          <p:nvPr/>
        </p:nvSpPr>
        <p:spPr>
          <a:xfrm>
            <a:off x="674532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4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17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17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28.12.2016 г. № 164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54A-6ACC-43A4-8D99-FD41505069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90BA-35D3-41F8-817C-1F14DF47BE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830-BFCF-4259-8579-44DCA6A2CD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8187-A47A-4D93-B588-F50DCFFB58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B7BB-F14E-46C2-8FE5-F706B661B4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9D57-4085-4256-921F-B194906939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C955-4085-4C18-A574-B32238DF72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DAB-C0CD-452B-B3B7-67CC12D5C8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 730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 759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 491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 73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 026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13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 004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66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4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628-C659-42F2-BB7E-CBDEA20208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69A-1CCA-4159-94D4-B1355E3ACA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User</cp:lastModifiedBy>
  <dcterms:modified xsi:type="dcterms:W3CDTF">2017-04-27T06:45:18Z</dcterms:modified>
  <cp:revision>827</cp:revision>
  <dc:subject/>
  <dc:title>Бюджет для граждан на 2014 год</dc:title>
</cp:coreProperties>
</file>