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830-A3CE-42E0-93BB-B53E0A56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CCA-2E0F-43CE-B305-11CAA60C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A898E-3B1D-4019-BF1C-B00CC034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97350-B7BB-42DD-9EF6-93FC4E1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0CEC-F78F-4F93-AC52-60BC10FC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A9B74-29B6-446B-A18A-A0C5BA9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A2973-8857-418D-8404-BA2A0B8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B0F2-5FA1-4668-86C2-11EF6FF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4F41-9D80-4932-89CB-0C0E5E8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69172-84AF-428B-9A59-C7BFEEBD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01C11-8893-4955-A896-7D2699A8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EC471-5B1C-4D8F-95BC-68CADEE0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A30-3973-47AF-B704-F26CF23E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25EF6-A214-4642-A7A9-0F8BC175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4371C-6239-4F67-B8DE-71F96E7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18D8B-21AE-4B2C-8CD6-C5E5450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DCF36-5497-441E-B9F2-4AE3DC68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E236C-DD2C-4517-B59C-0B7FBEA2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AA115-66AB-4BEB-8AF4-9822CA2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C94BF-BE29-4F6B-A8F5-1959BDE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EB251-4BB9-4883-ACCB-B0F8FC3D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498AB-51D0-40FF-A6BC-5D002F1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07C62-0C42-46EA-BDE9-360E562E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6D5-A9FC-488F-B465-DE167E91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495ED-0082-4F7C-B89E-3DA81FC5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8D448-79E0-40F6-8CDC-3817144D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FF97-EDF8-44F6-B1C0-DE1DA758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8992A-DEEB-4973-81B2-94FDB3CF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E6E4-6B89-47B3-BD9B-79F2A27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184FA-DF89-4D15-8CCB-DD513CD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1A9E7-F460-430E-8802-4B5AADE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924ED-25C2-4234-8F83-6808381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571F3-90FC-4CC8-B331-8A6CF39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65A3F-BF29-48D6-9450-E6F852F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E5E-8FC9-4896-9FB7-78239B56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6B97-69C3-43C2-91ED-9A5DACB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B2308-F08B-4390-B5AF-1E42D57F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0C75-8FBC-4A2F-807A-8F852DAC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9642-7361-406C-9B75-C61E1C41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C734B-7937-437C-B7FD-EEB7A817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E4D4D-3F24-45E4-901B-0778D0F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03B84-E164-4330-A63F-E4B2E2B3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B7068-0547-4EEA-BCED-710F0D4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78A45-7BF0-4007-96AC-33167107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83E96-F27F-4383-8965-C5BA0EE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562F-7852-4840-BEE1-9727B7C0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6D909-6EB5-4A62-9053-CD2CBCB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0B0B8-BB29-4573-BE6E-D8A54D2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4B55B-B3D3-4209-BD2F-607793E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D917C-5244-4F2B-866B-9ED8D43F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3EAA-EE0D-47D3-B176-38AB9F6B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EA56A-09A6-414F-92F9-63120837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514AE-F65E-424C-A246-0241ECA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F7FC9-230B-45FA-AC43-DE9FAD6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8F010-6F0B-4453-9C3E-B2A75CC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59433-7050-4DB0-8411-93C3E6C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683-E579-4C55-B6D8-FED77D8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9D4B3-5ECF-42FF-A4DD-080E0CB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77B58-407C-457F-A0EB-CA94286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9964F-70AA-4519-9EA1-A39B538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66B8C-CA52-4776-A768-33AAEFD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E5B1D-B346-4E50-8005-EEACB6DF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3465D-08B8-4600-BBF1-6C551FCD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B042C-B59C-4FDA-A292-9F0544E8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CF623-9B7E-4BC7-A552-06275633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4F9C0-07DE-45AD-995E-5A6E155D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60576-1C18-4DB9-95BF-35AF8FA6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7E8-C6D6-4ABB-A2D7-95C4E35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9BCB8-3FD5-4F0E-AA06-6141256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F0E05-5BA9-43C7-844A-63348D2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B27D3-F226-4AEE-B6D7-DFCC923A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F0A8A-106B-4C66-B256-8141EE7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5960C-88AB-4A57-A97F-A37E656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481F8-093E-4D92-87F4-B746D5A4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BC0D6-550F-44EE-B630-422E5604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972CD-2B80-484A-B68A-AC9593E4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4C28C-14C3-4B7D-965A-2853CC4C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40CF9-9551-4FB7-97E7-835CB93C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70CB-D69B-4515-B68B-9787BE4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678CE-19A8-4356-B609-54F3B0A5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ED060-84DF-4049-911A-9E5080B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63D89-EFED-4A63-B24F-06BB6A8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88241-973B-4305-B973-5D6B783C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194AD-77FE-4E60-B334-E767AB9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4EBC2-E166-44D3-9036-4D3EB3F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CBEE8-5A43-40F0-835A-7BBE12AD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F95F8-1A20-4A4E-AA3D-0387DA6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AC570-514C-4BC4-915F-2A67996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27648-FE36-425C-A62D-B0574876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965-E49D-4CE1-A85E-EF6507D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3EF1F-DB27-4B60-B168-AB12ED25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521C-C9CD-4C42-B9BB-E7A865E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263-ABFE-481E-BB64-9BCD0F09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FF8-2D9B-4F3E-ABD6-11FB0B9B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0CEA-FDF7-495B-A51F-B354C38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088-209D-4D89-B9DA-1E85AB25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D0E-314E-4525-BF42-4C90B57C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C46-F8E4-480F-8849-F8B5C0B7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167E-0EFD-48DF-9F9A-7EEF8657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151F-0BE2-4251-8F7F-B07958F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805F-1E17-4121-8457-EE1FF54C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471F-5EBD-4527-A58E-AA2D7495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80F4-3C84-4BA3-975B-AFFFF0C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4F1-5024-4A84-B80C-ABBE350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535D-65D5-4943-8CF9-1AC85D0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C842-5EA8-4890-A1C3-D90C564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1B0C-AE58-4CC1-AC22-5F611FF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5222-B0A5-4B42-A307-2AF90C7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7EAC-E0B3-4815-B595-1C54E7ED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08EB-FE6D-4F4D-944D-B3DABCEC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0D0B-D613-4CC1-92DF-CC7EAA41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0D37-9A68-4D1F-90C5-A6752421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37E8-46D0-430F-BCE0-AA91BAAE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F199-8636-4916-9386-78D927F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4BD-0C74-4959-8BD0-955F2D29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F00E-EEB4-455F-B6A5-621917D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F481-B4CE-4A70-B7A3-00E73DAB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7A48-523A-4A1E-B408-DAACA5B0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5D31-6C1D-4596-86CD-12F5D26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F8B5-6D68-4D33-AA35-BDBA459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D277-BD8E-42B8-9E72-AD4BDD6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8B5F-2443-4B1C-B952-598FFC71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B179-7A4E-42AE-9D1B-B83E9612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0A442-6756-4EFF-9695-D5F95A3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BE9E-DA13-4117-B5AD-8FD1B02F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894-5C05-4B78-82CA-29FA7D7C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15A6-93C3-49BA-B932-565577AF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F3BD-44BC-4E35-8453-D112F7B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3967-F538-42D9-99F1-9D3A5756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DBCE-DF5D-494E-8548-CB60FBF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DE6C-F4F0-4353-ABEF-8FB56E2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933A-27A8-43F1-BE6A-85019C8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6BCF-3963-42EA-A671-62EC125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F372-3A79-4D77-AED4-4E4E967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749D-1188-49D1-A39A-777B75E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2B3B-1A09-4146-9F58-BCAA577F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4A6-5144-4409-B2A7-288055D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A8C6-DC55-4A7D-95D0-6C5AA4F3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2924-C4EE-4100-9D7D-9EE842C7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86DAF-A4F7-4B45-95C7-F817DBC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57122-46E0-454A-9ACC-B9C9E71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8E08-C5E2-4AA1-BD39-2A995FE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5E31-74AC-48A2-80C3-110DDFF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C507-A8EB-4AA7-BC12-C7DD94E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9039-7D46-4B56-9553-0949EAA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3709-903A-413D-9D48-449DF1C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D399-9378-4730-8799-2F82400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8D5-CF21-44C7-AC3D-951A48B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2B5C6-4A0C-48B1-A59E-6208A65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3834-8230-4215-A519-EBD5A50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6FE5-A1EC-40C4-975A-7E81FFD0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82A2-1F7B-481D-9735-CCEA56FE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2020-D407-4252-9E03-4F5A3BB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06B1-1021-4F22-852F-8040BCE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0734-0513-4B69-9456-8235420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6314-E7C0-43BA-A05F-D2BCD71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4E98-4457-4366-AA13-E6E2F23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D308-03D6-4FA8-B0CB-C3B94B8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48F-9952-4A7D-A8E8-BEDEB45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1241-5742-4D2C-8DE6-E8C1270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F846A-8681-40D9-9424-63DE7D1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9338-7B8A-43A0-A3A7-1E558675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A968-C2F3-4CD5-A348-4BB738DD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D8E86-47B9-4392-8359-85C74446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4CE1-353B-4776-A572-83CBF585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B942-88B4-47B5-A8BC-9DC7987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81B5D-7835-4AFA-A599-A86C3B0A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7F58-2E69-4150-8C99-6DA76A5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576C2-61D4-4BDA-AC93-7E7DB81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6D3-FFCA-48AB-84F8-B479B60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AE41-0029-488C-9482-2CFCE1FD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4936-B702-476E-A262-BCD483C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8604-0956-4440-9258-B4F89C0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2EC2D-EF7D-44F7-9F8F-E6608B1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D661-B46A-4BDE-88D2-91759103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D9937-0021-469D-B5CC-6EF8FF4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99FC1-BB27-4298-B66C-B365ADDA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32D4-1EC3-4443-B2A3-DB52F663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8D9B-B54D-4346-92AC-0A88AE2A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97F4C-1875-47E8-9F86-6D93B2BE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A4E-ED6A-42C1-8BE1-771B4C00C0E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83A-6A97-4355-988A-AA570BF87F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334-80CC-46E8-93A4-DC522F3A095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F76-E130-474D-8EB9-598960D276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05F-E4EC-4C4B-A0D3-CC2E0706F77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A299-DFDC-4C9D-A07D-5557C52FD2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6E8-8BA0-4F57-BE54-1C26FC649F9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60C-54CC-43F9-ABC0-2A39996ADB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A929-BB0A-4F2D-9C8C-10278F57F31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0A9-93B9-41E5-BB0B-C60958050B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52C-DC91-4098-866A-B3DB1C5B9F4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C25C-FE40-49C4-8270-CFF265749D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364-C53C-4A5E-B7CF-48AB2CDF75E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C7B-6218-4AA3-A936-E01269B1ED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486B-819D-4FE1-AAAF-73B4B6E8BDD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EF4-0E8B-4263-BE99-6A8E3804A6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B38D-15BC-44EB-903E-C98D5659659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6F2-0F29-4043-ACEE-87D749B2BE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1DB-6D42-4BC7-B225-114FB46EC46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C89-6C9A-4296-9F1F-DCA039D6FD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A1B-C24B-4680-B1B5-402DEE6A795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792-83B5-43EC-BC25-79232C4FF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8B0-D62A-4A90-82B5-9B7F2D5FE0C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352F-132D-411D-8114-11190D444E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61CB-E9C3-4DA3-B856-BE09EB187C0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BD5-BA3F-4937-9AEB-50A5F520CB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9C1-E484-4F0C-AA47-206D910989A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6C3B-3CD6-4AC3-8F7C-B45F1387AF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103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103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10368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103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1036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103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1036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632-D0C5-47F8-9003-A1FE5CF804B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2CF-DE00-4F58-B638-B2D84D7344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6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06A-8B6A-4F55-91AA-76A1F482CF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DA5-F2DD-48D2-A9E3-23E68F5ACC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17 год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015920" y="1609560"/>
          <a:ext cx="8535960" cy="4876920"/>
        </p:xfrm>
        <a:graphic>
          <a:graphicData uri="http://schemas.openxmlformats.org/drawingml/2006/table">
            <a:tbl>
              <a:tblPr/>
              <a:tblGrid>
                <a:gridCol w="6235920"/>
                <a:gridCol w="2300040"/>
              </a:tblGrid>
              <a:tr h="385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9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5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4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3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72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9 5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 5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5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35 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18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AC0-D56B-4B64-9529-5DA47C5C50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86B9-2BFD-48D8-95A9-29B711B178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549-FA4B-4C9A-B344-BB144AB2EB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A2E-1F05-412D-9DB1-19249A8F29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3" name="Object 4"/>
          <p:cNvGraphicFramePr/>
          <p:nvPr/>
        </p:nvGraphicFramePr>
        <p:xfrm>
          <a:off x="1657440" y="1625760"/>
          <a:ext cx="752472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625760"/>
                    <a:ext cx="7524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8339-C50B-43D5-BFA3-47523FF848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5F4-0F39-4F2E-A665-FE68148D5C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1960560" y="1052640"/>
          <a:ext cx="6289560" cy="5554440"/>
        </p:xfrm>
        <a:graphic>
          <a:graphicData uri="http://schemas.openxmlformats.org/drawingml/2006/table">
            <a:tbl>
              <a:tblPr/>
              <a:tblGrid>
                <a:gridCol w="3381840"/>
                <a:gridCol w="1228680"/>
                <a:gridCol w="1247760"/>
                <a:gridCol w="216000"/>
                <a:gridCol w="2160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 4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2 5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 7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4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7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2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4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 8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 7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1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 1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0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E45-245A-424D-AB77-FC79415B03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642F-B417-4946-AF52-1E13C86AD1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2" name="Object 4"/>
          <p:cNvGraphicFramePr/>
          <p:nvPr/>
        </p:nvGraphicFramePr>
        <p:xfrm>
          <a:off x="466560" y="2328840"/>
          <a:ext cx="8963280" cy="36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28840"/>
                    <a:ext cx="896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B65-5CF6-42C4-AF9E-FB8B5E3B15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9B4-0A64-4F64-9CEA-46CE946085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7" name="Object 4"/>
          <p:cNvGraphicFramePr/>
          <p:nvPr/>
        </p:nvGraphicFramePr>
        <p:xfrm>
          <a:off x="378000" y="2014560"/>
          <a:ext cx="936144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014560"/>
                    <a:ext cx="93614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9C3D-66E6-4E37-AAE9-77EB2C1235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9944-EDDD-4B61-A0FD-8E0BFE3F04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3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48C-FCFB-4CA0-843F-C8BC568D93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87AE-EC1A-4763-A055-67FACCB191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3" name="Object 4"/>
          <p:cNvGraphicFramePr/>
          <p:nvPr/>
        </p:nvGraphicFramePr>
        <p:xfrm>
          <a:off x="276120" y="2432160"/>
          <a:ext cx="91868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432160"/>
                    <a:ext cx="91868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93F7-2AA1-4796-85CE-91BF777533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053E-FBFE-4B6E-A8D1-8344252FDF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C3F-FCF9-432E-AEDC-FB5A035B05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B402-29E5-4FB9-97B3-C3E9391056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39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7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8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49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1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2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61B-0223-4549-9F34-D931A6EC94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BDD0-D7C0-4FFD-8D97-BBE9790CCB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6F8-25F6-4E2B-8A08-9C75742476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5CC9-937D-4482-A799-8D71E68B6F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8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362-9E29-4879-9402-CCADFF2001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4CD-8F6D-4D3E-B43F-33D15D242A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959120" y="1990800"/>
          <a:ext cx="6270480" cy="3778200"/>
        </p:xfrm>
        <a:graphic>
          <a:graphicData uri="http://schemas.openxmlformats.org/drawingml/2006/table">
            <a:tbl>
              <a:tblPr/>
              <a:tblGrid>
                <a:gridCol w="3255840"/>
                <a:gridCol w="301464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459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49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9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071-8848-4BDD-90FC-15C5FFBF32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CB91-1A5C-4421-930E-516E47BA94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2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5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6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6E7-9BAD-4E7A-9A40-07641DA028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C39-4671-49EF-BAE2-AB95987530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571680" y="2690640"/>
          <a:ext cx="7716600" cy="2982960"/>
        </p:xfrm>
        <a:graphic>
          <a:graphicData uri="http://schemas.openxmlformats.org/drawingml/2006/table">
            <a:tbl>
              <a:tblPr/>
              <a:tblGrid>
                <a:gridCol w="3821040"/>
                <a:gridCol w="389556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99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527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253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Your User Name</cp:lastModifiedBy>
  <dcterms:modified xsi:type="dcterms:W3CDTF">2018-04-20T12:40:04Z</dcterms:modified>
  <cp:revision>882</cp:revision>
  <dc:subject/>
  <dc:title>Бюджет для граждан на 2014 год</dc:title>
</cp:coreProperties>
</file>