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2FE3-3EB1-45B4-9D04-D579BE0715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F789-EFA2-4A45-AFC9-1EE005F246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F942-BBEA-4ED4-96DF-2CCC1089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8256-785C-4DAE-A600-50150BF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1823-DDCF-4E98-9BDD-B6A4EA59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1ED2-82B1-497B-A39D-19C6DDAF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48C1-DE34-4ED7-B23B-4A8383DE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850-2266-4192-B9F9-24257028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0C4C-49BF-4734-B3C7-05FECDD8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073-4513-4BCA-B284-935E2801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3976-CA7F-4699-AE62-FA61D77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7AAC-F1AB-4593-BADA-C23835D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A917-7572-4CA9-8F5A-8D67C88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C4C3-D081-4FC9-AA4D-D225FF9C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67B7-CEC1-439A-B84F-DA106DC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030B-0CC2-4FCA-9952-C4DFAD2A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F9C7-806A-4AE7-AD0A-6ACC085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4406-F1B8-4094-B424-DFAE1707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B4CF-EF71-4CD2-AFFB-9CE7E360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946A-3CEB-4E1E-8877-6DFEF2E2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AFCC-B957-4E27-B311-33EFB51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1C9F-B23E-49C7-9ADC-562F749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B23F-1297-4AF7-9927-30BD76DF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1925-E940-4042-84BE-BF7B6D58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CB1E-59C8-4C66-9A98-9570B72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68F4-4C08-4903-AD4C-0EE61BF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5A1-B6F4-4800-9069-50DD38C58B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8D1F-ED0C-4F43-99BC-82979F37573D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2127-5BC5-41AE-8538-BA6651A54406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F49F-9DBD-4C2C-8054-680BBCFC75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026A-1877-47CF-8FFF-611F7D5354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29BD-0112-4C15-BEA3-38480B5F0A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Расходы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Times New Roman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505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2280" y="245124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6  ГОД –  19780,4 ТЫС.РУБ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7 ГОД – 19297,5 ТЫС.РУБ.</a:t>
            </a:r>
            <a:br>
              <a:rPr sz="1600"/>
            </a:b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2018 ГОД – 19554,0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2280" y="1143000"/>
            <a:ext cx="8420040" cy="119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расходы на дополнительное образование дете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B04-39BF-470D-B856-E9FC6F4F34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C:\Users\Кривошеина ТА\Desktop\hAA92US1dEc.jpg"/>
          <p:cNvPicPr/>
          <p:nvPr/>
        </p:nvPicPr>
        <p:blipFill>
          <a:blip r:embed="rId1"/>
          <a:stretch/>
        </p:blipFill>
        <p:spPr>
          <a:xfrm>
            <a:off x="1036800" y="3486240"/>
            <a:ext cx="3309840" cy="2324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Кривошеина ТА\Desktop\lop.jpg"/>
          <p:cNvPicPr/>
          <p:nvPr/>
        </p:nvPicPr>
        <p:blipFill>
          <a:blip r:embed="rId2"/>
          <a:stretch/>
        </p:blipFill>
        <p:spPr>
          <a:xfrm>
            <a:off x="5626080" y="3835440"/>
            <a:ext cx="3314880" cy="2222640"/>
          </a:xfrm>
          <a:prstGeom prst="rect">
            <a:avLst/>
          </a:prstGeom>
          <a:ln w="25560">
            <a:solidFill>
              <a:srgbClr val="6f6fbc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униципальная программа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Развитие образования Ленского муниципального района» (2015-2018 годы)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95360" y="1981080"/>
          <a:ext cx="8940600" cy="3551400"/>
        </p:xfrm>
        <a:graphic>
          <a:graphicData uri="http://schemas.openxmlformats.org/drawingml/2006/table">
            <a:tbl>
              <a:tblPr/>
              <a:tblGrid>
                <a:gridCol w="2343240"/>
                <a:gridCol w="2212920"/>
                <a:gridCol w="2185920"/>
                <a:gridCol w="219852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75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0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250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1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8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8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9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ё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1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8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23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EE2F-434C-4B5C-B818-DB70AC46AD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6613-1D23-411A-9C4E-79B5B865EF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5432-5D99-4540-89AA-F702CAAE5B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330120" y="596880"/>
            <a:ext cx="932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инициатив и поддержка различных социальных групп населения Ленского район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49160" y="4861080"/>
            <a:ext cx="3314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7d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56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- 40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8 год- 35,1 тыс.руб.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118120" y="2146320"/>
            <a:ext cx="369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69,4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 – 469,2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8 год – 480,1 тыс.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4965840" y="1308240"/>
            <a:ext cx="42764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1206360" y="2806560"/>
            <a:ext cx="2374920" cy="1575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4851360" y="4280040"/>
            <a:ext cx="3251160" cy="20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8585-E4C2-4225-BABD-756F07257D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E510-EF3C-49D9-8015-E8B0AA981A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216000" y="406440"/>
            <a:ext cx="890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Устойчивое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развитие сельски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территорий Ленского район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"/>
          <p:cNvSpPr/>
          <p:nvPr/>
        </p:nvSpPr>
        <p:spPr>
          <a:xfrm>
            <a:off x="152280" y="210816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 2093,2 тыс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 10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6"/>
          <p:cNvSpPr/>
          <p:nvPr/>
        </p:nvSpPr>
        <p:spPr>
          <a:xfrm>
            <a:off x="4483080" y="2044800"/>
            <a:ext cx="51814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7 год – 2093,2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1755,8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274,8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62,6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2018 год  -100,0 тыс.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100,0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0935-1A0C-4D59-9EE6-FD78D26EC4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860-2C3E-4ABF-A683-49218829B3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601560"/>
            <a:ext cx="913896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Профилактика безнадзорности  и иных правонарушений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576760" y="3278160"/>
            <a:ext cx="39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  2017         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50"/>
          <p:cNvSpPr/>
          <p:nvPr/>
        </p:nvSpPr>
        <p:spPr>
          <a:xfrm>
            <a:off x="193680" y="4005360"/>
            <a:ext cx="53071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 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0"/>
          <p:cNvSpPr/>
          <p:nvPr/>
        </p:nvSpPr>
        <p:spPr>
          <a:xfrm>
            <a:off x="5654520" y="4005360"/>
            <a:ext cx="132588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0"/>
          <p:cNvSpPr/>
          <p:nvPr/>
        </p:nvSpPr>
        <p:spPr>
          <a:xfrm>
            <a:off x="7058160" y="4005360"/>
            <a:ext cx="124920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8383680" y="4005360"/>
            <a:ext cx="117144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004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50"/>
          <p:cNvSpPr/>
          <p:nvPr/>
        </p:nvSpPr>
        <p:spPr>
          <a:xfrm>
            <a:off x="193680" y="5084640"/>
            <a:ext cx="530712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0"/>
          <p:cNvSpPr/>
          <p:nvPr/>
        </p:nvSpPr>
        <p:spPr>
          <a:xfrm>
            <a:off x="5654520" y="5084640"/>
            <a:ext cx="132588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50"/>
          <p:cNvSpPr/>
          <p:nvPr/>
        </p:nvSpPr>
        <p:spPr>
          <a:xfrm>
            <a:off x="7058160" y="5084640"/>
            <a:ext cx="124920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50"/>
          <p:cNvSpPr/>
          <p:nvPr/>
        </p:nvSpPr>
        <p:spPr>
          <a:xfrm>
            <a:off x="8383680" y="5084640"/>
            <a:ext cx="117144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584600" y="1827360"/>
            <a:ext cx="50673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964,4 тыс. руб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  969,4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1009,0 тыс.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0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BB9-A7C8-4C7C-AA3D-BE22017A28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21C9-2710-42B4-88E5-92150576D4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сферы культуры в Ленском райо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715000" y="4114800"/>
            <a:ext cx="37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    2017           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50"/>
          <p:cNvSpPr/>
          <p:nvPr/>
        </p:nvSpPr>
        <p:spPr>
          <a:xfrm>
            <a:off x="279360" y="4483080"/>
            <a:ext cx="464832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0"/>
          <p:cNvSpPr/>
          <p:nvPr/>
        </p:nvSpPr>
        <p:spPr>
          <a:xfrm>
            <a:off x="5384880" y="5194440"/>
            <a:ext cx="13590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5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0"/>
          <p:cNvSpPr/>
          <p:nvPr/>
        </p:nvSpPr>
        <p:spPr>
          <a:xfrm>
            <a:off x="7023240" y="5207040"/>
            <a:ext cx="1296720" cy="444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658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50"/>
          <p:cNvSpPr/>
          <p:nvPr/>
        </p:nvSpPr>
        <p:spPr>
          <a:xfrm>
            <a:off x="8459640" y="516888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585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50"/>
          <p:cNvSpPr/>
          <p:nvPr/>
        </p:nvSpPr>
        <p:spPr>
          <a:xfrm>
            <a:off x="279360" y="5156280"/>
            <a:ext cx="46735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 культу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0"/>
          <p:cNvSpPr/>
          <p:nvPr/>
        </p:nvSpPr>
        <p:spPr>
          <a:xfrm>
            <a:off x="5372280" y="5829480"/>
            <a:ext cx="132048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94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50"/>
          <p:cNvSpPr/>
          <p:nvPr/>
        </p:nvSpPr>
        <p:spPr>
          <a:xfrm>
            <a:off x="6994440" y="584208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072,8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0"/>
          <p:cNvSpPr/>
          <p:nvPr/>
        </p:nvSpPr>
        <p:spPr>
          <a:xfrm>
            <a:off x="8485200" y="5829480"/>
            <a:ext cx="1204920" cy="406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682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7"/>
          <p:cNvSpPr/>
          <p:nvPr/>
        </p:nvSpPr>
        <p:spPr>
          <a:xfrm>
            <a:off x="5448240" y="838080"/>
            <a:ext cx="41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41,4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45,5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50"/>
          <p:cNvSpPr/>
          <p:nvPr/>
        </p:nvSpPr>
        <p:spPr>
          <a:xfrm>
            <a:off x="5397480" y="449568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8659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50"/>
          <p:cNvSpPr/>
          <p:nvPr/>
        </p:nvSpPr>
        <p:spPr>
          <a:xfrm>
            <a:off x="6988320" y="4495680"/>
            <a:ext cx="1325520" cy="393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703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0"/>
          <p:cNvSpPr/>
          <p:nvPr/>
        </p:nvSpPr>
        <p:spPr>
          <a:xfrm>
            <a:off x="8432640" y="4495680"/>
            <a:ext cx="125748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217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50"/>
          <p:cNvSpPr/>
          <p:nvPr/>
        </p:nvSpPr>
        <p:spPr>
          <a:xfrm>
            <a:off x="266760" y="5803920"/>
            <a:ext cx="466092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46160" y="1803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803240"/>
            <a:ext cx="3159000" cy="20876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634080" y="1803240"/>
            <a:ext cx="315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7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8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7BE9-9BFA-4C15-91E8-ED20FE2248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6C81-0A67-4E24-B2FB-9A21D9B1C2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291960" y="380880"/>
            <a:ext cx="92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П «Поддержка семьи в Ленском район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5283360" y="110484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5 год –  1580,1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6 год –  1296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 1402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0"/>
          <p:cNvSpPr/>
          <p:nvPr/>
        </p:nvSpPr>
        <p:spPr>
          <a:xfrm>
            <a:off x="266760" y="4381560"/>
            <a:ext cx="4648320" cy="20318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1205,5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1687,7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8 год – 1748,2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50"/>
          <p:cNvSpPr/>
          <p:nvPr/>
        </p:nvSpPr>
        <p:spPr>
          <a:xfrm>
            <a:off x="5003640" y="2616120"/>
            <a:ext cx="4470480" cy="1981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6 год – 91,3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7 год – 91,3 т.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18 год – 91,3 т.р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1155600" y="2031840"/>
            <a:ext cx="32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613480" y="47624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28D3-72CF-41A4-BFF9-6A60D877B1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EF1C-8249-458D-A50B-5A04ACCBD5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84280" y="378000"/>
            <a:ext cx="88264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в сфере экономики и ЖК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7"/>
          <p:cNvSpPr/>
          <p:nvPr/>
        </p:nvSpPr>
        <p:spPr>
          <a:xfrm>
            <a:off x="673200" y="2006640"/>
            <a:ext cx="8481960" cy="388620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здание условий для развития сельского хозяй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емонт и содержание сети автомобильных дорог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малого и среднего предпринимательс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Развитие торгов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851-381A-4E70-8BEE-EE3CB66DC9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FF9-756A-49C0-BA26-CE384EEE15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П «Развитие малого, среднего предпринимательства и создание условий для развития сельского хозяйств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3"/>
          <p:cNvSpPr/>
          <p:nvPr/>
        </p:nvSpPr>
        <p:spPr>
          <a:xfrm>
            <a:off x="5892840" y="1600200"/>
            <a:ext cx="370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– 2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8 год – 30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0"/>
          <p:cNvSpPr/>
          <p:nvPr/>
        </p:nvSpPr>
        <p:spPr>
          <a:xfrm>
            <a:off x="420840" y="2451240"/>
            <a:ext cx="4306680" cy="1523880"/>
          </a:xfrm>
          <a:prstGeom prst="roundRect">
            <a:avLst>
              <a:gd name="adj" fmla="val 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итие малого и средн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едприниматель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7 год  -33,2 т.р.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100,0 т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Прямоугольник 14"/>
          <p:cNvSpPr/>
          <p:nvPr/>
        </p:nvSpPr>
        <p:spPr>
          <a:xfrm flipV="1">
            <a:off x="368280" y="2551680"/>
            <a:ext cx="4572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5156280" y="2766960"/>
            <a:ext cx="447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4265640"/>
            <a:ext cx="3994200" cy="234144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4" descr="P1010120.JPG"/>
          <p:cNvPicPr/>
          <p:nvPr/>
        </p:nvPicPr>
        <p:blipFill>
          <a:blip r:embed="rId2"/>
          <a:stretch/>
        </p:blipFill>
        <p:spPr>
          <a:xfrm>
            <a:off x="5767560" y="414324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06F5-6CC8-411F-9705-DF38C2879D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Times New Roman"/>
              </a:rPr>
              <a:t>МП «Ремонт и содержание сети автомобильных дорог в Ленском  районе»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67B7-D21F-4D36-80F1-249052787A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5124600" y="1692360"/>
            <a:ext cx="429876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7,3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6,0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6,5 млн.рублей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9 год –6,8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9"/>
          <p:cNvSpPr/>
          <p:nvPr/>
        </p:nvSpPr>
        <p:spPr>
          <a:xfrm>
            <a:off x="291960" y="1930320"/>
            <a:ext cx="38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11"/>
          <p:cNvSpPr/>
          <p:nvPr/>
        </p:nvSpPr>
        <p:spPr>
          <a:xfrm flipH="1">
            <a:off x="6350040" y="551196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3740-4761-4EE9-A294-472E11FC44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1C2-234D-4872-822A-11754F62E5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495360" y="1673280"/>
            <a:ext cx="4602240" cy="987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7 год – 509527,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336760" y="3273480"/>
            <a:ext cx="4602240" cy="987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8 год – 514415,9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4952880" y="4950000"/>
            <a:ext cx="4602240" cy="987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9 год – 512347,6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0B8F-2851-424C-BCF8-DA0946A46F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6003-411F-4F87-B3A8-BBFC4958C4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Развитие торговли на территории» МО «Ленский муниципальный район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50"/>
          <p:cNvSpPr/>
          <p:nvPr/>
        </p:nvSpPr>
        <p:spPr>
          <a:xfrm>
            <a:off x="190440" y="2717640"/>
            <a:ext cx="4826160" cy="2374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174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8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6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7 год – 25,0 тыс.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8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217,1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CA0A-7731-4430-987D-70C5F8FBE9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BE4A-33CD-4F30-941F-6A329F547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98400" y="604440"/>
            <a:ext cx="890280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аправленные на решение 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х вопро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27"/>
          <p:cNvSpPr/>
          <p:nvPr/>
        </p:nvSpPr>
        <p:spPr>
          <a:xfrm>
            <a:off x="619200" y="2451240"/>
            <a:ext cx="8502480" cy="37195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муниципальной служб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Управление муниципальными финанса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Совершенствование муниципальн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управления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CF59-195E-4D21-9E37-4C289D9E2C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4527-6601-4D14-A0C5-E5E98929CB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5613480" y="1595520"/>
            <a:ext cx="4046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14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16,4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18,8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560" y="768240"/>
            <a:ext cx="942660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П «Управление муниципальными финансами и муниципальным долго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6B29-1843-4BC9-8354-67014CF15A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F36F-D893-4232-8CCF-9F8E05AE1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35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50"/>
          <p:cNvSpPr/>
          <p:nvPr/>
        </p:nvSpPr>
        <p:spPr>
          <a:xfrm>
            <a:off x="3705120" y="1484280"/>
            <a:ext cx="93672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50"/>
          <p:cNvSpPr/>
          <p:nvPr/>
        </p:nvSpPr>
        <p:spPr>
          <a:xfrm>
            <a:off x="4795920" y="14842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50"/>
          <p:cNvSpPr/>
          <p:nvPr/>
        </p:nvSpPr>
        <p:spPr>
          <a:xfrm>
            <a:off x="5888160" y="148428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9,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      2017     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50"/>
          <p:cNvSpPr/>
          <p:nvPr/>
        </p:nvSpPr>
        <p:spPr>
          <a:xfrm>
            <a:off x="3705120" y="2276640"/>
            <a:ext cx="93672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50"/>
          <p:cNvSpPr/>
          <p:nvPr/>
        </p:nvSpPr>
        <p:spPr>
          <a:xfrm>
            <a:off x="4795920" y="227664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0"/>
          <p:cNvSpPr/>
          <p:nvPr/>
        </p:nvSpPr>
        <p:spPr>
          <a:xfrm>
            <a:off x="5888160" y="2276640"/>
            <a:ext cx="93816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0"/>
          <p:cNvSpPr/>
          <p:nvPr/>
        </p:nvSpPr>
        <p:spPr>
          <a:xfrm>
            <a:off x="3705120" y="3141720"/>
            <a:ext cx="936720" cy="75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205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0"/>
          <p:cNvSpPr/>
          <p:nvPr/>
        </p:nvSpPr>
        <p:spPr>
          <a:xfrm>
            <a:off x="4795920" y="314172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87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50"/>
          <p:cNvSpPr/>
          <p:nvPr/>
        </p:nvSpPr>
        <p:spPr>
          <a:xfrm>
            <a:off x="5888160" y="3141720"/>
            <a:ext cx="9381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48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0"/>
          <p:cNvSpPr/>
          <p:nvPr/>
        </p:nvSpPr>
        <p:spPr>
          <a:xfrm>
            <a:off x="3705120" y="4076640"/>
            <a:ext cx="93672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0"/>
          <p:cNvSpPr/>
          <p:nvPr/>
        </p:nvSpPr>
        <p:spPr>
          <a:xfrm>
            <a:off x="4795920" y="4051440"/>
            <a:ext cx="938160" cy="8506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50"/>
          <p:cNvSpPr/>
          <p:nvPr/>
        </p:nvSpPr>
        <p:spPr>
          <a:xfrm>
            <a:off x="5888160" y="4102200"/>
            <a:ext cx="938160" cy="812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3706920" y="6237360"/>
            <a:ext cx="93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507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4799160" y="6237360"/>
            <a:ext cx="93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89,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50"/>
          <p:cNvSpPr/>
          <p:nvPr/>
        </p:nvSpPr>
        <p:spPr>
          <a:xfrm>
            <a:off x="5889600" y="62373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093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0"/>
          <p:cNvSpPr/>
          <p:nvPr/>
        </p:nvSpPr>
        <p:spPr>
          <a:xfrm>
            <a:off x="5888160" y="544500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0"/>
          <p:cNvSpPr/>
          <p:nvPr/>
        </p:nvSpPr>
        <p:spPr>
          <a:xfrm>
            <a:off x="4770360" y="5470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50"/>
          <p:cNvSpPr/>
          <p:nvPr/>
        </p:nvSpPr>
        <p:spPr>
          <a:xfrm>
            <a:off x="3691080" y="54705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64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65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366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500"/>
                            </p:stCondLst>
                            <p:childTnLst>
                              <p:par>
                                <p:cTn id="7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75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8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95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45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6500"/>
                            </p:stCondLst>
                            <p:childTnLst>
                              <p:par>
                                <p:cTn id="8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77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6" dur="770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95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8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1500"/>
                            </p:stCondLst>
                            <p:childTnLst>
                              <p:par>
                                <p:cTn id="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3500"/>
                            </p:stCondLst>
                            <p:childTnLst>
                              <p:par>
                                <p:cTn id="8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77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9" dur="770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1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3" dur="77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500"/>
                            </p:stCondLst>
                            <p:childTnLst>
                              <p:par>
                                <p:cTn id="8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77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9" dur="770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7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8500"/>
                            </p:stCondLst>
                            <p:childTnLst>
                              <p:par>
                                <p:cTn id="8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1500"/>
                            </p:stCondLst>
                            <p:childTnLst>
                              <p:par>
                                <p:cTn id="8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77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2" dur="770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4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6" dur="77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3500"/>
                            </p:stCondLst>
                            <p:childTnLst>
                              <p:par>
                                <p:cTn id="8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3450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55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365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7500"/>
                            </p:stCondLst>
                            <p:childTnLst>
                              <p:par>
                                <p:cTn id="9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3D69-23C7-4772-BF03-DFD3295AFE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8F3D-F3BD-4032-99EC-B896D22249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программные расходы -4,6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662040" y="83664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ая часть бюджета – 95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Непрограммные расходы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год – 1481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год – 1542,9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1500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   1502,5 тыс.рублей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235,3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179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 131,7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450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7 год –  866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999,5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76120" y="80316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5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4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633A-C450-4C0F-BB3C-BF229F2C0B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ABE-CF43-447E-8818-4F95AE5329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Дефицит бюджета 201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0000ff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19000" y="1069920"/>
            <a:ext cx="19512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445,0  м.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5200" y="5181480"/>
            <a:ext cx="2338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435,9 м.р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356000" y="336240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,1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751280" y="49546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5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987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000"/>
                            </p:stCondLst>
                            <p:childTnLst>
                              <p:par>
                                <p:cTn id="9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006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1012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5B57-5268-44BF-BED1-B067EC63F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97A1-3C1B-4F3B-94FE-68F8D870A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4440" y="30636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ро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Но чаще всего расходы превышают доходы. В таком случае возникает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дефици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кредит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полученные от кредитных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изменение остатков</a:t>
            </a:r>
            <a:r>
              <a:rPr b="0" lang="ru-RU" sz="1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средств на счетах по учету средств местного бюдже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7d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C3FE-9364-40FC-A636-374D4B6290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2298-5E5B-4AED-AFE8-CE794C928D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2"/>
          <p:cNvSpPr/>
          <p:nvPr/>
        </p:nvSpPr>
        <p:spPr>
          <a:xfrm rot="16200000">
            <a:off x="1112760" y="2090520"/>
            <a:ext cx="3463920" cy="35053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8.05.15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9,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7d"/>
                </a:solidFill>
                <a:latin typeface="Arial"/>
              </a:rPr>
              <a:t>На 01.01.2017 – 16,1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160880" y="299556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1930320" y="3809880"/>
            <a:ext cx="1752840" cy="10717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8"/>
          <p:cNvSpPr/>
          <p:nvPr/>
        </p:nvSpPr>
        <p:spPr>
          <a:xfrm rot="16200000">
            <a:off x="5435640" y="2197080"/>
            <a:ext cx="3454560" cy="327672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01.09.16 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13,4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6095880" y="3860640"/>
            <a:ext cx="1905120" cy="1049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2" descr=""/>
          <p:cNvPicPr/>
          <p:nvPr/>
        </p:nvPicPr>
        <p:blipFill>
          <a:blip r:embed="rId3"/>
          <a:stretch/>
        </p:blipFill>
        <p:spPr>
          <a:xfrm>
            <a:off x="1905120" y="3809880"/>
            <a:ext cx="1930320" cy="10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643D-ED9F-44DA-A295-CDDE335DF8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7B7-9C33-4BC1-8849-6859A84EA4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Информация для контакт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23440" y="1166760"/>
            <a:ext cx="8915400" cy="39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47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657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рхангельская область, Ленский район, село Яренск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ул. Братьев Покровских, дом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Телефон:  8 (81859) 5-24-09, факс: 8 (81859) 5-25-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Times New Roman"/>
              </a:rPr>
              <a:t>адрес электронной почты: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</a:rPr>
              <a:t>feuyarensk@yandex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7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3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507-0197-4632-8C46-D418991356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152-B882-4786-A488-D4EC6ED039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6120" y="1460520"/>
          <a:ext cx="8991720" cy="5397480"/>
        </p:xfrm>
        <a:graphic>
          <a:graphicData uri="http://schemas.openxmlformats.org/drawingml/2006/table">
            <a:tbl>
              <a:tblPr/>
              <a:tblGrid>
                <a:gridCol w="2908440"/>
                <a:gridCol w="1231920"/>
                <a:gridCol w="1180800"/>
                <a:gridCol w="1257480"/>
                <a:gridCol w="1104840"/>
                <a:gridCol w="1308240"/>
              </a:tblGrid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6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180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09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5144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123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306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8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8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716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86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050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2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3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3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7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8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9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02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8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9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30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58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29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04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3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62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7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6297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795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797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9090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053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4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14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550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860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401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60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55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4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83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7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195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8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29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307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70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84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966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54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Times New Roman"/>
                        </a:rPr>
                        <a:t>65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4D7A-DEDC-4271-A314-1D12567CC9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0C73-DC49-4A13-A760-36933487FA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ая сфера 2018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7d"/>
                </a:solidFill>
                <a:latin typeface="Tahoma"/>
              </a:rPr>
              <a:t>91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1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0,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5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руг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3ACD-10F0-4ED9-8D2E-F105DEE971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0272-5841-45E1-A8A4-DADFA4221F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2400" y="723600"/>
            <a:ext cx="89154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590400" y="5938920"/>
            <a:ext cx="46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052640" y="5818320"/>
            <a:ext cx="62676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484520" y="5818320"/>
            <a:ext cx="628920" cy="9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052640" y="5724360"/>
            <a:ext cx="626760" cy="9396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484520" y="5710320"/>
            <a:ext cx="628920" cy="1080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052640" y="3749760"/>
            <a:ext cx="626760" cy="1976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84520" y="3699000"/>
            <a:ext cx="628920" cy="2011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052640" y="3656160"/>
            <a:ext cx="626760" cy="9360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4484520" y="3627360"/>
            <a:ext cx="628920" cy="716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1052640" y="3241800"/>
            <a:ext cx="626760" cy="414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4484520" y="3273480"/>
            <a:ext cx="628920" cy="3538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1052640" y="3193920"/>
            <a:ext cx="626760" cy="6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2"/>
          <p:cNvSpPr/>
          <p:nvPr/>
        </p:nvSpPr>
        <p:spPr>
          <a:xfrm>
            <a:off x="4484520" y="3132000"/>
            <a:ext cx="621000" cy="119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"/>
          <p:cNvSpPr/>
          <p:nvPr/>
        </p:nvSpPr>
        <p:spPr>
          <a:xfrm>
            <a:off x="1052640" y="2933640"/>
            <a:ext cx="636480" cy="2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4484520" y="2895480"/>
            <a:ext cx="6210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7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06908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8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6056280" y="2093760"/>
            <a:ext cx="3413160" cy="4106880"/>
          </a:xfrm>
          <a:prstGeom prst="rect">
            <a:avLst/>
          </a:prstGeom>
          <a:solidFill>
            <a:srgbClr val="dc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6297480" y="2430360"/>
            <a:ext cx="11916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4"/>
          <p:cNvSpPr/>
          <p:nvPr/>
        </p:nvSpPr>
        <p:spPr>
          <a:xfrm>
            <a:off x="6564240" y="237168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297480" y="3000240"/>
            <a:ext cx="119160" cy="1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6627240" y="294156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6284880" y="3479760"/>
            <a:ext cx="119160" cy="1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2"/>
          <p:cNvSpPr/>
          <p:nvPr/>
        </p:nvSpPr>
        <p:spPr>
          <a:xfrm>
            <a:off x="6598800" y="337176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3"/>
          <p:cNvSpPr/>
          <p:nvPr/>
        </p:nvSpPr>
        <p:spPr>
          <a:xfrm>
            <a:off x="6284880" y="407988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625080" y="4010040"/>
            <a:ext cx="27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счетный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6284880" y="4668840"/>
            <a:ext cx="11916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6"/>
          <p:cNvSpPr/>
          <p:nvPr/>
        </p:nvSpPr>
        <p:spPr>
          <a:xfrm>
            <a:off x="6550560" y="459900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7"/>
          <p:cNvSpPr/>
          <p:nvPr/>
        </p:nvSpPr>
        <p:spPr>
          <a:xfrm>
            <a:off x="6284880" y="525924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8"/>
          <p:cNvSpPr/>
          <p:nvPr/>
        </p:nvSpPr>
        <p:spPr>
          <a:xfrm>
            <a:off x="6591600" y="518796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6284880" y="5848200"/>
            <a:ext cx="119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6595200" y="577836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1"/>
          <p:cNvSpPr/>
          <p:nvPr/>
        </p:nvSpPr>
        <p:spPr>
          <a:xfrm>
            <a:off x="177840" y="561492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14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"/>
          <p:cNvSpPr/>
          <p:nvPr/>
        </p:nvSpPr>
        <p:spPr>
          <a:xfrm>
            <a:off x="3693960" y="56656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337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4"/>
          <p:cNvSpPr/>
          <p:nvPr/>
        </p:nvSpPr>
        <p:spPr>
          <a:xfrm>
            <a:off x="1754280" y="555624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481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154480" y="554364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42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190440" y="458136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29408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9"/>
          <p:cNvSpPr/>
          <p:nvPr/>
        </p:nvSpPr>
        <p:spPr>
          <a:xfrm>
            <a:off x="3627360" y="45813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30081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0"/>
          <p:cNvSpPr/>
          <p:nvPr/>
        </p:nvSpPr>
        <p:spPr>
          <a:xfrm>
            <a:off x="165240" y="353520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0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3679920" y="34718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50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1689120" y="3149640"/>
            <a:ext cx="819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131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97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5114880" y="33098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5126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8"/>
          <p:cNvSpPr/>
          <p:nvPr/>
        </p:nvSpPr>
        <p:spPr>
          <a:xfrm>
            <a:off x="3705120" y="299736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450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74"/>
          <p:cNvSpPr/>
          <p:nvPr/>
        </p:nvSpPr>
        <p:spPr>
          <a:xfrm>
            <a:off x="5189400" y="2840040"/>
            <a:ext cx="81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7122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5"/>
          <p:cNvSpPr/>
          <p:nvPr/>
        </p:nvSpPr>
        <p:spPr>
          <a:xfrm>
            <a:off x="1625760" y="2890800"/>
            <a:ext cx="10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6820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950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AFB8-3905-4AC8-8F9A-7094F307F9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431A-4975-4970-8436-EE3E93E54A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0000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8BE4-C9FA-4696-B0A1-AD21FDB38E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0993-3A22-43E1-B3FA-6C5DC5CCFC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Муниципальные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7d"/>
                </a:solidFill>
                <a:latin typeface="Times New Roman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7"/>
          <p:cNvSpPr/>
          <p:nvPr/>
        </p:nvSpPr>
        <p:spPr>
          <a:xfrm>
            <a:off x="888840" y="1625760"/>
            <a:ext cx="7670880" cy="4914720"/>
          </a:xfrm>
          <a:prstGeom prst="roundRect">
            <a:avLst>
              <a:gd name="adj" fmla="val 16667"/>
            </a:avLst>
          </a:prstGeom>
          <a:solidFill>
            <a:srgbClr val="9999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образования Ленс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«Развитие местного самоуправления в МО «Ленский муниципа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йон  и поддержка социально-ориентированных некоммерческ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рганизаций»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сферы культуры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Развитие физической культуры, спорта, туризма, повы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ффективности реализации молодёжной и семейной полити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Обеспечение качественным, доступным жильем и объектами жилищ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коммунального хозяйства насе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Профилактика безнадзорности и правонарушений несовершеннолетних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ойчивое развитие сельских территор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9FC4-33C1-4438-B504-53AB213F16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CF0D-07C3-4E43-B4AD-96E550BE6A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50"/>
          <p:cNvSpPr/>
          <p:nvPr/>
        </p:nvSpPr>
        <p:spPr>
          <a:xfrm>
            <a:off x="291960" y="1062000"/>
            <a:ext cx="5102280" cy="424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564160" y="917640"/>
            <a:ext cx="4110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6 год – 465,2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7 год – 386,6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018 год – 388,4 млн.рубле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0"/>
          <p:cNvSpPr/>
          <p:nvPr/>
        </p:nvSpPr>
        <p:spPr>
          <a:xfrm>
            <a:off x="219240" y="158760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0"/>
          <p:cNvSpPr/>
          <p:nvPr/>
        </p:nvSpPr>
        <p:spPr>
          <a:xfrm>
            <a:off x="231840" y="28782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0"/>
          <p:cNvSpPr/>
          <p:nvPr/>
        </p:nvSpPr>
        <p:spPr>
          <a:xfrm>
            <a:off x="228600" y="4038480"/>
            <a:ext cx="5178600" cy="44460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1365120" y="347760"/>
            <a:ext cx="703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18 годы)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50"/>
          <p:cNvSpPr/>
          <p:nvPr/>
        </p:nvSpPr>
        <p:spPr>
          <a:xfrm>
            <a:off x="254160" y="5460840"/>
            <a:ext cx="5190840" cy="774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0"/>
          <p:cNvSpPr/>
          <p:nvPr/>
        </p:nvSpPr>
        <p:spPr>
          <a:xfrm>
            <a:off x="241200" y="461016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C1D7-B93E-4123-B61F-0456A3C84A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673F-5BF4-4F2A-BC73-0BB24491DA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Муниципальная программа «Развитие образования Ленского муниципального района (2015-2018 годы)»</a:t>
            </a:r>
            <a:br>
              <a:rPr sz="2000"/>
            </a:b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(строительство объектов муниципальной собственнос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27"/>
          <p:cNvSpPr/>
          <p:nvPr/>
        </p:nvSpPr>
        <p:spPr>
          <a:xfrm>
            <a:off x="3822840" y="2235240"/>
            <a:ext cx="5803920" cy="1841400"/>
          </a:xfrm>
          <a:prstGeom prst="roundRect">
            <a:avLst>
              <a:gd name="adj" fmla="val 16667"/>
            </a:avLst>
          </a:prstGeom>
          <a:solidFill>
            <a:srgbClr val="00007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5 год – 210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6 год –  10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7 год –  6,5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8 год   - 1,1 млн.   рублей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571680" y="4260960"/>
            <a:ext cx="4532040" cy="2306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Беккер Ж.С</cp:lastModifiedBy>
  <dcterms:modified xsi:type="dcterms:W3CDTF">2018-05-07T09:20:17Z</dcterms:modified>
  <cp:revision>1169</cp:revision>
  <dc:subject/>
  <dc:title>Бюджет для граждан на 2014 год</dc:title>
</cp:coreProperties>
</file>