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7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FC5A-8D6B-425B-8530-EC35B509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B78-3453-4D7E-BAF8-948A0E03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702D6-7E89-43D1-9DB8-A60C921A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9583B-CE14-4B49-82EC-E8E40576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D67C6-F498-4B6D-A673-D76802E5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AFF53-475B-4907-98AA-7269B88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D48CA-5F9A-41D1-8634-BEA0CC0A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B7B42-799C-4AA7-8810-D7C23C1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1C8AC-197A-4D05-A328-7B72FA8A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07476-0DCC-4BE2-8A09-F3D9D490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310C3-C918-42B4-B13C-7C63E361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E447E-F80C-40F9-8CDD-9C42259A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152-7472-4809-A3C0-94337802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EDCB7-AB67-489E-BF0D-D397070A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085F0-B3AD-454C-A70B-7FBE5EC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5FE9D-A756-4608-8A64-23C768D9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A3965-95EB-46B5-AE5B-0B540E22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67F2C-96BC-4A0B-825C-A93477CB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1FD45-4791-429B-9333-56D6310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7C511-CAFA-4588-A45A-3B4B798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5EA22-D160-475D-9BC2-894259C1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1CE3B-75BC-4DA5-9235-0BA81A42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B324E-D7CF-40C9-95A6-18057F60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C06-82DD-4CE3-B391-7C02296F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C6376-2FFE-470E-AB0C-BEC47CCE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E61E5-3CFB-4061-994E-4CC8628A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254DE-C302-49B6-A1F8-0CC9C4DB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05DE1-1BB7-4CC6-9E37-33CB5092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9AC3F-35FE-47D3-A7BD-E0D50871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27279-D648-4B83-8793-AD01D0D5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5755F-8C82-4C46-B040-A40F39C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76FA0-339F-434C-9AD7-754FB906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70C28-BD43-4B6F-8402-F3332AC5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7F414-C8D9-4A6E-9B89-35737272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DB96-1A15-4514-A787-1299B4C0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364FC-EB79-49BF-BA6A-4B4B44A6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C534C-E661-457E-B728-202CE6CC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1BA1F-7797-462A-BD29-4001E062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02813-4AB9-4342-956D-B88E24ED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3F5D6-EF48-4C24-B619-BAB64725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A262C-2EE9-4BBE-9E02-FC7AB3C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C5401-924F-429A-9D2D-92BF2632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59134-2058-4C50-93B6-101C513F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25A1A-4D3E-4328-BB02-0308B26C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273A1-64C6-4030-AB2C-D015B974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EEE1-6BD1-4CB6-BAF8-20302FE4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9BBC6-CEC2-4BCF-A2B2-E005A6DC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8AF42-F347-4D01-9732-7F925B13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2257D-4E39-4FB6-9173-69F06147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0CBD3-758C-4F2E-A5D4-06C50092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AF0E7-4604-4F37-B269-5F6954BE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B5850-5A03-40DE-B58C-E5DB62F6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BB083-85B9-4F64-8A0B-335B86AB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D5088-09AF-479D-BEA5-9448CCC5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9453A1-93B3-45C0-B025-D47BAAA7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D455E5-632F-4D93-84BE-0C0EE052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7F04-1763-4376-B65C-C3F70CBB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CF9DE-673D-499F-966B-CA0E1097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C8AC1C-9B87-480C-898A-61937C6F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F1243-A3F8-489A-BF81-DEE902D5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E8372-5C02-439C-B917-08CFDF4F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91966-707F-467F-A577-D83A81E3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0DBC7-9C83-4076-8B05-590193B5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8A6AB-1957-404E-BC72-26D33CBC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69BF2-2686-4FBB-B4BF-DC16417A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07E30-C4DD-41BE-9B55-7CDA96EF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9F90F-A512-4432-AF03-2B1A2E7E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F45A-8772-4957-80E3-D451E316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79BF6-1865-498B-BF34-5E748F43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94F63-7945-490E-8FBB-6511E0B6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4B4A3-F163-45B3-8016-2413BC2A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FB1CD-9EFB-487B-913E-698C75FC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17DD8-CEAC-4051-A7BB-004F767A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F1D3A1-725F-4E5D-A08C-28915D05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F56DB-533A-48C3-A3A5-B4C3F4D2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A756A-56F0-4617-9D9B-810B8818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FA2ED-2314-497C-B91E-7D67F7B4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B435B-B655-4B8A-B77D-E34960EA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73A7-C992-44B3-8E8C-8AF97C95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09BC03-29C7-4A2D-B8FB-753F77BA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810BF-C6BD-4A88-983F-A7653A8B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4F153-FB21-47F7-BBA6-DD3625E5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55F86-B5B0-467B-9419-15C0D261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7E70E-4E4B-456B-A9BE-3FD9127A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5A087F-FEDF-4DD9-A589-19F13BE8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ACD3C-5308-424E-ABE1-943D9DD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10659-3CCE-4FF8-94CF-83D2D3E0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54B78-5EA5-40F2-87F1-1F9153A5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F4B09-72A4-4920-9ED9-EE9A9F46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6F06-BCB5-4C7C-B598-1450A070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3F968-F616-4BE1-90E6-97552577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6947-94F4-4DAE-B477-3569B24B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557-1561-4A74-ABA0-F7B4EF9B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C03E-4ECC-449A-98BB-C5627C3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15C6-7F3E-4C35-8026-25D48CD0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9D98-A890-4B88-A00D-DD3BD5DC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15B1-8A81-4B5E-B5A2-87C541D4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87F4-0C0D-45D5-A36E-D8A4C78C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A7F44-C186-4FA8-83DB-3E79CA44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C0A6-03EF-4867-A7AE-6D5DD63E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8E7F-FF6D-487D-85D6-5ED1ED8F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385F-9CDA-4D06-AA97-7535068E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A144-3296-4EBE-819F-AD243CA0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E14-7C9E-4230-B1BD-20BE4D54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D85B-0FFA-43DA-8639-B000CAC2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8B5D0-2138-43C2-A958-376A830B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EF011-F935-463D-A756-FC54BE6E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D292-D51C-4105-B480-4F7845E6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2AB8-C006-4C11-AFA4-B0D29E02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8C1D1-10B0-414D-A78F-2D4DA433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02C6-9580-4D6F-9E8C-39E0B806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C66C-5BE4-49D4-8537-8A5E2079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CE4C-18B7-4C7B-AA01-87C25A72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82A8A-DDF7-4C34-B512-7AEA85FA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EE6-F224-40F1-840C-2CF7D977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BB8A5-6CCD-4F64-8BBE-5463305F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2DDD9-D1D4-44D6-9BB5-F9AE8971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2CD64-E4FE-4A11-8BE8-5F912D54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C3565-F4A4-454D-A360-18C9B8EE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2DBA-DEDA-42C6-BB73-378596A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D745-4CEE-401F-BD94-B74C5013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3342-E432-4827-968A-23B315D8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DDD1-BD37-4DC4-8A24-66E3E413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0B931-3265-4DDD-8E61-B8DFF468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126AC-B9E9-4C68-8F13-0ACA6191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526-84B0-4DEC-9FE3-7390AF07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3919B-2E70-4F39-9D08-26C8D29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40314-439C-419D-A59E-EC9FAFDC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A5F1-62FC-4C94-BBC1-EA9071B5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FF4F5-E361-4120-8318-E201BD19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F0836-370C-48D4-B83F-8E65A973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13D8-A9D9-4CE3-9A0D-DF81A6BB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6724-68BA-4D26-A70E-C48F6A34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DE102-1ABF-4999-8D2D-AAA95B2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B7F6-C2AA-4875-8A8D-7DF2B37B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A55A3-1CB7-40AF-997C-CF962432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9B9-6FE2-49A3-AB8D-4A91CAD6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3460A-13CA-4168-983F-4CDEE0A6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2FBEC-A86A-463D-86CB-00A3DDF7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C3590-FCE9-42A1-8F12-A351B3DA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91917-B4F9-487A-BCF6-CBA4BC76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6BA75-BE74-4517-AF94-5024364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0F78-CBA0-4BD8-BCA4-B99551BD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1A13E-BAFB-47F3-A161-BB0F655A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5D59E-51F2-409A-9157-7B0B744E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95676-668A-4BD5-ADEC-CF9F5373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C9A5E-5797-422D-B352-024DB70D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6E6-E70F-4439-9658-E3F5A9C9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0643B-B30C-4C32-9889-B53677C3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05DB7-665C-4449-BC6E-BA95D518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B8900-BB39-4477-B27D-C4423CC2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0501F-EB75-410C-B0FC-CBFE8428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C80E7-1A33-4C40-9222-F421CBEA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AB0AE-86E3-4346-9957-923B6643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91BE6-FD10-4717-A7B0-B7D1F480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6A41B-AB67-4D90-BC7F-264EA29E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3FF7F-C2CD-414B-96B6-51D29A7C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EB1B7-358D-402B-9023-0B1EB992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C3A-248A-4695-9794-53FDD1E9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673CF-B453-4579-A007-5A979AC3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F2E56-B2F6-4121-9A75-A433E30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C6EEE-43CC-493B-9F11-C7D7DA3C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EE01-F5E5-41BB-A632-8F3834D9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2BC1B-71FF-4054-96D5-74B5965C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3B97C-39E5-4EBE-A2D6-04381EFC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BB77E-2E6E-42A6-8AD4-2C330F6E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01BCA-98F9-4F79-83A2-6825DABE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44AD3-5673-4ED0-AFE6-28A35E6D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47C32-FF20-4A6B-B1A7-41DDA6A8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12A-A4CC-4664-AF26-2002E166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E6330-25BF-4763-A82F-6FFC32C0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E22DB-48C5-46DD-BEE7-D7E5632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C895-F9BD-4D63-9A68-4DED5CA0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DECFF-49D5-4C05-9718-159F2012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C0900-0B8D-42B7-83FB-9F40C274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9B980-7B0E-4C12-8A0B-EDC01764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B290F-56B4-4A39-808D-B8EAF0A7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65D83F-FC5B-41C0-8B30-99EAA712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36226-BC7D-4F48-ACEC-7E6F8265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C1EFD-D0AC-45B5-AC70-F27499F4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BB1E-C426-4C1A-A5B3-B5FB0A2086C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9DC3-60FB-4369-8FF6-E918DD9A68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4BB8-BCEE-4D87-922F-1FAA9DEB7E4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65FA-6EE7-49A7-B1CF-AF3B333E26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F900-C070-4669-B502-0C9364270B8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FC32-CD2E-444C-A1AC-8C81FE6D82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3638-F4A9-460E-AB5F-734DCDA1735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7A67-E900-4058-BD1F-0CC86B279D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CA0B-96DC-4DDB-8FCE-F15E25BE45A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29CD-641C-4EC7-8C87-B155D9C80F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00C9-63B7-428E-97E7-BD81654FE8F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6BB3-7ACD-4EFE-83C2-CD408AB114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47DD-E022-4D6D-9727-031FCEA11F9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8831-6DD4-4D69-9010-A7298FC409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785D-B31C-4325-95DC-F9AC5344D53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9C8-0D83-4D76-81E0-2268F89AB8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8824-BF98-47C2-B9A8-4378F2A7E47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AF85-1262-4ACD-8D1A-3F82D9A596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C284-D400-43AA-84E0-34B77E135C8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7CA0-BC67-4C5E-8C54-CE7F63B7A8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3035-9158-483E-AA7A-0E8B0D57ED5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9700-24DF-4FD9-8A25-D32D48584C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7D81-22E6-476E-A6A9-584D9420059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B6D1-7E15-4829-9AF5-A615715298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53E1-1C46-432D-B564-36C5A3A3499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E389-476E-4ABA-BABE-9C16303AC7D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90AE-5B6D-44CB-9D47-A327A2770F0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A2B8-C081-47A0-BA4D-159FA73E10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1008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1008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1008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1008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1008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1008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1008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3A78-2AFA-4B06-8771-9AE19A69BF6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F007-6BE1-496C-86D7-A536D42768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18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0E29-3C46-4FF5-882C-8F9FAE448A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4F98-1EE0-4D04-B5F6-6380B04985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0160" y="1450440"/>
            <a:ext cx="933300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8 году   бюджетная  и налоговая политика сохранит нацеленность на реализацию приоритетных задач социально-экономического развития, установленных указами Президента Российской Федерации от 07 мая 2012 года и программными документами </a:t>
            </a: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71240" y="3328920"/>
            <a:ext cx="8915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Необходимые условия для реализации бюджетной политики на 201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1) поддержание сбалансированности бюджета  МО «Ленский муниципальный район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при планировании «консервативного»( базового) варианта прогноза социально-экономического развития МО «Ленский муниципальный рай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519120" y="33192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 и 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полит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концентрация ресурсов на наиболее значимых действующих расходных обязательствах МО «Ленский муниципальный район» , принятие новых расходных обязательств на основе взвешенной оценки и при условии финансового обеспечения действующих расходных обязатель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эффективности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повышение эффективности расх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внутренних резервов муниципального се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создание условий для повышения качества предоставления муниципальных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 эффективности процедур проведения закупок товаров ,  работ, услуг для обеспечения муниципальных нуж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развитие системы финансов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обеспечение прозрачности и открытости муниципальных финанс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F6C2-D678-4BCF-8461-7DA6E29F3F2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70AA-9787-46C0-B1DD-F15BA86B54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22C5-F584-452F-A43C-4B3183523E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571680" y="2690640"/>
          <a:ext cx="8586720" cy="298296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 862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 476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 330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4 96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4 41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 347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 097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 939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017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FC09-66DC-4322-BEBF-E72D644B2A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5883-1949-4D40-A9BD-DD8CAC5FD4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858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оказатели социально – 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Ленского района в 2016 – 2020 года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414360" y="1770120"/>
          <a:ext cx="8932680" cy="5038560"/>
        </p:xfrm>
        <a:graphic>
          <a:graphicData uri="http://schemas.openxmlformats.org/drawingml/2006/table">
            <a:tbl>
              <a:tblPr/>
              <a:tblGrid>
                <a:gridCol w="2778120"/>
                <a:gridCol w="1108080"/>
                <a:gridCol w="1108080"/>
                <a:gridCol w="1306440"/>
                <a:gridCol w="1252440"/>
                <a:gridCol w="1379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6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 год (оцен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8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9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0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Численность постоянного населения (среднегодовая), 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Индекс потребительских цен, % к декабрю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вод в действие жилых домов, кв.м общей площа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36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91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0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списочная численность работников организаций по полному кругу с учетом филиалов и структурных подразделений,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40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26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17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7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14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месячная заработная плата одного работника крупных и средних предприятий и некоммерческих организаций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3878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6352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831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9277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026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еличина прожиточного минимума в среднем на душу населения в месяц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61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04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16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61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07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безработ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4E40-434A-431F-85FB-01832B6D65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B1A1-6EAC-4350-A37A-F0498F246F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на 2017-20120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268200" y="1609560"/>
          <a:ext cx="9180720" cy="5313600"/>
        </p:xfrm>
        <a:graphic>
          <a:graphicData uri="http://schemas.openxmlformats.org/drawingml/2006/table">
            <a:tbl>
              <a:tblPr/>
              <a:tblGrid>
                <a:gridCol w="4292640"/>
                <a:gridCol w="1303560"/>
                <a:gridCol w="1233360"/>
                <a:gridCol w="434880"/>
                <a:gridCol w="362160"/>
                <a:gridCol w="392040"/>
                <a:gridCol w="1162080"/>
              </a:tblGrid>
              <a:tr h="24948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1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99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 47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1 33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 74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4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 79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22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37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0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71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14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7 20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 6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 82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 37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9 5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4 41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2 3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 6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5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49,028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5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0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7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2 5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8 93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 01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 89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5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3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1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89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9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 9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4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1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 9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 51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31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48FC-B35B-46D9-9B9A-021003D589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88F-265C-423F-B55D-EF7D67BAB1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6BC5-D3EF-4C8B-A4D1-A3BF1DB50A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2567-19C8-4E22-9622-F58379C540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на 2018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6" name="Object 4"/>
          <p:cNvGraphicFramePr/>
          <p:nvPr/>
        </p:nvGraphicFramePr>
        <p:xfrm>
          <a:off x="495360" y="1544760"/>
          <a:ext cx="7223040" cy="39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544760"/>
                    <a:ext cx="722304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F6CC-B536-423A-9687-60BC26E966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A9D0-1675-4D1C-9B7F-6CBC867CDC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18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1" name=""/>
          <p:cNvGraphicFramePr/>
          <p:nvPr/>
        </p:nvGraphicFramePr>
        <p:xfrm>
          <a:off x="220680" y="841320"/>
          <a:ext cx="8400960" cy="567216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14C-BEDB-4FC4-A113-E731D56787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9F6E-9BE7-4BD3-AE2D-A2960709A5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16-2019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5" name="Object 6"/>
          <p:cNvGraphicFramePr/>
          <p:nvPr/>
        </p:nvGraphicFramePr>
        <p:xfrm>
          <a:off x="496800" y="1008000"/>
          <a:ext cx="92170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008000"/>
                    <a:ext cx="92170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3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89E-4950-4836-9B4B-562CD12B80F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163A-DDF8-4BB4-9B9A-6E34C04F02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190440" y="1009800"/>
          <a:ext cx="8282160" cy="555444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24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25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63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939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78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46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8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169,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27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7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9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3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81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7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43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1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1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9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25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8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2,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E9CD-C68D-4201-A955-FD5AF18B2C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588-16D4-4518-B218-BA4AD67977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5ADB-851F-4BCD-9BD6-DFCCF75B33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E358-1093-4FDF-A0C7-21731A182A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18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4" name="Object 4"/>
          <p:cNvGraphicFramePr/>
          <p:nvPr/>
        </p:nvGraphicFramePr>
        <p:xfrm>
          <a:off x="466560" y="1677960"/>
          <a:ext cx="89632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77960"/>
                    <a:ext cx="89632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939A-115E-460A-B0DF-B7E2D4D848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14B5-5BFA-4FF1-8226-A99BCFCAD8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18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9" name="Object 4"/>
          <p:cNvGraphicFramePr/>
          <p:nvPr/>
        </p:nvGraphicFramePr>
        <p:xfrm>
          <a:off x="378000" y="1249200"/>
          <a:ext cx="936144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1249200"/>
                    <a:ext cx="936144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C547-9005-4F95-8A0B-17946B7490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7884-819B-47DA-8772-8A258EAE10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5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4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0DB1-EE4D-4314-A159-BA5B8FDD85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911B-1429-42D4-869E-F2953872229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на 2018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85" name="Object 4"/>
          <p:cNvGraphicFramePr/>
          <p:nvPr/>
        </p:nvGraphicFramePr>
        <p:xfrm>
          <a:off x="276120" y="1523880"/>
          <a:ext cx="9186840" cy="48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523880"/>
                    <a:ext cx="918684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C16D-F0FC-42E0-AC64-8E3444CE30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002A-5F76-4431-9101-94CDD81C16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0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344,8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3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10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37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0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412,4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13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7"/>
          <p:cNvSpPr/>
          <p:nvPr/>
        </p:nvSpPr>
        <p:spPr>
          <a:xfrm>
            <a:off x="347040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59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17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414,8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4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13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AutoShape 27"/>
          <p:cNvSpPr/>
          <p:nvPr/>
        </p:nvSpPr>
        <p:spPr>
          <a:xfrm>
            <a:off x="674532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26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17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89000" y="4125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бюджета муниципального образования «Ленский  муниципальный район» на 2018 год назначаются публичные слушания.  Положение о порядке организации и проведения публичных слушаний в муниципальном образовании «Ленский  муниципальный район», утверждено решением Собрания депутатов от 27.10.2010 года № 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18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20.12.2017 г. № 15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0744-B014-4B35-B011-D08A94B793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B623-DA93-45BB-BF09-00429A1D30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DD69-7035-4B6E-A606-5348DCA7A6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B6C3-AF35-49B8-AAE5-DDCD461465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6244-EB14-4C1B-AF25-64DDE1A183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1280-4053-4AD7-83E3-74E7ADB106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1FF8-1054-4FB5-B595-78978D7EA5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F507-D3FC-4A25-8086-F06BBAA020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37108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19702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9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 759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1 613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 074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 026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 12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 091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66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51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17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565B-63F7-462D-913C-5679081CD2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3400-DA3F-4604-9327-1D1CE54D91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Беккер Ж.С</cp:lastModifiedBy>
  <dcterms:modified xsi:type="dcterms:W3CDTF">2018-04-28T08:44:59Z</dcterms:modified>
  <cp:revision>866</cp:revision>
  <dc:subject/>
  <dc:title>Бюджет для граждан на 2014 год</dc:title>
</cp:coreProperties>
</file>