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8.wmf" ContentType="image/x-wmf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50B9-855D-444A-9204-C615294D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0F89-299B-484B-9D74-06DE4A6C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C5BC7-C36C-49B3-8146-08C1DE96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72AF3-F55B-4912-B3AE-888794C6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53326-6B4B-4C1B-94AE-593F04C5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B0466-FE79-4097-A6CD-EF0B2AD3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53C4C-F27A-4B38-B236-E5B73AF7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D4277-8750-455E-880A-38D96393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A0960-2814-4231-B66D-03CD3934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9AF54-8BD4-45F8-A542-B61366BB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7B2C4-CA84-42E9-97D7-AA6BBE6F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CD738-B6EA-480E-B000-FDAAA60D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7CE0-225C-4CA4-AC6D-9F260591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EE2AE-532B-429B-9B7C-49ED9D4F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7F720-C1D7-4F08-9E6D-FDD18C39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BD903-F226-4655-A5B3-65B9D38B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12D2F-239D-4784-B1D7-B9251094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CF5B7-3088-4129-B373-AC78EC71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AB65C-E1CF-42A3-877E-A010EF76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5733A-A929-42D9-9C88-4CD56094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561B7-1A1C-4F30-A49C-2275902E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2FE02-29C0-4767-B5E2-BB98E6D1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E1D40-6502-492D-BB1E-EBC1B0CB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E4A5-2A81-490A-8131-F2BCF68D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6B5FC-9C7D-49FE-A3D3-F04B3BED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350EB-06FC-458F-8771-2BCC00AB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FD04E-70A8-4CA8-B4E2-547920B3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0520C-7FC2-48D7-BAEC-571FC816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FF9CE-E85E-4A1F-92ED-62B31AE8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36C01-9810-49E6-9126-8AD9A287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A91BE-8D09-481D-A814-41323F10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D33BC-4DDF-43C7-BAF5-8A6FE366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E4ED6-5574-4F1C-90C8-90C202D1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D7527-D455-40B8-9FD1-DAD022C4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ED8F-D91D-4B96-8EC0-A60899DB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978D9-20F1-4454-9ACE-89C1E2C8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82FA9-4017-43F7-A3F5-807CDE7D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2FC84-02D6-42E9-B52D-B35FE125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81FC7-0ADA-465F-9289-179D943D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EA4A3-F001-46E1-9BF9-040D7B5E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65E75-10A4-499D-AB9D-5758DE89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252E9-A656-4CCC-9032-511F3B21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951B9-8247-43A9-BA49-BD8BDA21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29A44-088F-4F08-B5D6-B82BCD24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387A9-B4FA-4FD6-818E-2E43C6BC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E6BA-88BD-44D3-9CD2-AC555FB0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3131A-0C76-42E5-8295-DC5ABBF6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DD765-56FB-463C-BCFB-E391F282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0FBB8-2CBD-412B-B8EF-E0F8F282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DE7D0-701E-4193-B137-B4845916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CE6D2-E75F-476E-ADBE-6A861D65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724A5F-3B39-444F-8E41-B74C761A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34B859-FEAF-4D6C-911C-CA0044BA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6F93C9-3328-41FC-9B80-9273DCBE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AEF7AD-2114-446C-A8A1-1A43EBE1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B034DB-A94A-41DF-9859-85397AAD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163F-0092-4901-AED6-4FFCEF28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23EF0-3A4E-42CD-A678-6F81E4EB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AE8F8-3A41-4C9B-A993-C220B2D8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5C1AC6-C07D-4DB1-BDCE-8215EDD8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3D40C2-9EB1-448F-B97D-3CF3E8A0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3A8667-35F2-4082-9511-1049044E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5352FD-BB7A-4C6B-A2A0-7B10B171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3A03B-D59F-475A-A4B8-912112F3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068D70-06CC-457A-9DAC-68013227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7C043B-15EF-4308-8403-5803EB29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7B9004-8CB8-4043-9F72-9A95D04C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60BD-708F-4AB6-B8DE-34C34871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5531D5-DEC3-4C4A-8E65-A2BE087B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AFFC4B-6D39-421E-88A8-BD9EB583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EA90F5-D42A-4BC6-8A67-344C870F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360F00-A325-462A-8295-A2A06E3C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89C069-DAE4-49E0-B363-CA690BF6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AAFCC4-2860-415C-B51E-4DDD38FB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EDC9E8-684B-4605-B91B-44BC5692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A9183D-561C-4C38-940B-A0094EBC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978D7E-874F-41C4-A53D-1ACB4A0C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B4015B-96B6-4960-BA11-E335C1CF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6C57-6261-4D0F-AD2E-B4E8C7EB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299C82-7DBE-4378-BF82-BD3EDE80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FE8623-2318-4C61-8ED2-43944CD7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F0855E-8A0E-4BE7-B43E-EBB018DA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BAE4F0-2D2D-4F7C-8D1B-FAAAD6F5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D5E257-937B-4043-9D69-442E80B7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C5B81F-E8C0-4870-9672-4AD1410A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48818D-FB3D-4044-B4F9-411CBD6F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6EE025-8674-40F8-8033-8BA309C9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4FAA5F-A92E-44EB-9B48-955EECDE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328100-706F-474E-9473-446D071A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642E-554F-41ED-94D7-7BAD3322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35D4A0-6C12-43C9-A1C1-DD8171D4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9824-DD0C-428C-971C-0356D8A9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2DF-642B-4A39-ACD6-6CFFA189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4815-17B5-44F0-A092-8EF47CDD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87FB-F121-49F8-A6FA-ADF1CB51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7DF4-8397-4A85-A6B8-FCD313FD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88D8-0021-4B4A-B53B-17F6B955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0925-EFBE-4EB4-994D-26B66165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8DDF6-8EA8-4C83-A952-9A6A48A1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48FEF-7404-4984-8E20-F2B46F3E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C4B6D-6604-4587-83C8-FE38BF58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242B6-C4CA-4195-93A4-3725602C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AF355-0EFD-4A2A-A8EC-B98ECBB4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2618-A372-4BD4-A619-902C67F3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43090-FCE2-4112-B70D-27F3C8CB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8D84F-7BD9-46D4-8F71-07D629AE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CCE2B-B807-4432-BC0D-77F8697E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52B3D-E09F-4B87-A7E7-260752E7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2009D-D576-409E-9ECE-1B20F03F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C6043-D088-4177-A471-7C3FAF15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F0D9F-ACD8-4FF8-A5CA-3455D6EC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3E27B-1BDD-4D77-A4DD-95DD4964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B9F71-0B4C-4875-A616-65231922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969AE-81B2-4E82-BCBB-FC7E560A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C162-C2BE-4A1D-AC39-E59BB12B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89184-A696-4005-A4CC-095C2869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3988C-98DF-4A44-8450-27E577E0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1CF1F-5485-40A4-8945-7C734E72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CF918-B9C0-4D27-A4A5-DEA36AFB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A26C3-E1F5-4379-B28C-8B5F762E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9E65C-C2A8-4E3B-AEE5-8F26D8A7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21B9C-4DA2-44CB-A629-D1FF2AF9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DBE53-23CC-48FC-B5A9-81F4CB29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CFBD3-98A2-43AA-85F9-50498BF5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4F608-7B69-46F1-8E57-FF90821A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F0E0-7583-44E8-87B9-831C9D6F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46EE2-BD90-414C-B801-9E7DF1AC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5A2FC-7FAA-489B-99F6-841FCA11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E555C-D074-441B-879E-4C4319B4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A282D-0F39-4444-BABC-9A0F11D2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AF1D7-AA34-4C1B-A156-721AED85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DDC24-B8C0-47C4-AABC-117E014A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CFE5E-FB1F-43A4-8CC9-1B01AF14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58726-D1E3-45B8-A939-86E29C3E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D3492-2A50-48E6-A9E7-38A69D96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1BB8B-E2E4-414F-8226-97C72195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37B8-28D3-4C8A-BAD1-4968A928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05A96-62AA-4DB2-93E4-4942A3F3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731D7-06F1-42B6-89B2-7156978B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6E6AC-88B0-4224-913E-1DB45905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72E8D-14B2-4814-B10B-DEA14B0F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0A700-1A4D-420C-963C-E5329495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F2945-B1C1-4144-8662-260C8683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2B6EB-E3E3-447F-B304-8F1EBE7F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E8921-A9DE-4907-91DE-51947DC8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84098-CE0F-4229-9D98-505D57CD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766A2-CE02-4BB8-84A3-CD6278CB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C02-EEFC-41C9-93CD-240EF459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A0A93-D2EE-4623-B13B-19B40814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63477-2C67-462D-9058-4BA7BFAF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8BBF2-2756-480B-8023-5A5E399C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AE362-644E-403E-A303-12535E78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AB7B2-BF2C-4247-9F46-1ECBEC86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944B2-CFAD-4D9A-B605-5F882CBD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82886-E157-4061-94E6-1C23DBAB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C571E-C9DE-4654-A6CF-75797819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6791C-C8AB-44D2-88E1-7CC1F8EA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7368A-7EE5-4DCA-85D9-8122A205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3726-341F-433A-9968-C14476E8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28A27-1A2B-4F2E-8541-1D643EEB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0A1A1-342D-4DD9-94EA-E0D548F7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3EA1A-7AEF-4C52-A2D9-B83C5FBE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4DF17-3486-420C-9D0A-B93F5B72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0D34B-877A-41C4-BAC1-04E8F0C2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0D519-8054-441E-8A6F-7258C157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B14A8-9914-43C6-AFA1-1CAB21FA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7E293-CDBC-46A8-9601-03FF8858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CADE9-C0FD-451E-8D78-569E095A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67DA3-6A76-4037-8B6E-B47AA8F5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D008-F95C-44D8-86C0-3F36AA57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4FAD8-022B-4011-BA27-D87ED8FC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34619-A8AB-4BDB-BE08-A0AB0F6B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9BBF1-B767-4A79-8A45-86B05524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45F32-C9E0-47F7-AC8F-C20F289F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2DFA9-538E-42BB-A8AC-058A76A6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20F4F-5F4A-456F-BE70-DAEFAE5B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C6D76-092E-4DF2-80E2-BE80992A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318A7-484D-4FFA-A084-F898281F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E7694-C561-48E2-941A-351E0283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CFAD8-0FF7-492E-9976-EA72B627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BC15-7233-4E82-B4C8-3A19D8D4336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A98F-45DC-4E48-AC36-3A77757179A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66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DC06-9EFB-47CE-A71C-075F4EA6450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9DDA-D9F8-4072-A2F5-71F134B9130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4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F0E3-09EC-438C-961A-5E65C569A85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9C9A-C541-4396-A41D-DD23AD682FA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1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31AC-E2AF-4A8E-B263-8681B810187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B613-7A40-4B17-84EF-5F74154BE0B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9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543B-B566-4E3C-8EC8-AEBDF67E2A1E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604A-8E8B-424A-8494-C67B4B57C77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96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B262-F498-4479-BB6E-6D79A5DF815A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2449-351D-4DD1-ADF9-3F384707F75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03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4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46E1-29F3-4004-8669-514BEF432F5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4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4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802B-0A32-4A25-A9A6-EE810C0C25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2468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16920" y="2992320"/>
            <a:ext cx="1450080" cy="2189160"/>
            <a:chOff x="8116920" y="2992320"/>
            <a:chExt cx="1450080" cy="2189160"/>
          </a:xfrm>
        </p:grpSpPr>
        <p:sp>
          <p:nvSpPr>
            <p:cNvPr id="76" name="Oval 9"/>
            <p:cNvSpPr/>
            <p:nvPr/>
          </p:nvSpPr>
          <p:spPr>
            <a:xfrm>
              <a:off x="811692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4250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7328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1692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4250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7328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9040680" y="327672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1692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42508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7328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90406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9348840" y="356076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16920" y="3843360"/>
              <a:ext cx="21816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4250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7328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9040680" y="3843360"/>
              <a:ext cx="21816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1692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42508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7328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90406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9348840" y="4127400"/>
              <a:ext cx="21816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16920" y="441180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4250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7328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9040680" y="441180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1692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42508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7328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90406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4250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90406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30120" y="2819520"/>
            <a:ext cx="8915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4B9C-F9A1-470A-B673-833CC2FB1E1B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71B4-3027-4E68-8C8A-A2C900AA3F2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5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BD52-3D20-44E1-AE7B-23D210DE1164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37BE-C39A-46F7-A416-A3ED7E1D9A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2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44D0-6D87-438C-A0E5-6DE92F24E81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4615-F1B4-4FF2-824D-69F9F53C92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9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30DC-C5AB-43C8-99AF-FDAE1B95462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904E-DAF2-4521-B8D6-9DB7E613B61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37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6B92-2166-4065-AA1F-0F71412EA915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95A9-10B7-41D1-BA5A-A29EDDBD230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44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188E-4F15-427C-88C2-B5393D835FD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281D-38BD-4CE2-9B0A-1290A2F669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2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A6D7-EC01-4BBF-94DF-205C0F623D90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7A28-A2B5-4064-AEFD-0151103950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9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16DF-E320-429A-BCD4-6C65443214B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0116-F9E2-4E5F-BE45-B13719C099A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2499840" y="6237360"/>
            <a:ext cx="686124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8080"/>
                </a:solidFill>
                <a:latin typeface="Arial"/>
              </a:rPr>
              <a:t>К решению о бюджете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8080"/>
                </a:solidFill>
                <a:latin typeface="Arial"/>
              </a:rPr>
              <a:t>«Ленский муниципальный район»   на 2016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3" descr=""/>
          <p:cNvPicPr/>
          <p:nvPr/>
        </p:nvPicPr>
        <p:blipFill>
          <a:blip r:embed="rId1"/>
          <a:stretch/>
        </p:blipFill>
        <p:spPr>
          <a:xfrm>
            <a:off x="333360" y="922320"/>
            <a:ext cx="3043080" cy="1865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113" name="Rectangle 4"/>
          <p:cNvSpPr/>
          <p:nvPr/>
        </p:nvSpPr>
        <p:spPr>
          <a:xfrm>
            <a:off x="272880" y="2955960"/>
            <a:ext cx="323532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Бюдже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для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гражд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6" descr="101392442_Internetportal8"/>
          <p:cNvPicPr/>
          <p:nvPr/>
        </p:nvPicPr>
        <p:blipFill>
          <a:blip r:embed="rId2"/>
          <a:stretch/>
        </p:blipFill>
        <p:spPr>
          <a:xfrm>
            <a:off x="3925800" y="3165480"/>
            <a:ext cx="3873600" cy="2577960"/>
          </a:xfrm>
          <a:prstGeom prst="rect">
            <a:avLst/>
          </a:prstGeom>
          <a:ln w="0">
            <a:noFill/>
          </a:ln>
        </p:spPr>
      </p:pic>
      <p:sp>
        <p:nvSpPr>
          <p:cNvPr id="1115" name="Text Box 7"/>
          <p:cNvSpPr/>
          <p:nvPr/>
        </p:nvSpPr>
        <p:spPr>
          <a:xfrm>
            <a:off x="3427560" y="434880"/>
            <a:ext cx="423684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ниципальное обра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СКИЙ МУНИЦИПАЛЬНЫЙ РАЙ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Рисунок 6" descr="https://pp.vk.me/c304214/v304214092/19a0/hIVh7_KEJoA.jpg"/>
          <p:cNvPicPr/>
          <p:nvPr/>
        </p:nvPicPr>
        <p:blipFill>
          <a:blip r:embed="rId3"/>
          <a:stretch/>
        </p:blipFill>
        <p:spPr>
          <a:xfrm>
            <a:off x="7550280" y="493560"/>
            <a:ext cx="2023920" cy="22640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600"/>
                            </p:stCondLst>
                            <p:childTnLst>
                              <p:par>
                                <p:cTn id="1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6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1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A38A-8EDF-49E2-93DC-84DD66A2135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579E-8934-4F4A-897A-8950EC89F46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390240" y="334800"/>
            <a:ext cx="784044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Основные параметры бюджетной системы МО «Ленский муниципальный район» за 2018 год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17" name=""/>
          <p:cNvGraphicFramePr/>
          <p:nvPr/>
        </p:nvGraphicFramePr>
        <p:xfrm>
          <a:off x="1015920" y="1609560"/>
          <a:ext cx="8535960" cy="4876920"/>
        </p:xfrm>
        <a:graphic>
          <a:graphicData uri="http://schemas.openxmlformats.org/drawingml/2006/table">
            <a:tbl>
              <a:tblPr/>
              <a:tblGrid>
                <a:gridCol w="6235920"/>
                <a:gridCol w="2300040"/>
              </a:tblGrid>
              <a:tr h="3859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нение за 2018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318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2 94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5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55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е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27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9 11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6 07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49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расходы на обслуживание муниципального дол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8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88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фицит (-), профицит(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16 87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92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точники финансирования дефицита бюджета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6 87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кредит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9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.ч. - полу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 74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гаш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34 34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ение остатков средств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9 26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ношение дефицита бюджета к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18" name="Rectangle 151"/>
          <p:cNvSpPr/>
          <p:nvPr/>
        </p:nvSpPr>
        <p:spPr>
          <a:xfrm>
            <a:off x="7873920" y="1316160"/>
            <a:ext cx="67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ыс.руб</a:t>
            </a:r>
            <a:r>
              <a:rPr b="0" lang="ru-RU" sz="1000" spc="-1" strike="noStrike">
                <a:solidFill>
                  <a:srgbClr val="669999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62D2-E977-46E8-8DE0-87B584C3BC4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20A3-9F97-471B-A4DF-98DF92A04D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990720" y="193320"/>
            <a:ext cx="6540480" cy="5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Доходы бюджета район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507960" y="941400"/>
            <a:ext cx="774720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Доходы районного бюджета образуются за счет налоговых и неналоговых доходов, а также за счет безвозмездных поступл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5"/>
          <p:cNvSpPr/>
          <p:nvPr/>
        </p:nvSpPr>
        <p:spPr>
          <a:xfrm>
            <a:off x="3782880" y="1647720"/>
            <a:ext cx="2341800" cy="1096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ходы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6"/>
          <p:cNvSpPr/>
          <p:nvPr/>
        </p:nvSpPr>
        <p:spPr>
          <a:xfrm>
            <a:off x="465120" y="3798720"/>
            <a:ext cx="2703600" cy="2308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логовые доходы – поступления от уплаты налогов, установленных Налоговым кодексом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7"/>
          <p:cNvSpPr/>
          <p:nvPr/>
        </p:nvSpPr>
        <p:spPr>
          <a:xfrm>
            <a:off x="3490920" y="3786120"/>
            <a:ext cx="2727360" cy="2303640"/>
          </a:xfrm>
          <a:prstGeom prst="rect">
            <a:avLst/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налоговые доходы – поступления от уплаты пошлин и сборов, установленных законодательством РФ, арендных платежей и штрафов за нарушение законод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8"/>
          <p:cNvSpPr/>
          <p:nvPr/>
        </p:nvSpPr>
        <p:spPr>
          <a:xfrm>
            <a:off x="6566040" y="3780000"/>
            <a:ext cx="3030480" cy="2315880"/>
          </a:xfrm>
          <a:prstGeom prst="rect">
            <a:avLst/>
          </a:prstGeom>
          <a:solidFill>
            <a:srgbClr val="99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- поступления от других бюджетов (межбюджетные трансферты), организаций, граждан (кроме налоговых и неналоговых доход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AutoShape 9"/>
          <p:cNvSpPr/>
          <p:nvPr/>
        </p:nvSpPr>
        <p:spPr>
          <a:xfrm rot="2727000">
            <a:off x="7105320" y="2233800"/>
            <a:ext cx="1701720" cy="609480"/>
          </a:xfrm>
          <a:custGeom>
            <a:avLst/>
            <a:gdLst>
              <a:gd name="textAreaLeft" fmla="*/ 312480 w 1701720"/>
              <a:gd name="textAreaRight" fmla="*/ 1238400 w 1701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9" hR="21600" stAng="10800000" swAng="5400000"/>
                <a:lnTo>
                  <a:pt x="11748" y="0"/>
                </a:lnTo>
                <a:arcTo wR="7939" hR="21600" stAng="-5400000" swAng="819454"/>
                <a:lnTo>
                  <a:pt x="18040" y="3582"/>
                </a:lnTo>
                <a:lnTo>
                  <a:pt x="17782" y="21600"/>
                </a:lnTo>
                <a:lnTo>
                  <a:pt x="10403" y="3582"/>
                </a:lnTo>
                <a:lnTo>
                  <a:pt x="12317" y="3582"/>
                </a:lnTo>
                <a:arcTo wR="7939" hR="21600" stAng="-4580546" swAng="-508080"/>
                <a:lnTo>
                  <a:pt x="9843" y="631"/>
                </a:lnTo>
                <a:arcTo wR="7939" hR="21600" stAng="-5711375" swAng="-5088625"/>
                <a:close/>
              </a:path>
              <a:path fill="darkenLess" w="21600" h="21600">
                <a:moveTo>
                  <a:pt x="0" y="21600"/>
                </a:moveTo>
                <a:arcTo wR="7939" hR="21600" stAng="10800000" swAng="5400000"/>
                <a:lnTo>
                  <a:pt x="7939" y="0"/>
                </a:lnTo>
                <a:arcTo wR="7939" hR="21600" stAng="-5400000" swAng="311375"/>
                <a:lnTo>
                  <a:pt x="9843" y="631"/>
                </a:lnTo>
                <a:arcTo wR="7939" hR="21600" stAng="-5711375" swAng="-5088625"/>
                <a:close/>
              </a:path>
            </a:pathLst>
          </a:cu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AutoShape 10"/>
          <p:cNvSpPr/>
          <p:nvPr/>
        </p:nvSpPr>
        <p:spPr>
          <a:xfrm rot="7661400">
            <a:off x="1419480" y="2137680"/>
            <a:ext cx="1611360" cy="882360"/>
          </a:xfrm>
          <a:custGeom>
            <a:avLst/>
            <a:gdLst>
              <a:gd name="textAreaLeft" fmla="*/ 285120 w 1611360"/>
              <a:gd name="textAreaRight" fmla="*/ 1154520 w 1611360"/>
              <a:gd name="textAreaTop" fmla="*/ 118080 h 882360"/>
              <a:gd name="textAreaBottom" fmla="*/ 764280 h 88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-1050565"/>
                <a:lnTo>
                  <a:pt x="19038" y="16129"/>
                </a:lnTo>
                <a:lnTo>
                  <a:pt x="17299" y="0"/>
                </a:lnTo>
                <a:lnTo>
                  <a:pt x="10436" y="16129"/>
                </a:lnTo>
                <a:lnTo>
                  <a:pt x="12738" y="16129"/>
                </a:lnTo>
                <a:arcTo wR="7650" hR="21600" stAng="4349435" swAng="721967"/>
                <a:lnTo>
                  <a:pt x="9649" y="20850"/>
                </a:lnTo>
                <a:arcTo wR="7650" hR="21600" stAng="5728598" swAng="5071402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328598"/>
                <a:lnTo>
                  <a:pt x="9649" y="20850"/>
                </a:lnTo>
                <a:arcTo wR="7650" hR="21600" stAng="5728598" swAng="5071402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AutoShape 11"/>
          <p:cNvSpPr/>
          <p:nvPr/>
        </p:nvSpPr>
        <p:spPr>
          <a:xfrm>
            <a:off x="4557600" y="2992320"/>
            <a:ext cx="76680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1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5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60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E567-6AB0-42D8-87FC-5ADA86049D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17A9-5E39-4E87-8F51-745C8BA41DA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41440" y="276120"/>
            <a:ext cx="91281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доходов бюджета за 2018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33" name="Object 4"/>
          <p:cNvGraphicFramePr/>
          <p:nvPr/>
        </p:nvGraphicFramePr>
        <p:xfrm>
          <a:off x="1657440" y="1871640"/>
          <a:ext cx="7670880" cy="378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7440" y="1871640"/>
                    <a:ext cx="767088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F780-D8B4-40DB-A2A4-D3D715F3EAA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61C7-B621-44F0-9B91-01A5183CC6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2"/>
          <p:cNvSpPr/>
          <p:nvPr/>
        </p:nvSpPr>
        <p:spPr>
          <a:xfrm>
            <a:off x="193680" y="241200"/>
            <a:ext cx="829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обственные доходы  бюджета 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8" name=""/>
          <p:cNvGraphicFramePr/>
          <p:nvPr/>
        </p:nvGraphicFramePr>
        <p:xfrm>
          <a:off x="1757520" y="1066680"/>
          <a:ext cx="6289560" cy="5554800"/>
        </p:xfrm>
        <a:graphic>
          <a:graphicData uri="http://schemas.openxmlformats.org/drawingml/2006/table">
            <a:tbl>
              <a:tblPr/>
              <a:tblGrid>
                <a:gridCol w="3381840"/>
                <a:gridCol w="1228680"/>
                <a:gridCol w="1247760"/>
                <a:gridCol w="216000"/>
                <a:gridCol w="2160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ДФ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2 55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5 14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 46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 15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товары, реализуемые на территории РФ ( акциз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 27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 96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11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30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земельные учас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 72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 45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муниципальное 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 11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 56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лата за негативное воздействие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4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3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7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9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Штра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03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7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чие налоговые и неналоговые дох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39E5-4117-4C8C-8352-5151CB1A45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65BB-6E13-4B63-A053-769881825DF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9400" y="264960"/>
            <a:ext cx="7869240" cy="98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алоговых доходов бюджета  МО на 2018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42" name="Object 4"/>
          <p:cNvGraphicFramePr/>
          <p:nvPr/>
        </p:nvGraphicFramePr>
        <p:xfrm>
          <a:off x="466560" y="2328840"/>
          <a:ext cx="8963280" cy="36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328840"/>
                    <a:ext cx="8963280" cy="36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A725-4F18-40F3-8A5E-0D797D2040D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31DC-8BEF-4366-B291-054843412F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09120" y="296640"/>
            <a:ext cx="787572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еналоговых доходов бюджета  МО на 2018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47" name="Object 4"/>
          <p:cNvGraphicFramePr/>
          <p:nvPr/>
        </p:nvGraphicFramePr>
        <p:xfrm>
          <a:off x="378000" y="2014560"/>
          <a:ext cx="936144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2014560"/>
                    <a:ext cx="936144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0CC0-EA3F-4FF8-B9E2-00385950851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79BB-A816-48E4-A8B3-1B52F276BE8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AutoShape 4"/>
          <p:cNvSpPr/>
          <p:nvPr/>
        </p:nvSpPr>
        <p:spPr>
          <a:xfrm>
            <a:off x="3330720" y="1889280"/>
            <a:ext cx="3213000" cy="1676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ормы межбюдже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трансф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7600" y="223560"/>
            <a:ext cx="817236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Межбюджетные трансферты –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сновной вид безвозмездных поступлений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3" name="AutoShape 17"/>
          <p:cNvSpPr/>
          <p:nvPr/>
        </p:nvSpPr>
        <p:spPr>
          <a:xfrm>
            <a:off x="3065400" y="4319640"/>
            <a:ext cx="3645000" cy="2286000"/>
          </a:xfrm>
          <a:custGeom>
            <a:avLst/>
            <a:gdLst>
              <a:gd name="textAreaLeft" fmla="*/ 147960 w 3645000"/>
              <a:gd name="textAreaRight" fmla="*/ 3497040 w 3645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34439" h="21600">
                <a:moveTo>
                  <a:pt x="0" y="0"/>
                </a:moveTo>
                <a:lnTo>
                  <a:pt x="34439" y="0"/>
                </a:lnTo>
                <a:lnTo>
                  <a:pt x="34439" y="21600"/>
                </a:lnTo>
                <a:lnTo>
                  <a:pt x="0" y="21600"/>
                </a:lnTo>
                <a:close/>
              </a:path>
              <a:path fill="lightenLess" w="34439" h="21600">
                <a:moveTo>
                  <a:pt x="0" y="0"/>
                </a:moveTo>
                <a:lnTo>
                  <a:pt x="34439" y="0"/>
                </a:lnTo>
                <a:lnTo>
                  <a:pt x="33039" y="1400"/>
                </a:lnTo>
                <a:lnTo>
                  <a:pt x="1400" y="1400"/>
                </a:lnTo>
                <a:close/>
              </a:path>
              <a:path fill="darken" w="34439" h="21600">
                <a:moveTo>
                  <a:pt x="34439" y="0"/>
                </a:moveTo>
                <a:lnTo>
                  <a:pt x="34439" y="21600"/>
                </a:lnTo>
                <a:lnTo>
                  <a:pt x="33039" y="20200"/>
                </a:lnTo>
                <a:lnTo>
                  <a:pt x="33039" y="1400"/>
                </a:lnTo>
                <a:close/>
              </a:path>
              <a:path fill="darkenLess" w="34439" h="21600">
                <a:moveTo>
                  <a:pt x="344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39" y="20200"/>
                </a:lnTo>
                <a:close/>
              </a:path>
              <a:path fill="lighten" w="344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венция – целевые средст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финанс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олномочий, переда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ому уровню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9"/>
          <p:cNvSpPr/>
          <p:nvPr/>
        </p:nvSpPr>
        <p:spPr>
          <a:xfrm flipH="1">
            <a:off x="4816080" y="3649680"/>
            <a:ext cx="3240" cy="55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AutoShape 21"/>
          <p:cNvSpPr/>
          <p:nvPr/>
        </p:nvSpPr>
        <p:spPr>
          <a:xfrm>
            <a:off x="231840" y="3479760"/>
            <a:ext cx="2644560" cy="200196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отации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бе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определения конкре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и их исполь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22"/>
          <p:cNvSpPr/>
          <p:nvPr/>
        </p:nvSpPr>
        <p:spPr>
          <a:xfrm flipH="1">
            <a:off x="1676520" y="2649600"/>
            <a:ext cx="1473120" cy="614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23"/>
          <p:cNvSpPr/>
          <p:nvPr/>
        </p:nvSpPr>
        <p:spPr>
          <a:xfrm>
            <a:off x="204840" y="934920"/>
            <a:ext cx="81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бюджетные трансферты – денежные средства, перечисляемые из одного бюджета бюджетной системы другому бюдж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AutoShape 13"/>
          <p:cNvSpPr/>
          <p:nvPr/>
        </p:nvSpPr>
        <p:spPr>
          <a:xfrm>
            <a:off x="6967440" y="3513240"/>
            <a:ext cx="2729160" cy="200340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сидия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евые сред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офинанс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рас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их бюдж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5"/>
          <p:cNvSpPr/>
          <p:nvPr/>
        </p:nvSpPr>
        <p:spPr>
          <a:xfrm>
            <a:off x="6632640" y="2657520"/>
            <a:ext cx="1670040" cy="72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"/>
                            </p:stCondLst>
                            <p:childTnLst>
                              <p:par>
                                <p:cTn id="5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1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4000"/>
                            </p:stCondLst>
                            <p:childTnLst>
                              <p:par>
                                <p:cTn id="52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28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2F10-362B-47F6-95EB-2F566607F45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AD5C-8E98-41B5-9E7E-760C2D155CB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95080" y="246240"/>
            <a:ext cx="78771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безвозмездных поступлений бюджета  МО за 2018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63" name="Object 4"/>
          <p:cNvGraphicFramePr/>
          <p:nvPr/>
        </p:nvGraphicFramePr>
        <p:xfrm>
          <a:off x="276120" y="2432160"/>
          <a:ext cx="918684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2432160"/>
                    <a:ext cx="918684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6A86-7EAA-42F5-B6EA-F4F1BD2EF34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308E-838B-4817-A099-D1D68689037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749160" y="213840"/>
            <a:ext cx="8902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Что такое бюджет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0" name="Rectangle 3"/>
          <p:cNvSpPr/>
          <p:nvPr/>
        </p:nvSpPr>
        <p:spPr>
          <a:xfrm>
            <a:off x="193680" y="3632040"/>
            <a:ext cx="9363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БЮДЖЕТ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(от старонормандского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ougette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– кошель, сумка, кожаный мешок) – план доходов и расходов, предназначенный для финансирования задач и функций государства и местного самоуправл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4"/>
          <p:cNvSpPr/>
          <p:nvPr/>
        </p:nvSpPr>
        <p:spPr>
          <a:xfrm>
            <a:off x="193680" y="901080"/>
            <a:ext cx="226368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поступающие в бюджет денежные средства (налоги юридических и физических лиц, административные платежи и сборы, безвозмездные поступления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6130800" y="882000"/>
            <a:ext cx="248472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РАС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выплачиваемые из бюджета денежные средства (социальные выплаты населению, содержание муниципальных учреждений (образование, культура и другие) капитальное строительство и други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7"/>
          <p:cNvSpPr/>
          <p:nvPr/>
        </p:nvSpPr>
        <p:spPr>
          <a:xfrm flipH="1">
            <a:off x="2736360" y="5230800"/>
            <a:ext cx="544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8"/>
          <p:cNvSpPr/>
          <p:nvPr/>
        </p:nvSpPr>
        <p:spPr>
          <a:xfrm>
            <a:off x="6365880" y="5232240"/>
            <a:ext cx="547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9"/>
          <p:cNvSpPr/>
          <p:nvPr/>
        </p:nvSpPr>
        <p:spPr>
          <a:xfrm>
            <a:off x="271440" y="4668840"/>
            <a:ext cx="24973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О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бюджета -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доходов над рас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10"/>
          <p:cNvSpPr/>
          <p:nvPr/>
        </p:nvSpPr>
        <p:spPr>
          <a:xfrm>
            <a:off x="6892920" y="4748040"/>
            <a:ext cx="2575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юджет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это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расходов над до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13" descr="2014-04-09dengi_sybsidii"/>
          <p:cNvPicPr/>
          <p:nvPr/>
        </p:nvPicPr>
        <p:blipFill>
          <a:blip r:embed="rId1"/>
          <a:stretch/>
        </p:blipFill>
        <p:spPr>
          <a:xfrm>
            <a:off x="2684520" y="912960"/>
            <a:ext cx="3143160" cy="24876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4" descr="весы-бюджет2212"/>
          <p:cNvPicPr/>
          <p:nvPr/>
        </p:nvPicPr>
        <p:blipFill>
          <a:blip r:embed="rId2"/>
          <a:stretch/>
        </p:blipFill>
        <p:spPr>
          <a:xfrm>
            <a:off x="3360600" y="4500720"/>
            <a:ext cx="2884680" cy="164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20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75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775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6700"/>
                            </p:stCondLst>
                            <p:childTnLst>
                              <p:par>
                                <p:cTn id="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72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50"/>
                            </p:stCondLst>
                            <p:childTnLst>
                              <p:par>
                                <p:cTn id="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55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B4E0-A67C-49F9-8A88-91E9F904057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7E88-7C44-4464-90AD-14828FFB0B2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-668520" y="203040"/>
            <a:ext cx="10296360" cy="41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акие бывают бюджеты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2" name="Rectangle 3"/>
          <p:cNvSpPr/>
          <p:nvPr/>
        </p:nvSpPr>
        <p:spPr>
          <a:xfrm>
            <a:off x="662040" y="907920"/>
            <a:ext cx="16365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4"/>
          <p:cNvSpPr/>
          <p:nvPr/>
        </p:nvSpPr>
        <p:spPr>
          <a:xfrm flipH="1">
            <a:off x="2707920" y="868320"/>
            <a:ext cx="770040" cy="317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5"/>
          <p:cNvSpPr/>
          <p:nvPr/>
        </p:nvSpPr>
        <p:spPr>
          <a:xfrm>
            <a:off x="4952880" y="765000"/>
            <a:ext cx="0" cy="9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6"/>
          <p:cNvSpPr/>
          <p:nvPr/>
        </p:nvSpPr>
        <p:spPr>
          <a:xfrm>
            <a:off x="6051600" y="820800"/>
            <a:ext cx="782640" cy="36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7"/>
          <p:cNvSpPr/>
          <p:nvPr/>
        </p:nvSpPr>
        <p:spPr>
          <a:xfrm>
            <a:off x="3314880" y="1844280"/>
            <a:ext cx="31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ы публично-правов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8"/>
          <p:cNvSpPr/>
          <p:nvPr/>
        </p:nvSpPr>
        <p:spPr>
          <a:xfrm>
            <a:off x="6784920" y="822240"/>
            <a:ext cx="2114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10" descr=""/>
          <p:cNvPicPr/>
          <p:nvPr/>
        </p:nvPicPr>
        <p:blipFill>
          <a:blip r:embed="rId1"/>
          <a:stretch/>
        </p:blipFill>
        <p:spPr>
          <a:xfrm>
            <a:off x="428760" y="3722760"/>
            <a:ext cx="2566800" cy="164304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sp>
        <p:nvSpPr>
          <p:cNvPr id="1139" name="Line 12"/>
          <p:cNvSpPr/>
          <p:nvPr/>
        </p:nvSpPr>
        <p:spPr>
          <a:xfrm>
            <a:off x="6016680" y="2781360"/>
            <a:ext cx="77940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13"/>
          <p:cNvSpPr/>
          <p:nvPr/>
        </p:nvSpPr>
        <p:spPr>
          <a:xfrm>
            <a:off x="4943520" y="2781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4"/>
          <p:cNvSpPr/>
          <p:nvPr/>
        </p:nvSpPr>
        <p:spPr>
          <a:xfrm flipH="1">
            <a:off x="3079440" y="2781360"/>
            <a:ext cx="7808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15"/>
          <p:cNvSpPr/>
          <p:nvPr/>
        </p:nvSpPr>
        <p:spPr>
          <a:xfrm>
            <a:off x="222120" y="5534280"/>
            <a:ext cx="2886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федеральный бюджет, бюджеты государственных внебюджетных фондов 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6"/>
          <p:cNvSpPr/>
          <p:nvPr/>
        </p:nvSpPr>
        <p:spPr>
          <a:xfrm>
            <a:off x="3549600" y="5385240"/>
            <a:ext cx="2886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региональные бюджеты, бюджеты территориальных фондов ОМ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7"/>
          <p:cNvSpPr/>
          <p:nvPr/>
        </p:nvSpPr>
        <p:spPr>
          <a:xfrm>
            <a:off x="6899400" y="5609520"/>
            <a:ext cx="2728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местные бюдже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19"/>
          <p:cNvSpPr/>
          <p:nvPr/>
        </p:nvSpPr>
        <p:spPr>
          <a:xfrm>
            <a:off x="3470400" y="2565360"/>
            <a:ext cx="2808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6" name="Picture 20" descr=""/>
          <p:cNvPicPr/>
          <p:nvPr/>
        </p:nvPicPr>
        <p:blipFill>
          <a:blip r:embed="rId2"/>
          <a:stretch/>
        </p:blipFill>
        <p:spPr>
          <a:xfrm>
            <a:off x="428760" y="1268280"/>
            <a:ext cx="2205000" cy="2230560"/>
          </a:xfrm>
          <a:prstGeom prst="rect">
            <a:avLst/>
          </a:prstGeom>
          <a:ln w="19080">
            <a:solidFill>
              <a:srgbClr val="00ccff"/>
            </a:solidFill>
            <a:miter/>
          </a:ln>
        </p:spPr>
      </p:pic>
      <p:pic>
        <p:nvPicPr>
          <p:cNvPr id="1147" name="Picture 24" descr="i"/>
          <p:cNvPicPr/>
          <p:nvPr/>
        </p:nvPicPr>
        <p:blipFill>
          <a:blip r:embed="rId3"/>
          <a:stretch/>
        </p:blipFill>
        <p:spPr>
          <a:xfrm>
            <a:off x="6964200" y="1452600"/>
            <a:ext cx="2495880" cy="186516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1148" name="Picture 25" descr="karta_arhangelskaya_oblasti_po_rayonam-578x600"/>
          <p:cNvPicPr/>
          <p:nvPr/>
        </p:nvPicPr>
        <p:blipFill>
          <a:blip r:embed="rId4"/>
          <a:stretch/>
        </p:blipFill>
        <p:spPr>
          <a:xfrm>
            <a:off x="7020000" y="3691080"/>
            <a:ext cx="2428920" cy="166500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pic>
        <p:nvPicPr>
          <p:cNvPr id="1149" name="Picture 26" descr="111913170_large_article1408"/>
          <p:cNvPicPr/>
          <p:nvPr/>
        </p:nvPicPr>
        <p:blipFill>
          <a:blip r:embed="rId5"/>
          <a:stretch/>
        </p:blipFill>
        <p:spPr>
          <a:xfrm>
            <a:off x="3597120" y="3675240"/>
            <a:ext cx="2951280" cy="167292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1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2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2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" dur="2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2160" y="848880"/>
            <a:ext cx="8172360" cy="18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Бюджетная система представляет собой совокупность отношений, возникающих между различными субъектами в процессе формирования доходов и осуществления расходов бюджетов всех уровней системы, осуществления государственных и муниципальных заимствований, регулирования государственного и муниципального долга, составления и рассмотрения проектов бюджетов системы, их утверждения и исполнения, контроля за их исполнением.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51" name="Picture 4" descr="флаг"/>
          <p:cNvPicPr/>
          <p:nvPr/>
        </p:nvPicPr>
        <p:blipFill>
          <a:blip r:embed="rId1"/>
          <a:stretch/>
        </p:blipFill>
        <p:spPr>
          <a:xfrm>
            <a:off x="515880" y="2451240"/>
            <a:ext cx="8961480" cy="4074840"/>
          </a:xfrm>
          <a:prstGeom prst="rect">
            <a:avLst/>
          </a:prstGeom>
          <a:ln w="0">
            <a:noFill/>
          </a:ln>
        </p:spPr>
      </p:pic>
      <p:sp>
        <p:nvSpPr>
          <p:cNvPr id="1152" name="Text Box 6"/>
          <p:cNvSpPr/>
          <p:nvPr/>
        </p:nvSpPr>
        <p:spPr>
          <a:xfrm>
            <a:off x="754200" y="318960"/>
            <a:ext cx="76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Бюджетная система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7"/>
          <p:cNvSpPr/>
          <p:nvPr/>
        </p:nvSpPr>
        <p:spPr>
          <a:xfrm>
            <a:off x="2452680" y="2554200"/>
            <a:ext cx="57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Уровни бюджетной сис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AutoShape 8"/>
          <p:cNvSpPr/>
          <p:nvPr/>
        </p:nvSpPr>
        <p:spPr>
          <a:xfrm>
            <a:off x="3309840" y="3162240"/>
            <a:ext cx="4106880" cy="4510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9"/>
          <p:cNvSpPr/>
          <p:nvPr/>
        </p:nvSpPr>
        <p:spPr>
          <a:xfrm>
            <a:off x="3468600" y="3178080"/>
            <a:ext cx="37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AutoShape 11"/>
          <p:cNvSpPr/>
          <p:nvPr/>
        </p:nvSpPr>
        <p:spPr>
          <a:xfrm>
            <a:off x="1871640" y="3933720"/>
            <a:ext cx="6676920" cy="6526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СУБЪЕКТО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12"/>
          <p:cNvSpPr/>
          <p:nvPr/>
        </p:nvSpPr>
        <p:spPr>
          <a:xfrm>
            <a:off x="3367080" y="4964040"/>
            <a:ext cx="3976560" cy="5652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utoShape 13"/>
          <p:cNvSpPr/>
          <p:nvPr/>
        </p:nvSpPr>
        <p:spPr>
          <a:xfrm>
            <a:off x="274680" y="5889600"/>
            <a:ext cx="3397320" cy="6699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униципальных рай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14"/>
          <p:cNvSpPr/>
          <p:nvPr/>
        </p:nvSpPr>
        <p:spPr>
          <a:xfrm>
            <a:off x="3846600" y="5862600"/>
            <a:ext cx="2814480" cy="7113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городски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сельских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16"/>
          <p:cNvSpPr/>
          <p:nvPr/>
        </p:nvSpPr>
        <p:spPr>
          <a:xfrm>
            <a:off x="6894360" y="5864400"/>
            <a:ext cx="2802240" cy="6966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городских окру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17"/>
          <p:cNvSpPr/>
          <p:nvPr/>
        </p:nvSpPr>
        <p:spPr>
          <a:xfrm>
            <a:off x="5006880" y="3641760"/>
            <a:ext cx="479520" cy="247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18"/>
          <p:cNvSpPr/>
          <p:nvPr/>
        </p:nvSpPr>
        <p:spPr>
          <a:xfrm>
            <a:off x="4978440" y="4645080"/>
            <a:ext cx="550800" cy="274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19"/>
          <p:cNvSpPr/>
          <p:nvPr/>
        </p:nvSpPr>
        <p:spPr>
          <a:xfrm>
            <a:off x="5238720" y="5516640"/>
            <a:ext cx="0" cy="3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20"/>
          <p:cNvSpPr/>
          <p:nvPr/>
        </p:nvSpPr>
        <p:spPr>
          <a:xfrm>
            <a:off x="5254560" y="5661000"/>
            <a:ext cx="293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21"/>
          <p:cNvSpPr/>
          <p:nvPr/>
        </p:nvSpPr>
        <p:spPr>
          <a:xfrm flipH="1">
            <a:off x="2003040" y="5646600"/>
            <a:ext cx="322092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22"/>
          <p:cNvSpPr/>
          <p:nvPr/>
        </p:nvSpPr>
        <p:spPr>
          <a:xfrm>
            <a:off x="8188200" y="5645160"/>
            <a:ext cx="158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23"/>
          <p:cNvSpPr/>
          <p:nvPr/>
        </p:nvSpPr>
        <p:spPr>
          <a:xfrm flipH="1">
            <a:off x="1987200" y="5676840"/>
            <a:ext cx="2844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5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8" dur="1000"/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10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1583-C8AC-4A77-A221-0372892023D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A5BA-C03F-41A0-8C14-B16A08B3762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152360" y="190440"/>
            <a:ext cx="626616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Консолидированный бюджет Ленского  район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1" name="Rectangle 3"/>
          <p:cNvSpPr/>
          <p:nvPr/>
        </p:nvSpPr>
        <p:spPr>
          <a:xfrm>
            <a:off x="6740640" y="5130720"/>
            <a:ext cx="2495520" cy="1300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Козьм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4"/>
          <p:cNvSpPr/>
          <p:nvPr/>
        </p:nvSpPr>
        <p:spPr>
          <a:xfrm>
            <a:off x="6715080" y="2122560"/>
            <a:ext cx="24955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афронов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5"/>
          <p:cNvSpPr/>
          <p:nvPr/>
        </p:nvSpPr>
        <p:spPr>
          <a:xfrm>
            <a:off x="6697800" y="730080"/>
            <a:ext cx="24937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ойг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6"/>
          <p:cNvSpPr/>
          <p:nvPr/>
        </p:nvSpPr>
        <p:spPr>
          <a:xfrm>
            <a:off x="2817720" y="3713040"/>
            <a:ext cx="2610000" cy="1563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ы поселений Ленского райо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7"/>
          <p:cNvSpPr/>
          <p:nvPr/>
        </p:nvSpPr>
        <p:spPr>
          <a:xfrm>
            <a:off x="2749680" y="1198440"/>
            <a:ext cx="2698560" cy="1562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Бюджет МО «Ленский муниципальный райо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8"/>
          <p:cNvSpPr/>
          <p:nvPr/>
        </p:nvSpPr>
        <p:spPr>
          <a:xfrm flipH="1">
            <a:off x="1698480" y="2128680"/>
            <a:ext cx="1028880" cy="3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9"/>
          <p:cNvSpPr/>
          <p:nvPr/>
        </p:nvSpPr>
        <p:spPr>
          <a:xfrm flipH="1">
            <a:off x="5089320" y="1674720"/>
            <a:ext cx="1525320" cy="1973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10"/>
          <p:cNvSpPr/>
          <p:nvPr/>
        </p:nvSpPr>
        <p:spPr>
          <a:xfrm flipH="1">
            <a:off x="5506560" y="2692440"/>
            <a:ext cx="1179720" cy="1177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AutoShape 11"/>
          <p:cNvSpPr/>
          <p:nvPr/>
        </p:nvSpPr>
        <p:spPr>
          <a:xfrm>
            <a:off x="317520" y="189000"/>
            <a:ext cx="1366920" cy="6427800"/>
          </a:xfrm>
          <a:custGeom>
            <a:avLst/>
            <a:gdLst>
              <a:gd name="textAreaLeft" fmla="*/ 66600 w 1366920"/>
              <a:gd name="textAreaRight" fmla="*/ 1300320 w 1366920"/>
              <a:gd name="textAreaTop" fmla="*/ 66600 h 6427800"/>
              <a:gd name="textAreaBottom" fmla="*/ 6361200 h 6427800"/>
            </a:gdLst>
            <a:ahLst/>
            <a:rect l="textAreaLeft" t="textAreaTop" r="textAreaRight" b="textAreaBottom"/>
            <a:pathLst>
              <a:path w="21600" h="101551">
                <a:moveTo>
                  <a:pt x="3600" y="0"/>
                </a:moveTo>
                <a:arcTo wR="3600" hR="3600" stAng="16200000" swAng="-5400000"/>
                <a:lnTo>
                  <a:pt x="0" y="97951"/>
                </a:lnTo>
                <a:arcTo wR="3600" hR="3600" stAng="10800000" swAng="-5400000"/>
                <a:lnTo>
                  <a:pt x="18000" y="1015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12"/>
          <p:cNvSpPr/>
          <p:nvPr/>
        </p:nvSpPr>
        <p:spPr>
          <a:xfrm flipH="1" flipV="1">
            <a:off x="5492880" y="5011560"/>
            <a:ext cx="1193760" cy="78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13"/>
          <p:cNvSpPr/>
          <p:nvPr/>
        </p:nvSpPr>
        <p:spPr>
          <a:xfrm flipH="1" flipV="1">
            <a:off x="5479920" y="4384440"/>
            <a:ext cx="1208160" cy="1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26"/>
          <p:cNvSpPr/>
          <p:nvPr/>
        </p:nvSpPr>
        <p:spPr>
          <a:xfrm>
            <a:off x="6697800" y="3586320"/>
            <a:ext cx="250164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«Урдом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20"/>
          <p:cNvSpPr/>
          <p:nvPr/>
        </p:nvSpPr>
        <p:spPr>
          <a:xfrm flipH="1" flipV="1">
            <a:off x="1700280" y="4541400"/>
            <a:ext cx="1087200" cy="1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WordArt 22"/>
          <p:cNvSpPr txBox="1"/>
          <p:nvPr/>
        </p:nvSpPr>
        <p:spPr>
          <a:xfrm rot="5400000">
            <a:off x="-1946520" y="3052440"/>
            <a:ext cx="596592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солидированный бюджет</a:t>
            </a:r>
            <a:endParaRPr b="0" i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0D31-41ED-4BBA-B25F-3F461842516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1FAB-DEE2-4778-A732-CACC5E63D79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11040" y="0"/>
            <a:ext cx="5524560" cy="81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Межбюджетные отношения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8" name="AutoShape 3"/>
          <p:cNvSpPr/>
          <p:nvPr/>
        </p:nvSpPr>
        <p:spPr>
          <a:xfrm>
            <a:off x="493560" y="2720880"/>
            <a:ext cx="3675240" cy="3256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4"/>
          <p:cNvSpPr/>
          <p:nvPr/>
        </p:nvSpPr>
        <p:spPr>
          <a:xfrm>
            <a:off x="4815000" y="927000"/>
            <a:ext cx="3809880" cy="9241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хангель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5"/>
          <p:cNvSpPr/>
          <p:nvPr/>
        </p:nvSpPr>
        <p:spPr>
          <a:xfrm rot="20130000">
            <a:off x="2117520" y="1858680"/>
            <a:ext cx="2698560" cy="342720"/>
          </a:xfrm>
          <a:prstGeom prst="leftRightArrow">
            <a:avLst>
              <a:gd name="adj1" fmla="val 50000"/>
              <a:gd name="adj2" fmla="val 15675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6"/>
          <p:cNvSpPr/>
          <p:nvPr/>
        </p:nvSpPr>
        <p:spPr>
          <a:xfrm rot="5400000">
            <a:off x="6461280" y="2084760"/>
            <a:ext cx="571680" cy="341640"/>
          </a:xfrm>
          <a:prstGeom prst="leftRightArrow">
            <a:avLst>
              <a:gd name="adj1" fmla="val 50000"/>
              <a:gd name="adj2" fmla="val 3331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AutoShape 7"/>
          <p:cNvSpPr/>
          <p:nvPr/>
        </p:nvSpPr>
        <p:spPr>
          <a:xfrm>
            <a:off x="4827600" y="2666880"/>
            <a:ext cx="3908520" cy="11908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ский муниципальны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8"/>
          <p:cNvSpPr/>
          <p:nvPr/>
        </p:nvSpPr>
        <p:spPr>
          <a:xfrm>
            <a:off x="4991040" y="4675320"/>
            <a:ext cx="3741840" cy="191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еления Ленского рай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дом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фронов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зьмин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йгин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AutoShape 9"/>
          <p:cNvSpPr/>
          <p:nvPr/>
        </p:nvSpPr>
        <p:spPr>
          <a:xfrm rot="5400000">
            <a:off x="6451560" y="4098960"/>
            <a:ext cx="641520" cy="342720"/>
          </a:xfrm>
          <a:prstGeom prst="leftRightArrow">
            <a:avLst>
              <a:gd name="adj1" fmla="val 50000"/>
              <a:gd name="adj2" fmla="val 3726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1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5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2D90-73D0-4698-AA98-580D255C799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159B-C060-47A1-BCE6-579DF1ED506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онсолидированный бюджет </a:t>
            </a:r>
            <a:br>
              <a:rPr sz="3000"/>
            </a:b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Ленского  район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198" name=""/>
          <p:cNvGraphicFramePr/>
          <p:nvPr/>
        </p:nvGraphicFramePr>
        <p:xfrm>
          <a:off x="1959120" y="1990800"/>
          <a:ext cx="6270480" cy="3778200"/>
        </p:xfrm>
        <a:graphic>
          <a:graphicData uri="http://schemas.openxmlformats.org/drawingml/2006/table">
            <a:tbl>
              <a:tblPr/>
              <a:tblGrid>
                <a:gridCol w="3255840"/>
                <a:gridCol w="3014640"/>
              </a:tblGrid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3 308,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 412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фици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895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50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B7E2-EF66-45B7-A662-68689E213B1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EA41-404F-4EA9-B7D0-5A95CAD1212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36320" y="-360"/>
            <a:ext cx="8172360" cy="5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могает формировать доходную часть бюджет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02" name="Picture 5" descr="mota_ru_0020701-crop"/>
          <p:cNvPicPr/>
          <p:nvPr/>
        </p:nvPicPr>
        <p:blipFill>
          <a:blip r:embed="rId1"/>
          <a:stretch/>
        </p:blipFill>
        <p:spPr>
          <a:xfrm>
            <a:off x="0" y="2171880"/>
            <a:ext cx="2719440" cy="2530440"/>
          </a:xfrm>
          <a:prstGeom prst="rect">
            <a:avLst/>
          </a:prstGeom>
          <a:ln w="0">
            <a:noFill/>
          </a:ln>
        </p:spPr>
      </p:pic>
      <p:sp>
        <p:nvSpPr>
          <p:cNvPr id="1203" name="Rectangle 6"/>
          <p:cNvSpPr/>
          <p:nvPr/>
        </p:nvSpPr>
        <p:spPr>
          <a:xfrm>
            <a:off x="439920" y="668160"/>
            <a:ext cx="3112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налогоплательщ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доходная часть 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( отчисление налогов и сбор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Picture 9" descr="p_35848_1_gallerybig"/>
          <p:cNvPicPr/>
          <p:nvPr/>
        </p:nvPicPr>
        <p:blipFill>
          <a:blip r:embed="rId2"/>
          <a:stretch/>
        </p:blipFill>
        <p:spPr>
          <a:xfrm>
            <a:off x="3844800" y="1498680"/>
            <a:ext cx="2698920" cy="2908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205" name="Picture 12" descr="1251836862_3d-character-114"/>
          <p:cNvPicPr/>
          <p:nvPr/>
        </p:nvPicPr>
        <p:blipFill>
          <a:blip r:embed="rId3"/>
          <a:stretch/>
        </p:blipFill>
        <p:spPr>
          <a:xfrm>
            <a:off x="7350120" y="3465360"/>
            <a:ext cx="1951200" cy="2909880"/>
          </a:xfrm>
          <a:prstGeom prst="rect">
            <a:avLst/>
          </a:prstGeom>
          <a:ln w="0">
            <a:noFill/>
          </a:ln>
        </p:spPr>
      </p:pic>
      <p:sp>
        <p:nvSpPr>
          <p:cNvPr id="1206" name="AutoShape 15"/>
          <p:cNvSpPr/>
          <p:nvPr/>
        </p:nvSpPr>
        <p:spPr>
          <a:xfrm>
            <a:off x="2754360" y="2470320"/>
            <a:ext cx="915840" cy="463320"/>
          </a:xfrm>
          <a:prstGeom prst="rightArrowCallout">
            <a:avLst>
              <a:gd name="adj1" fmla="val 25002"/>
              <a:gd name="adj2" fmla="val 25000"/>
              <a:gd name="adj3" fmla="val 32945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AutoShape 16"/>
          <p:cNvSpPr/>
          <p:nvPr/>
        </p:nvSpPr>
        <p:spPr>
          <a:xfrm rot="5400000">
            <a:off x="6962760" y="2457360"/>
            <a:ext cx="1130400" cy="1409760"/>
          </a:xfrm>
          <a:custGeom>
            <a:avLst/>
            <a:gdLst>
              <a:gd name="textAreaLeft" fmla="*/ 650520 w 1130400"/>
              <a:gd name="textAreaRight" fmla="*/ 954000 w 1130400"/>
              <a:gd name="textAreaTop" fmla="*/ 190080 h 1409760"/>
              <a:gd name="textAreaBottom" fmla="*/ 603360 h 1409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17"/>
          <p:cNvSpPr/>
          <p:nvPr/>
        </p:nvSpPr>
        <p:spPr>
          <a:xfrm>
            <a:off x="755640" y="49500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Получает социальные гарантии –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расходная часть бюджета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(образование,  культура, физическая культура и спорт, социальные льготы и другие направления социальных гарантий населен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18"/>
          <p:cNvSpPr/>
          <p:nvPr/>
        </p:nvSpPr>
        <p:spPr>
          <a:xfrm>
            <a:off x="6845400" y="1406520"/>
            <a:ext cx="290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как получ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социальных гаран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1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5" dur="2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2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1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70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F92F-CCDE-4BB9-8FC7-F5D4B669339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2D87-B963-49E6-9943-23F7BE56A1A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888840" y="495360"/>
            <a:ext cx="7167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Основные  параметры бюджета МО «Ленский муниципальный район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13" name=""/>
          <p:cNvGraphicFramePr/>
          <p:nvPr/>
        </p:nvGraphicFramePr>
        <p:xfrm>
          <a:off x="571680" y="2690640"/>
          <a:ext cx="7716600" cy="2982960"/>
        </p:xfrm>
        <a:graphic>
          <a:graphicData uri="http://schemas.openxmlformats.org/drawingml/2006/table">
            <a:tbl>
              <a:tblPr/>
              <a:tblGrid>
                <a:gridCol w="3821040"/>
                <a:gridCol w="3895560"/>
              </a:tblGrid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2 949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 078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фицит + дефицит 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6871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0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Your User Name</cp:lastModifiedBy>
  <dcterms:modified xsi:type="dcterms:W3CDTF">2019-02-25T10:25:36Z</dcterms:modified>
  <cp:revision>895</cp:revision>
  <dc:subject/>
  <dc:title>Бюджет для граждан на 2014 год</dc:title>
</cp:coreProperties>
</file>