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24.jpeg" ContentType="image/jpeg"/>
  <Override PartName="/ppt/media/image19.jpeg" ContentType="image/jpeg"/>
  <Override PartName="/ppt/media/image1.jpeg" ContentType="image/jpeg"/>
  <Override PartName="/ppt/media/image22.jpeg" ContentType="image/jpeg"/>
  <Override PartName="/ppt/media/image25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96600" y="740880"/>
            <a:ext cx="534204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BEB5-09AE-4299-B6AC-AAA9E4E1F1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696960" y="741240"/>
            <a:ext cx="5342040" cy="369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8956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70A9-0F08-4066-9D91-E9FE6FBFF6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29F0-2D0E-46ED-BAB8-1920FE12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EF39-BE66-4C04-B888-4711853C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089B-1118-4229-89E9-DFD0369D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4222-66A2-4DE5-83DC-61BC417F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D70A-CB2F-40C9-94BC-F69CA202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CA59-37EA-4B23-B707-3246C0EA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C2B7-6DA8-4BD6-9A99-7D30EEA4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1CA4-DF9C-4819-A052-24FB069F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3114-DAB2-4C64-8656-E1B5B87A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0D87-E1D7-4B5F-A4D5-9B298ADF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704C-836E-4FCB-933D-0B5D8E38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B491-1657-4165-A5AB-BFA0D344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070D-111A-41E8-9A8E-EF50D141BB88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AB5E-DB3A-455E-97FF-D1041CB60CB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hyperlink" Target="http://images.yandex.ru/yandsearch?source=wiz&amp;fp=0&amp;img_url=http%3A%2F%2Fwww.bbc.co.uk%2Fradio4%2Fwomanshour%2Fmedia%2Fcarer_sized.jpg&amp;text=&#1086;&#1087;&#1077;&#1082;&#1072;%20&#1085;&#1072;&#1076;%20&#1089;&#1086;&#1074;&#1077;&#1088;&#1096;&#1077;&#1085;&#1085;&#1086;&#1083;&#1077;&#1090;&#1085;&#1080;&#1084;&#1080;%20&#1085;&#1077;&#1076;&#1077;&#1077;&#1089;&#1087;&#1086;&#1089;&#1086;&#1073;&#1085;&#1099;&#1084;&#1080;%20&#1074;%20&#1082;&#1072;&#1088;&#1090;&#1080;&#1085;&#1082;&#1072;&#1093;&amp;noreask=1&amp;pos=17&amp;lr=20&amp;rpt=simage&amp;nojs=1" TargetMode="External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43080"/>
            <a:ext cx="8915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сходы районного бюдж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95000" y="922320"/>
            <a:ext cx="891540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91919"/>
                </a:solidFill>
                <a:latin typeface="Calibri"/>
              </a:rPr>
              <a:t>Расходы бюджета – выплачиваемые из бюджета  денежные средства, за исключением   средств, являющихся источниками финансирования дефицита бюджет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5192-AA3D-4A8D-A26D-618FBBA8C53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2FE5-2384-4C9D-94D8-12DA432109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4"/>
          <p:cNvSpPr/>
          <p:nvPr/>
        </p:nvSpPr>
        <p:spPr>
          <a:xfrm>
            <a:off x="287280" y="977760"/>
            <a:ext cx="9204480" cy="0"/>
          </a:xfrm>
          <a:prstGeom prst="line">
            <a:avLst/>
          </a:prstGeom>
          <a:ln w="475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3782880" y="1697040"/>
            <a:ext cx="2341800" cy="10969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пределение расходов в районном бюдж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36600" y="3386160"/>
            <a:ext cx="2801880" cy="2612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функциям местного самоуправления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отраслев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414600" y="3425760"/>
            <a:ext cx="2801880" cy="2613240"/>
          </a:xfrm>
          <a:prstGeom prst="rect">
            <a:avLst/>
          </a:prstGeom>
          <a:solidFill>
            <a:srgbClr val="ffff99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органам местного самоуправления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ведомственн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6413400" y="3435480"/>
            <a:ext cx="3108600" cy="2612880"/>
          </a:xfrm>
          <a:prstGeom prst="rect">
            <a:avLst/>
          </a:prstGeom>
          <a:solidFill>
            <a:srgbClr val="948a54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По муниципальным программам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«программн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9"/>
          <p:cNvSpPr/>
          <p:nvPr/>
        </p:nvSpPr>
        <p:spPr>
          <a:xfrm rot="7897200">
            <a:off x="1767600" y="2100600"/>
            <a:ext cx="1611360" cy="882720"/>
          </a:xfrm>
          <a:custGeom>
            <a:avLst/>
            <a:gdLst>
              <a:gd name="textAreaLeft" fmla="*/ 285120 w 1611360"/>
              <a:gd name="textAreaRight" fmla="*/ 1154520 w 1611360"/>
              <a:gd name="textAreaTop" fmla="*/ 118080 h 882720"/>
              <a:gd name="textAreaBottom" fmla="*/ 76464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-1050565"/>
                <a:lnTo>
                  <a:pt x="19038" y="16129"/>
                </a:lnTo>
                <a:lnTo>
                  <a:pt x="17299" y="0"/>
                </a:lnTo>
                <a:lnTo>
                  <a:pt x="10436" y="16129"/>
                </a:lnTo>
                <a:lnTo>
                  <a:pt x="12738" y="16129"/>
                </a:lnTo>
                <a:arcTo wR="7650" hR="21600" stAng="4349435" swAng="721967"/>
                <a:lnTo>
                  <a:pt x="9649" y="20850"/>
                </a:lnTo>
                <a:arcTo wR="7650" hR="21600" stAng="5728598" swAng="5071402"/>
                <a:close/>
              </a:path>
              <a:path fill="darkenLess"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328598"/>
                <a:lnTo>
                  <a:pt x="9649" y="20850"/>
                </a:lnTo>
                <a:arcTo wR="7650" hR="21600" stAng="5728598" swAng="5071402"/>
                <a:close/>
              </a:path>
            </a:pathLst>
          </a:cu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"/>
          <p:cNvSpPr/>
          <p:nvPr/>
        </p:nvSpPr>
        <p:spPr>
          <a:xfrm rot="2313000">
            <a:off x="6381360" y="2165400"/>
            <a:ext cx="1701720" cy="609480"/>
          </a:xfrm>
          <a:custGeom>
            <a:avLst/>
            <a:gdLst>
              <a:gd name="textAreaLeft" fmla="*/ 312480 w 1701720"/>
              <a:gd name="textAreaRight" fmla="*/ 1238400 w 1701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39" hR="21600" stAng="10800000" swAng="5400000"/>
                <a:lnTo>
                  <a:pt x="11748" y="0"/>
                </a:lnTo>
                <a:arcTo wR="7939" hR="21600" stAng="-5400000" swAng="819454"/>
                <a:lnTo>
                  <a:pt x="18040" y="3582"/>
                </a:lnTo>
                <a:lnTo>
                  <a:pt x="17782" y="21600"/>
                </a:lnTo>
                <a:lnTo>
                  <a:pt x="10403" y="3582"/>
                </a:lnTo>
                <a:lnTo>
                  <a:pt x="12317" y="3582"/>
                </a:lnTo>
                <a:arcTo wR="7939" hR="21600" stAng="-4580546" swAng="-508080"/>
                <a:lnTo>
                  <a:pt x="9843" y="631"/>
                </a:lnTo>
                <a:arcTo wR="7939" hR="21600" stAng="-5711375" swAng="-5088625"/>
                <a:close/>
              </a:path>
              <a:path fill="darkenLess" w="21600" h="21600">
                <a:moveTo>
                  <a:pt x="0" y="21600"/>
                </a:moveTo>
                <a:arcTo wR="7939" hR="21600" stAng="10800000" swAng="5400000"/>
                <a:lnTo>
                  <a:pt x="7939" y="0"/>
                </a:lnTo>
                <a:arcTo wR="7939" hR="21600" stAng="-5400000" swAng="311375"/>
                <a:lnTo>
                  <a:pt x="9843" y="631"/>
                </a:lnTo>
                <a:arcTo wR="7939" hR="21600" stAng="-5711375" swAng="-5088625"/>
                <a:close/>
              </a:path>
            </a:pathLst>
          </a:custGeom>
          <a:solidFill>
            <a:srgbClr val="3366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4543560" y="2860560"/>
            <a:ext cx="76680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униципальная программа «Развитие образования Ленского муниципального района (2015-2020 годы)»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(расходы на дополнительное образование детей)</a:t>
            </a: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95000" y="160020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035320" y="160020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1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025E-EE62-4081-A8B4-15357887C7C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" descr="C:\Users\Кривошеина ТА\Desktop\hAA92US1dEc.jpg"/>
          <p:cNvPicPr/>
          <p:nvPr/>
        </p:nvPicPr>
        <p:blipFill>
          <a:blip r:embed="rId1"/>
          <a:stretch/>
        </p:blipFill>
        <p:spPr>
          <a:xfrm>
            <a:off x="4998960" y="1554120"/>
            <a:ext cx="4516560" cy="3517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Users\Кривошеина ТА\Desktop\lop.jpg"/>
          <p:cNvPicPr/>
          <p:nvPr/>
        </p:nvPicPr>
        <p:blipFill>
          <a:blip r:embed="rId2"/>
          <a:stretch/>
        </p:blipFill>
        <p:spPr>
          <a:xfrm>
            <a:off x="554040" y="2502000"/>
            <a:ext cx="4238640" cy="3251160"/>
          </a:xfrm>
          <a:prstGeom prst="rect">
            <a:avLst/>
          </a:prstGeom>
          <a:ln w="25560">
            <a:solidFill>
              <a:srgbClr val="385d8a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Муниципальная программа 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«Развитие образования Ленского муниципального района» (2015-2020 годы)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95360" y="1981080"/>
          <a:ext cx="8686800" cy="3778200"/>
        </p:xfrm>
        <a:graphic>
          <a:graphicData uri="http://schemas.openxmlformats.org/drawingml/2006/table">
            <a:tbl>
              <a:tblPr/>
              <a:tblGrid>
                <a:gridCol w="3992400"/>
                <a:gridCol w="469440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121f"/>
                          </a:solidFill>
                          <a:latin typeface="Calibri"/>
                        </a:rPr>
                        <a:t>Охрана семьи и дет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121f"/>
                          </a:solidFill>
                          <a:latin typeface="Calibri"/>
                        </a:rPr>
                        <a:t>757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школьное 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40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121f"/>
                          </a:solidFill>
                          <a:latin typeface="Calibri"/>
                        </a:rPr>
                        <a:t>Общее 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121f"/>
                          </a:solidFill>
                          <a:latin typeface="Calibri"/>
                        </a:rPr>
                        <a:t>25769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е образование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30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121f"/>
                          </a:solidFill>
                          <a:latin typeface="Calibri"/>
                        </a:rPr>
                        <a:t>Молодёжная поли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8121f"/>
                          </a:solidFill>
                          <a:latin typeface="Calibri"/>
                        </a:rPr>
                        <a:t>167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опросы в области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00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54" name="Номер слайда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1252-7D67-4F8D-BB7E-88A63B102EF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B5BA-5631-46DC-8563-DF93558D12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AC79-ABA0-4F85-BC98-BE613AAAC6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30120" y="228600"/>
            <a:ext cx="932184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униципальная программа «Развитие местного самоуправления в МО «Ленский муниципальный район» и поддержка социально ориентированных некоммерческих организаций» (2017 – 2019 годы)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749160" y="4861080"/>
            <a:ext cx="3314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Старшее поко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70c0"/>
                </a:solidFill>
                <a:latin typeface="Times New Roman"/>
              </a:rPr>
              <a:t>(на оплату проезда в общественн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Times New Roman"/>
              </a:rPr>
              <a:t>транспорте)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          </a:t>
            </a:r>
            <a:br>
              <a:rPr sz="24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6 год – 56,1 тыс.руб.       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7 год- 40,1 тыс.руб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8 год- 35,0 тыс.руб.      </a:t>
            </a:r>
            <a:br>
              <a:rPr sz="22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5118120" y="2146320"/>
            <a:ext cx="36990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Развитие территориального общественного самоуправления</a:t>
            </a:r>
            <a:br>
              <a:rPr sz="20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6 год – 469,4 тыс.руб.</a:t>
            </a:r>
            <a:br>
              <a:rPr sz="2200"/>
            </a:b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7 год – 469,2 тыс.руб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2018 год – 615,5 тыс.руб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927680" y="1270080"/>
            <a:ext cx="4276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0" descr="C:\Users\Кривошеина ТА\Desktop\mf3AhARxB0Y.jpg"/>
          <p:cNvPicPr/>
          <p:nvPr/>
        </p:nvPicPr>
        <p:blipFill>
          <a:blip r:embed="rId1"/>
          <a:stretch/>
        </p:blipFill>
        <p:spPr>
          <a:xfrm>
            <a:off x="457200" y="2146320"/>
            <a:ext cx="3505320" cy="23241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C:\Users\Кривошеина ТА\Desktop\4d31d7d312b1d41a8acf70abf9403588.jpg"/>
          <p:cNvPicPr/>
          <p:nvPr/>
        </p:nvPicPr>
        <p:blipFill>
          <a:blip r:embed="rId2"/>
          <a:stretch/>
        </p:blipFill>
        <p:spPr>
          <a:xfrm>
            <a:off x="5130720" y="3941640"/>
            <a:ext cx="3683160" cy="234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B0D8-AFBE-4067-81C7-1BEEF24C686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806D-24D4-4314-BFE5-2D2FFAB1F1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Прямоугольник 3"/>
          <p:cNvSpPr/>
          <p:nvPr/>
        </p:nvSpPr>
        <p:spPr>
          <a:xfrm>
            <a:off x="216000" y="406440"/>
            <a:ext cx="89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П «Устойчивое развитие сельских территорий  МО "Ленский муниципальный район»на 2017-2020 год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оугольник 5"/>
          <p:cNvSpPr/>
          <p:nvPr/>
        </p:nvSpPr>
        <p:spPr>
          <a:xfrm>
            <a:off x="152280" y="17524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2016 год –  2502,7 тыс.рублей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2017 год –  2130,6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2018 год -  2039,6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ик 6"/>
          <p:cNvSpPr/>
          <p:nvPr/>
        </p:nvSpPr>
        <p:spPr>
          <a:xfrm>
            <a:off x="4483080" y="2044800"/>
            <a:ext cx="51814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лучшение жилищных условий граждан, проживающих в сельской мест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2018 год – 677,0 тыс.ру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.т.ч. из федерального бюджета-86,5 тыс.руб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областного бюджета- 567,0 тыс.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местного бюджета – 23,5 тыс.руб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ик 8"/>
          <p:cNvSpPr/>
          <p:nvPr/>
        </p:nvSpPr>
        <p:spPr>
          <a:xfrm>
            <a:off x="4457880" y="4102200"/>
            <a:ext cx="52956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еспечение жильем молодых семей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лодых специалистов, проживающи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сельской местности</a:t>
            </a:r>
            <a:br>
              <a:rPr sz="24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2018 год – 1362,6 тыс.ру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федерального бюджета- 468,3 тыс.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областного бюджета- 767,2тыс.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в т.ч. из местного бюджета – 127,0 тыс.руб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Рисунок 11" descr="P1010125.JPG"/>
          <p:cNvPicPr/>
          <p:nvPr/>
        </p:nvPicPr>
        <p:blipFill>
          <a:blip r:embed="rId1"/>
          <a:stretch/>
        </p:blipFill>
        <p:spPr>
          <a:xfrm>
            <a:off x="190440" y="3213000"/>
            <a:ext cx="4030560" cy="30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000" y="342720"/>
            <a:ext cx="9139320" cy="113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МП «Профилактика безнадзорности и правонарушений несовершеннолетних на территории МО «Ленский муниципальный район» на 2017-2020 год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8104-265A-4077-975E-C2A2CFE15F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96E9-61FB-4A9B-8A5B-8F6E420CC6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4711680" y="3278160"/>
            <a:ext cx="47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016              2017              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50"/>
          <p:cNvSpPr/>
          <p:nvPr/>
        </p:nvSpPr>
        <p:spPr>
          <a:xfrm>
            <a:off x="193680" y="4005360"/>
            <a:ext cx="4416480" cy="220500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филактика безнадзор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и правонаруш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несовершеннолетн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50"/>
          <p:cNvSpPr/>
          <p:nvPr/>
        </p:nvSpPr>
        <p:spPr>
          <a:xfrm>
            <a:off x="4854600" y="3929040"/>
            <a:ext cx="1325520" cy="936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64,4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50"/>
          <p:cNvSpPr/>
          <p:nvPr/>
        </p:nvSpPr>
        <p:spPr>
          <a:xfrm>
            <a:off x="6448320" y="3954600"/>
            <a:ext cx="1249560" cy="93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64,4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4991040" y="1827360"/>
            <a:ext cx="466092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6" descr="C:\Users\Кривошеина ТА\Desktop\038ec6fd924417e0a25450612295dfbc.jpg"/>
          <p:cNvPicPr/>
          <p:nvPr/>
        </p:nvPicPr>
        <p:blipFill>
          <a:blip r:embed="rId1"/>
          <a:stretch/>
        </p:blipFill>
        <p:spPr>
          <a:xfrm>
            <a:off x="1092240" y="1727280"/>
            <a:ext cx="3200400" cy="201456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50"/>
          <p:cNvSpPr/>
          <p:nvPr/>
        </p:nvSpPr>
        <p:spPr>
          <a:xfrm>
            <a:off x="8035920" y="3954600"/>
            <a:ext cx="1249200" cy="93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99,0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58360" y="431280"/>
            <a:ext cx="907596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МП «Развитие сферы культуры МО «Ленский муниципальный район» на 2018-2020 годы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CEC0-631D-4A49-9BD4-D19E5D5985C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CAC7-C46C-48CE-8C5A-D1F804173C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5715000" y="4114800"/>
            <a:ext cx="37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50"/>
          <p:cNvSpPr/>
          <p:nvPr/>
        </p:nvSpPr>
        <p:spPr>
          <a:xfrm>
            <a:off x="279360" y="4483080"/>
            <a:ext cx="4648320" cy="52056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Библиотечное обслуживание нас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50"/>
          <p:cNvSpPr/>
          <p:nvPr/>
        </p:nvSpPr>
        <p:spPr>
          <a:xfrm>
            <a:off x="6845400" y="5156280"/>
            <a:ext cx="2755800" cy="43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7847,4 тыс. 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50"/>
          <p:cNvSpPr/>
          <p:nvPr/>
        </p:nvSpPr>
        <p:spPr>
          <a:xfrm>
            <a:off x="279360" y="5156280"/>
            <a:ext cx="4673520" cy="50796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я досуга, туристских  и культурно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развлекательных  програм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50"/>
          <p:cNvSpPr/>
          <p:nvPr/>
        </p:nvSpPr>
        <p:spPr>
          <a:xfrm>
            <a:off x="6883560" y="5829480"/>
            <a:ext cx="2717640" cy="393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6195,4 тыс. 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5448240" y="838080"/>
            <a:ext cx="41403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50"/>
          <p:cNvSpPr/>
          <p:nvPr/>
        </p:nvSpPr>
        <p:spPr>
          <a:xfrm>
            <a:off x="6832440" y="4508640"/>
            <a:ext cx="2743200" cy="419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4300,6 тыс. 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50"/>
          <p:cNvSpPr/>
          <p:nvPr/>
        </p:nvSpPr>
        <p:spPr>
          <a:xfrm>
            <a:off x="266760" y="5803920"/>
            <a:ext cx="4660920" cy="50796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я музейной деятель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Рисунок 20" descr="73099b4a3b5a0e1d2b348e49007495c5.jpg"/>
          <p:cNvPicPr/>
          <p:nvPr/>
        </p:nvPicPr>
        <p:blipFill>
          <a:blip r:embed="rId1"/>
          <a:stretch/>
        </p:blipFill>
        <p:spPr>
          <a:xfrm>
            <a:off x="146160" y="1803240"/>
            <a:ext cx="3157560" cy="208764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21" descr="eebc1cae3053558bf599de592a2898f7.jpg"/>
          <p:cNvPicPr/>
          <p:nvPr/>
        </p:nvPicPr>
        <p:blipFill>
          <a:blip r:embed="rId2"/>
          <a:stretch/>
        </p:blipFill>
        <p:spPr>
          <a:xfrm>
            <a:off x="3389400" y="1803240"/>
            <a:ext cx="3159000" cy="208764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22" descr="fc37875f3a54b4157027d16e98c87512.jpg"/>
          <p:cNvPicPr/>
          <p:nvPr/>
        </p:nvPicPr>
        <p:blipFill>
          <a:blip r:embed="rId3"/>
          <a:stretch/>
        </p:blipFill>
        <p:spPr>
          <a:xfrm>
            <a:off x="6634080" y="1803240"/>
            <a:ext cx="315756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4000"/>
                            </p:stCondLst>
                            <p:childTnLst>
                              <p:par>
                                <p:cTn id="4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7000"/>
                            </p:stCondLst>
                            <p:childTnLst>
                              <p:par>
                                <p:cTn id="4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3D94-6197-48B8-96EA-31FC5B6EA12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A6E6-127E-44D9-BBAF-6AB6036CDC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291960" y="380880"/>
            <a:ext cx="928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униципальная программа  "Развитие физической культуры, спорта, туризма, повышение эффективности реализации молодежной и семейной политики в МО "Ленский муниципальный район"( 2017-2019 годы)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Прямоугольник 3"/>
          <p:cNvSpPr/>
          <p:nvPr/>
        </p:nvSpPr>
        <p:spPr>
          <a:xfrm>
            <a:off x="5283360" y="1104840"/>
            <a:ext cx="383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</a:rPr>
              <a:t>2016 год –  1296,8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</a:rPr>
              <a:t>2017 год –  1779,0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</a:rPr>
              <a:t>2018 год  – 1839,5 тыс.рублей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50"/>
          <p:cNvSpPr/>
          <p:nvPr/>
        </p:nvSpPr>
        <p:spPr>
          <a:xfrm>
            <a:off x="266760" y="4381560"/>
            <a:ext cx="4648320" cy="203184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существление государственных полномочий 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и и осуществлению деятельности п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пеке и попечительств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2018 год – 1748,2 тыс.рубл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50"/>
          <p:cNvSpPr/>
          <p:nvPr/>
        </p:nvSpPr>
        <p:spPr>
          <a:xfrm>
            <a:off x="5003640" y="2616120"/>
            <a:ext cx="4470480" cy="198144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существление государственных полномоч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о выплате вознагражд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офессиональным опекун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2018 год – 91,3 тыс.рубл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10" descr="C:\Users\Кривошеина ТА\Desktop\c3100801bdf72b9cacdbce370dbcd682.jpg"/>
          <p:cNvPicPr/>
          <p:nvPr/>
        </p:nvPicPr>
        <p:blipFill>
          <a:blip r:embed="rId1"/>
          <a:stretch/>
        </p:blipFill>
        <p:spPr>
          <a:xfrm>
            <a:off x="1155600" y="2031840"/>
            <a:ext cx="3238560" cy="2146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C:\Users\Кривошеина ТА\Desktop\087562b215bc504fc78dcc6a353109f1.jpg"/>
          <p:cNvPicPr/>
          <p:nvPr/>
        </p:nvPicPr>
        <p:blipFill>
          <a:blip r:embed="rId2"/>
          <a:stretch/>
        </p:blipFill>
        <p:spPr>
          <a:xfrm>
            <a:off x="5613480" y="4762440"/>
            <a:ext cx="3174840" cy="16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96880" y="352440"/>
            <a:ext cx="88264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 сфере экономики и ЖК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5BFA-02E8-421C-9D1C-E93920268D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E9D1-D7D8-4E92-A8CC-BE1E0AC4C0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27"/>
          <p:cNvSpPr/>
          <p:nvPr/>
        </p:nvSpPr>
        <p:spPr>
          <a:xfrm>
            <a:off x="723960" y="1600200"/>
            <a:ext cx="8481960" cy="5029200"/>
          </a:xfrm>
          <a:prstGeom prst="roundRect">
            <a:avLst>
              <a:gd name="adj" fmla="val 16667"/>
            </a:avLst>
          </a:prstGeom>
          <a:solidFill>
            <a:srgbClr val="376092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Создание условий для развития сельского хозяй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МО Ленский муниципальный район на 2017-2020 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Развитие  малого и среднего предприниматель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а территории МО Ленский муниципальный райо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а 2017-2020 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Развитие торговли на территор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О Ленский муниципальный район на 2017 – 2020 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Ремонт и содержание сети автомобильных доро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аходящихся в собствен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О Ленский муниципальный район на 2017-2020 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3201-345C-4F56-8DC6-E4B37436E6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C63F-E140-4117-A4FC-F400045217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0" y="372960"/>
            <a:ext cx="920736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униципальная  программа  "Создание условий для развития сельского хозяйства в  МО "Ленский муниципальный район" на 2017-2020 годы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оугольник 3"/>
          <p:cNvSpPr/>
          <p:nvPr/>
        </p:nvSpPr>
        <p:spPr>
          <a:xfrm>
            <a:off x="3390840" y="1523880"/>
            <a:ext cx="575316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2017 год – 20,0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2018 год – 35,9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оугольник 15"/>
          <p:cNvSpPr/>
          <p:nvPr/>
        </p:nvSpPr>
        <p:spPr>
          <a:xfrm>
            <a:off x="457200" y="3048120"/>
            <a:ext cx="916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17"/>
          <p:cNvSpPr/>
          <p:nvPr/>
        </p:nvSpPr>
        <p:spPr>
          <a:xfrm>
            <a:off x="4411800" y="3075120"/>
            <a:ext cx="190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13" descr="C:\Users\Кривошеина ТА\Desktop\bUmLyQ2-oag.jpg"/>
          <p:cNvPicPr/>
          <p:nvPr/>
        </p:nvPicPr>
        <p:blipFill>
          <a:blip r:embed="rId1"/>
          <a:stretch/>
        </p:blipFill>
        <p:spPr>
          <a:xfrm>
            <a:off x="577800" y="4265640"/>
            <a:ext cx="3994200" cy="234144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14" descr="P1010120.JPG"/>
          <p:cNvPicPr/>
          <p:nvPr/>
        </p:nvPicPr>
        <p:blipFill>
          <a:blip r:embed="rId2"/>
          <a:stretch/>
        </p:blipFill>
        <p:spPr>
          <a:xfrm>
            <a:off x="5767560" y="4143240"/>
            <a:ext cx="3120840" cy="23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39384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Муниципальная программа "Ремонт и содержание сети автомобильных дорог, находящихся в собственности МО "Ленский муниципальный район" на 2017-2020 годы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11D4-4481-47DD-81B1-D4797338EC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AF6B-7D5F-456E-A827-C51D2E05CC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795840" y="4194000"/>
            <a:ext cx="58388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5124600" y="1523880"/>
            <a:ext cx="429876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2016 год – 7,3 млн.рублей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2017 год – 6,0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2018 год – 6,2 млн.рублей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939960" y="1943280"/>
            <a:ext cx="38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Содержание  автомобильных дор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1"/>
          <p:cNvSpPr/>
          <p:nvPr/>
        </p:nvSpPr>
        <p:spPr>
          <a:xfrm flipH="1">
            <a:off x="5295960" y="5575320"/>
            <a:ext cx="308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Ремонт автомобильных дор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11" descr="C:\Users\Кривошеина ТА\Desktop\traktor(1).jpg"/>
          <p:cNvPicPr/>
          <p:nvPr/>
        </p:nvPicPr>
        <p:blipFill>
          <a:blip r:embed="rId1"/>
          <a:stretch/>
        </p:blipFill>
        <p:spPr>
          <a:xfrm>
            <a:off x="457200" y="2819520"/>
            <a:ext cx="3289320" cy="284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C:\Users\Кривошеина ТА\Desktop\6639360_6njjs0zinq.jpg"/>
          <p:cNvPicPr/>
          <p:nvPr/>
        </p:nvPicPr>
        <p:blipFill>
          <a:blip r:embed="rId2"/>
          <a:stretch/>
        </p:blipFill>
        <p:spPr>
          <a:xfrm>
            <a:off x="4521240" y="3251160"/>
            <a:ext cx="4444920" cy="226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520560"/>
            <a:ext cx="941076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сходы бюджета муниципального образования «Ленский муниципальный район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7CED-9A0E-47C4-8F68-6B126DA3B0C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47C7-EA42-4EC8-965B-2B9E7128B4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2362320" y="3121200"/>
            <a:ext cx="5143320" cy="17557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2018 год – 576078,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82760" y="603000"/>
            <a:ext cx="913896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Муниципальная программа «Развитие торговли на территории МО «Ленский муниципальный район на 2017 – 2020 год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659D-F903-47DE-B9A9-F1B6A5CA09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D231-C458-4DE9-9C16-E4FF388213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50"/>
          <p:cNvSpPr/>
          <p:nvPr/>
        </p:nvSpPr>
        <p:spPr>
          <a:xfrm>
            <a:off x="190440" y="2717640"/>
            <a:ext cx="4826160" cy="23749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ce0ea"/>
                </a:solidFill>
                <a:latin typeface="Times New Roman"/>
              </a:rPr>
              <a:t>Доставка муки и лекарственных средств в район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ce0ea"/>
                </a:solidFill>
                <a:latin typeface="Times New Roman"/>
              </a:rPr>
              <a:t>Крайнего Севера и приравненные к ним мес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ce0ea"/>
                </a:solidFill>
                <a:latin typeface="Times New Roman"/>
              </a:rPr>
              <a:t>с ограниченными сроками завоза груз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018 год – 29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50"/>
          <p:cNvSpPr/>
          <p:nvPr/>
        </p:nvSpPr>
        <p:spPr>
          <a:xfrm>
            <a:off x="5354640" y="3772080"/>
            <a:ext cx="4361040" cy="231120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ce0ea"/>
                </a:solidFill>
                <a:latin typeface="Times New Roman"/>
              </a:rPr>
              <a:t>Осуществление государственных полномоч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ce0ea"/>
                </a:solidFill>
                <a:latin typeface="Times New Roman"/>
              </a:rPr>
              <a:t>по формированию торгового реест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2018 год – 2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284800" y="1704960"/>
            <a:ext cx="4329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2016 год – 320,0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2017 год – 199,0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2018 год – 320,0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500"/>
                            </p:stCondLst>
                            <p:childTnLst>
                              <p:par>
                                <p:cTn id="5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45760" y="262080"/>
            <a:ext cx="880092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Муниципальные программы направленные на решение общегосударственных вопро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A5B3-7675-4673-AC3A-FFD18166023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C4A8-58FB-4D16-B655-412A805939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27"/>
          <p:cNvSpPr/>
          <p:nvPr/>
        </p:nvSpPr>
        <p:spPr>
          <a:xfrm>
            <a:off x="619200" y="1930320"/>
            <a:ext cx="8474040" cy="4622760"/>
          </a:xfrm>
          <a:prstGeom prst="roundRect">
            <a:avLst>
              <a:gd name="adj" fmla="val 16667"/>
            </a:avLst>
          </a:prstGeom>
          <a:solidFill>
            <a:srgbClr val="376092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«Совершенствование 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муниципальной службы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Управление муниципальными финанс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МО "Ленский муниципальный район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и муниципальным долгом МО "Ленск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муниципальный район" на 2018-2020 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«Совершенствование муниципального управл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в МО "Ленский муниципальный район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на 2018-2020 годы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37600" y="406080"/>
            <a:ext cx="9426600" cy="14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Муниципальная программа "Управление муниципальными финансами МО "Ленский муниципальный район" и муниципальным долгом МО "Ленский муниципальный район" на 2018-2020 годы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62EF-52B6-4F25-A0E7-8385864E17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D83C-8C29-4A42-AC55-85E86525D9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50"/>
          <p:cNvSpPr/>
          <p:nvPr/>
        </p:nvSpPr>
        <p:spPr>
          <a:xfrm>
            <a:off x="307800" y="1992240"/>
            <a:ext cx="5150160" cy="11527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Организация и обеспечение бюджетно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процесса и развитие информационных сист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управления финансами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5613480" y="1595520"/>
            <a:ext cx="4046400" cy="31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imes New Roman"/>
              </a:rPr>
              <a:t>2016 год – 14,9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imes New Roman"/>
              </a:rPr>
              <a:t>2017 год – 16,4 млн.рубл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376092"/>
                </a:solidFill>
                <a:latin typeface="Times New Roman"/>
              </a:rPr>
              <a:t>2018 год -17,9 млн.рубл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50"/>
          <p:cNvSpPr/>
          <p:nvPr/>
        </p:nvSpPr>
        <p:spPr>
          <a:xfrm>
            <a:off x="270000" y="3525840"/>
            <a:ext cx="5149800" cy="122400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Управление муниципальным долг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50"/>
          <p:cNvSpPr/>
          <p:nvPr/>
        </p:nvSpPr>
        <p:spPr>
          <a:xfrm>
            <a:off x="257040" y="5089680"/>
            <a:ext cx="5150160" cy="122364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Поддержание устойчивого исполн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бюджетов  муниципальных образован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Ленского  райо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9" descr="http://govorim.by/uploads/posts/2013-07/thumbs/1375277413112.jpeg"/>
          <p:cNvPicPr/>
          <p:nvPr/>
        </p:nvPicPr>
        <p:blipFill>
          <a:blip r:embed="rId1"/>
          <a:stretch/>
        </p:blipFill>
        <p:spPr>
          <a:xfrm>
            <a:off x="5969160" y="3962520"/>
            <a:ext cx="3644640" cy="22352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3000"/>
                            </p:stCondLst>
                            <p:childTnLst>
                              <p:par>
                                <p:cTn id="5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4000"/>
                            </p:stCondLst>
                            <p:childTnLst>
                              <p:par>
                                <p:cTn id="5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56960"/>
            <a:ext cx="101631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Осуществление государственных полномоч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4012-6FA8-41C0-BE20-E70190066D5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DF54-AC6A-49B1-B65C-9AB0BD769F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2" descr="1"/>
          <p:cNvPicPr/>
          <p:nvPr/>
        </p:nvPicPr>
        <p:blipFill>
          <a:blip r:embed="rId1"/>
          <a:stretch/>
        </p:blipFill>
        <p:spPr>
          <a:xfrm>
            <a:off x="6980400" y="1341360"/>
            <a:ext cx="1560240" cy="10796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45" name="Picture 3" descr="pravo_bilboard"/>
          <p:cNvPicPr/>
          <p:nvPr/>
        </p:nvPicPr>
        <p:blipFill>
          <a:blip r:embed="rId2"/>
          <a:stretch/>
        </p:blipFill>
        <p:spPr>
          <a:xfrm>
            <a:off x="7620120" y="2095560"/>
            <a:ext cx="2057400" cy="10285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46" name="AutoShape 50"/>
          <p:cNvSpPr/>
          <p:nvPr/>
        </p:nvSpPr>
        <p:spPr>
          <a:xfrm>
            <a:off x="193680" y="1484280"/>
            <a:ext cx="3357720" cy="3826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 сфере охраны тру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50"/>
          <p:cNvSpPr/>
          <p:nvPr/>
        </p:nvSpPr>
        <p:spPr>
          <a:xfrm>
            <a:off x="4251240" y="1471680"/>
            <a:ext cx="254340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49,7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3470400" y="981000"/>
            <a:ext cx="34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</a:rPr>
              <a:t>2018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50"/>
          <p:cNvSpPr/>
          <p:nvPr/>
        </p:nvSpPr>
        <p:spPr>
          <a:xfrm>
            <a:off x="193680" y="1955880"/>
            <a:ext cx="3357720" cy="876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созданию комиссий по дела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несовершеннолетних и защит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их пра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50"/>
          <p:cNvSpPr/>
          <p:nvPr/>
        </p:nvSpPr>
        <p:spPr>
          <a:xfrm>
            <a:off x="4254480" y="2263680"/>
            <a:ext cx="248940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99,0 тыс. 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50"/>
          <p:cNvSpPr/>
          <p:nvPr/>
        </p:nvSpPr>
        <p:spPr>
          <a:xfrm>
            <a:off x="206280" y="2933640"/>
            <a:ext cx="3357720" cy="812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организации, осуществлению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деятельности п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пеке и попечительств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50"/>
          <p:cNvSpPr/>
          <p:nvPr/>
        </p:nvSpPr>
        <p:spPr>
          <a:xfrm>
            <a:off x="4191120" y="2963880"/>
            <a:ext cx="2565360" cy="757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748,2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50"/>
          <p:cNvSpPr/>
          <p:nvPr/>
        </p:nvSpPr>
        <p:spPr>
          <a:xfrm>
            <a:off x="206280" y="3873600"/>
            <a:ext cx="3357720" cy="1574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регистрации и учёту граждан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имеющих право на получ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жилищных субсидий в связ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с переселением из район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Крайнего Север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и приравненных к ним местностя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50"/>
          <p:cNvSpPr/>
          <p:nvPr/>
        </p:nvSpPr>
        <p:spPr>
          <a:xfrm>
            <a:off x="4229280" y="4076640"/>
            <a:ext cx="2552400" cy="851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,0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50"/>
          <p:cNvSpPr/>
          <p:nvPr/>
        </p:nvSpPr>
        <p:spPr>
          <a:xfrm>
            <a:off x="193680" y="6237360"/>
            <a:ext cx="335772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СЕ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50"/>
          <p:cNvSpPr/>
          <p:nvPr/>
        </p:nvSpPr>
        <p:spPr>
          <a:xfrm>
            <a:off x="4317840" y="6237360"/>
            <a:ext cx="248940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3093,2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50"/>
          <p:cNvSpPr/>
          <p:nvPr/>
        </p:nvSpPr>
        <p:spPr>
          <a:xfrm>
            <a:off x="193680" y="5524560"/>
            <a:ext cx="3357720" cy="6732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выплате вознагражд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рофессиональным опекун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50"/>
          <p:cNvSpPr/>
          <p:nvPr/>
        </p:nvSpPr>
        <p:spPr>
          <a:xfrm>
            <a:off x="4280040" y="5470560"/>
            <a:ext cx="251460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1,3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35" descr="Я сидела дома все три года, хотя время от времени мне давали знать, что неплохо было бы выйти на своё место.,Развивалки-после вы"/>
          <p:cNvPicPr/>
          <p:nvPr/>
        </p:nvPicPr>
        <p:blipFill>
          <a:blip r:embed="rId3"/>
          <a:stretch/>
        </p:blipFill>
        <p:spPr>
          <a:xfrm>
            <a:off x="6927840" y="2868480"/>
            <a:ext cx="1663560" cy="12477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60" name="Picture 36" descr="1"/>
          <p:cNvPicPr/>
          <p:nvPr/>
        </p:nvPicPr>
        <p:blipFill>
          <a:blip r:embed="rId4"/>
          <a:stretch/>
        </p:blipFill>
        <p:spPr>
          <a:xfrm>
            <a:off x="8072280" y="3716280"/>
            <a:ext cx="1630440" cy="11048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61" name="Picture 37" descr="a-nagrada.a5.ru"/>
          <p:cNvPicPr/>
          <p:nvPr/>
        </p:nvPicPr>
        <p:blipFill>
          <a:blip r:embed="rId5"/>
          <a:stretch/>
        </p:blipFill>
        <p:spPr>
          <a:xfrm>
            <a:off x="6966000" y="4546440"/>
            <a:ext cx="1695240" cy="11304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62" name="Picture 38" descr="i?id=88253289-65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754760" y="5305320"/>
            <a:ext cx="1970280" cy="10861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500"/>
                            </p:stCondLst>
                            <p:childTnLst>
                              <p:par>
                                <p:cTn id="5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500"/>
                            </p:stCondLst>
                            <p:childTnLst>
                              <p:par>
                                <p:cTn id="6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77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770" fill="hold"/>
                                        <p:tgtEl>
                                          <p:spTgt spid="2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6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8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6500"/>
                            </p:stCondLst>
                            <p:childTnLst>
                              <p:par>
                                <p:cTn id="6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7500"/>
                            </p:stCondLst>
                            <p:childTnLst>
                              <p:par>
                                <p:cTn id="6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77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5" dur="770" fill="hold"/>
                                        <p:tgtEl>
                                          <p:spTgt spid="2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7" dur="77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9" dur="77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9500"/>
                            </p:stCondLst>
                            <p:childTnLst>
                              <p:par>
                                <p:cTn id="6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500"/>
                            </p:stCondLst>
                            <p:childTnLst>
                              <p:par>
                                <p:cTn id="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77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6" dur="770" fill="hold"/>
                                        <p:tgtEl>
                                          <p:spTgt spid="2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8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0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3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4500"/>
                            </p:stCondLst>
                            <p:childTnLst>
                              <p:par>
                                <p:cTn id="6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5500"/>
                            </p:stCondLst>
                            <p:childTnLst>
                              <p:par>
                                <p:cTn id="6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77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7" dur="770" fill="hold"/>
                                        <p:tgtEl>
                                          <p:spTgt spid="2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9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1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77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7" dur="77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9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1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9500"/>
                            </p:stCondLst>
                            <p:childTnLst>
                              <p:par>
                                <p:cTn id="6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2050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1500"/>
                            </p:stCondLst>
                            <p:childTnLst>
                              <p:par>
                                <p:cTn id="6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77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8" dur="770" fill="hold"/>
                                        <p:tgtEl>
                                          <p:spTgt spid="2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0" dur="77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2" dur="77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3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4500"/>
                            </p:stCondLst>
                            <p:childTnLst>
                              <p:par>
                                <p:cTn id="7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B9BE-F9FB-4851-A84A-3BFCCF23DD0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Номер слайда 2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48E1-DBF0-4C23-8AEC-744ADDB97A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Object 4"/>
          <p:cNvGraphicFramePr/>
          <p:nvPr/>
        </p:nvGraphicFramePr>
        <p:xfrm>
          <a:off x="4965840" y="523800"/>
          <a:ext cx="4940280" cy="17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5840" y="523800"/>
                    <a:ext cx="494028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Text Box 5"/>
          <p:cNvSpPr/>
          <p:nvPr/>
        </p:nvSpPr>
        <p:spPr>
          <a:xfrm>
            <a:off x="0" y="1392120"/>
            <a:ext cx="4176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Times New Roman"/>
              </a:rPr>
              <a:t>Непрограммные расходы -2,3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662040" y="836640"/>
            <a:ext cx="4189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Times New Roman"/>
              </a:rPr>
              <a:t>Программная часть бюджета – 97,7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7"/>
          <p:cNvSpPr/>
          <p:nvPr/>
        </p:nvSpPr>
        <p:spPr>
          <a:xfrm flipH="1" flipV="1">
            <a:off x="4641480" y="1052640"/>
            <a:ext cx="7016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8"/>
          <p:cNvSpPr/>
          <p:nvPr/>
        </p:nvSpPr>
        <p:spPr>
          <a:xfrm>
            <a:off x="3782880" y="1484280"/>
            <a:ext cx="33544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428760" y="376200"/>
            <a:ext cx="89024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епрограммные расходы бюдже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0"/>
          <p:cNvSpPr/>
          <p:nvPr/>
        </p:nvSpPr>
        <p:spPr>
          <a:xfrm>
            <a:off x="193680" y="1844640"/>
            <a:ext cx="5540400" cy="79236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Обеспечение деятельности Собрания депута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8 год – 1531,5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50"/>
          <p:cNvSpPr/>
          <p:nvPr/>
        </p:nvSpPr>
        <p:spPr>
          <a:xfrm>
            <a:off x="819000" y="2781360"/>
            <a:ext cx="6320160" cy="86364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Обеспечение деятельности контрольно-счётной комисс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8 год – 1550,4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50"/>
          <p:cNvSpPr/>
          <p:nvPr/>
        </p:nvSpPr>
        <p:spPr>
          <a:xfrm>
            <a:off x="1562040" y="3772080"/>
            <a:ext cx="6512040" cy="10411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Мероприятия  в сфере гражданской обороны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чрезвычайных ситуац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8 год – 331,5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50"/>
          <p:cNvSpPr/>
          <p:nvPr/>
        </p:nvSpPr>
        <p:spPr>
          <a:xfrm>
            <a:off x="2301840" y="4941720"/>
            <a:ext cx="6319800" cy="79236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Резервный фонд админист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8год –  266,8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50"/>
          <p:cNvSpPr/>
          <p:nvPr/>
        </p:nvSpPr>
        <p:spPr>
          <a:xfrm>
            <a:off x="3159000" y="5950080"/>
            <a:ext cx="6319800" cy="79200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Муниципальный дорожный фон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2018 год –  999,5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5"/>
          <p:cNvSpPr/>
          <p:nvPr/>
        </p:nvSpPr>
        <p:spPr>
          <a:xfrm>
            <a:off x="276120" y="803160"/>
            <a:ext cx="9204480" cy="0"/>
          </a:xfrm>
          <a:prstGeom prst="line">
            <a:avLst/>
          </a:prstGeom>
          <a:ln w="475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3000"/>
                            </p:stCondLst>
                            <p:childTnLst>
                              <p:par>
                                <p:cTn id="7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3500"/>
                            </p:stCondLst>
                            <p:childTnLst>
                              <p:par>
                                <p:cTn id="7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4000"/>
                            </p:stCondLst>
                            <p:childTnLst>
                              <p:par>
                                <p:cTn id="7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4500"/>
                            </p:stCondLst>
                            <p:childTnLst>
                              <p:par>
                                <p:cTn id="7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23600" y="203040"/>
            <a:ext cx="8915400" cy="8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Дефицит бюджета 2018 г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14A0-8243-4844-8CFD-8F32FB88BD0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3310-0CA2-4518-A3E3-1E6E9A18B4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3"/>
          <p:cNvSpPr/>
          <p:nvPr/>
        </p:nvSpPr>
        <p:spPr>
          <a:xfrm>
            <a:off x="3860640" y="2133720"/>
            <a:ext cx="1971720" cy="974520"/>
          </a:xfrm>
          <a:custGeom>
            <a:avLst/>
            <a:gdLst>
              <a:gd name="textAreaLeft" fmla="*/ 0 w 1971720"/>
              <a:gd name="textAreaRight" fmla="*/ 1972080 w 1971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174" h="95">
                <a:moveTo>
                  <a:pt x="174" y="95"/>
                </a:moveTo>
                <a:cubicBezTo>
                  <a:pt x="174" y="61"/>
                  <a:pt x="164" y="28"/>
                  <a:pt x="145" y="0"/>
                </a:cubicBezTo>
                <a:lnTo>
                  <a:pt x="0" y="95"/>
                </a:lnTo>
                <a:lnTo>
                  <a:pt x="174" y="9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reeform 4"/>
          <p:cNvSpPr/>
          <p:nvPr/>
        </p:nvSpPr>
        <p:spPr>
          <a:xfrm>
            <a:off x="4014720" y="3352680"/>
            <a:ext cx="1973160" cy="935280"/>
          </a:xfrm>
          <a:custGeom>
            <a:avLst/>
            <a:gdLst>
              <a:gd name="textAreaLeft" fmla="*/ 0 w 1973160"/>
              <a:gd name="textAreaRight" fmla="*/ 1973520 w 197316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174" h="91">
                <a:moveTo>
                  <a:pt x="147" y="91"/>
                </a:moveTo>
                <a:cubicBezTo>
                  <a:pt x="164" y="64"/>
                  <a:pt x="174" y="32"/>
                  <a:pt x="174" y="0"/>
                </a:cubicBezTo>
                <a:lnTo>
                  <a:pt x="0" y="0"/>
                </a:lnTo>
                <a:lnTo>
                  <a:pt x="147" y="91"/>
                </a:lnTo>
                <a:close/>
              </a:path>
            </a:pathLst>
          </a:custGeom>
          <a:solidFill>
            <a:srgbClr val="ff3300"/>
          </a:solidFill>
          <a:ln w="11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5"/>
          <p:cNvSpPr/>
          <p:nvPr/>
        </p:nvSpPr>
        <p:spPr>
          <a:xfrm>
            <a:off x="1351080" y="1265400"/>
            <a:ext cx="3638520" cy="3943080"/>
          </a:xfrm>
          <a:custGeom>
            <a:avLst/>
            <a:gdLst>
              <a:gd name="textAreaLeft" fmla="*/ 0 w 3638520"/>
              <a:gd name="textAreaRight" fmla="*/ 3638880 w 3638520"/>
              <a:gd name="textAreaTop" fmla="*/ 0 h 3943080"/>
              <a:gd name="textAreaBottom" fmla="*/ 3943440 h 3943080"/>
            </a:gdLst>
            <a:ahLst/>
            <a:rect l="textAreaLeft" t="textAreaTop" r="textAreaRight" b="textAreaBottom"/>
            <a:pathLst>
              <a:path w="321" h="348">
                <a:moveTo>
                  <a:pt x="319" y="79"/>
                </a:moveTo>
                <a:cubicBezTo>
                  <a:pt x="287" y="29"/>
                  <a:pt x="232" y="0"/>
                  <a:pt x="174" y="0"/>
                </a:cubicBezTo>
                <a:cubicBezTo>
                  <a:pt x="77" y="0"/>
                  <a:pt x="0" y="77"/>
                  <a:pt x="0" y="174"/>
                </a:cubicBezTo>
                <a:cubicBezTo>
                  <a:pt x="0" y="270"/>
                  <a:pt x="77" y="348"/>
                  <a:pt x="174" y="348"/>
                </a:cubicBezTo>
                <a:cubicBezTo>
                  <a:pt x="234" y="347"/>
                  <a:pt x="290" y="316"/>
                  <a:pt x="321" y="265"/>
                </a:cubicBezTo>
                <a:lnTo>
                  <a:pt x="174" y="174"/>
                </a:lnTo>
                <a:lnTo>
                  <a:pt x="319" y="79"/>
                </a:lnTo>
                <a:close/>
              </a:path>
            </a:pathLst>
          </a:custGeom>
          <a:solidFill>
            <a:srgbClr val="77933c"/>
          </a:solidFill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209520" y="1019160"/>
            <a:ext cx="1951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Расх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576,1 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835200" y="5181480"/>
            <a:ext cx="23382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</a:rPr>
              <a:t>Дох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76092"/>
                </a:solidFill>
                <a:latin typeface="Verdana"/>
              </a:rPr>
              <a:t>592,9 м.р.</a:t>
            </a:r>
            <a:r>
              <a:rPr b="0" i="1" lang="ru-RU" sz="1800" spc="-1" strike="noStrike">
                <a:solidFill>
                  <a:srgbClr val="376092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4356000" y="3362400"/>
            <a:ext cx="1847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фиц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1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4751280" y="4954680"/>
            <a:ext cx="471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влечение кредитов бан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1,4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86480" y="3463920"/>
            <a:ext cx="471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врат креди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1,0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L -0.09704 -0.00185 E">
                                      <p:cBhvr>
                                        <p:cTn id="777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7000"/>
                            </p:stCondLst>
                            <p:childTnLst>
                              <p:par>
                                <p:cTn id="7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073 4.44444E-006 L -1.66667E-006 4.44444E-006 E">
                                      <p:cBhvr>
                                        <p:cTn id="796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9000"/>
                            </p:stCondLst>
                            <p:childTnLst>
                              <p:par>
                                <p:cTn id="7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073 4.44444E-006 L -1.66667E-006 4.44444E-006 E">
                                      <p:cBhvr>
                                        <p:cTn id="802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4440" y="674640"/>
            <a:ext cx="93013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Источники финансирования дефицита бюдже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74200" y="852120"/>
            <a:ext cx="89154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В процессе принятия и исполнения бюджета района большое значение приобретает сбалансированность доходов и расходов. Если доходы превышают расходы, то возникает </a:t>
            </a:r>
            <a:r>
              <a:rPr b="1" lang="ru-RU" sz="1500" spc="-1" strike="noStrike" u="sng">
                <a:solidFill>
                  <a:srgbClr val="ffffff"/>
                </a:solidFill>
                <a:uFillTx/>
                <a:latin typeface="Calibri"/>
              </a:rPr>
              <a:t>профицит</a:t>
            </a: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. Но чаще всего расходы превышают доходы. В таком случае возникает </a:t>
            </a:r>
            <a:r>
              <a:rPr b="1" lang="ru-RU" sz="1500" spc="-1" strike="noStrike" u="sng">
                <a:solidFill>
                  <a:srgbClr val="ffffff"/>
                </a:solidFill>
                <a:uFillTx/>
                <a:latin typeface="Calibri"/>
              </a:rPr>
              <a:t>дефицит</a:t>
            </a: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7C7E-8D56-4E4C-9291-2B045C619A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303E-D2BB-430C-89B0-450CC31865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4"/>
          <p:cNvSpPr/>
          <p:nvPr/>
        </p:nvSpPr>
        <p:spPr>
          <a:xfrm>
            <a:off x="341280" y="876240"/>
            <a:ext cx="9204480" cy="0"/>
          </a:xfrm>
          <a:prstGeom prst="line">
            <a:avLst/>
          </a:prstGeom>
          <a:ln w="475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1317600" y="1984320"/>
            <a:ext cx="7224840" cy="360360"/>
          </a:xfrm>
          <a:prstGeom prst="rect">
            <a:avLst/>
          </a:prstGeom>
          <a:solidFill>
            <a:srgbClr val="99ccff"/>
          </a:solidFill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сточники финансирования дефицита бюд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627120" y="2938320"/>
            <a:ext cx="2209680" cy="1686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70c0"/>
                </a:solidFill>
                <a:uFillTx/>
                <a:latin typeface="Times New Roman"/>
              </a:rPr>
              <a:t>муниципальные займы,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</a:rPr>
              <a:t> осуществляемые путем выпуска муниципальных ценных бумаг от имени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046320" y="2921040"/>
            <a:ext cx="1954440" cy="1695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2060"/>
                </a:solidFill>
                <a:uFillTx/>
                <a:latin typeface="Times New Roman"/>
              </a:rPr>
              <a:t>бюджетные кредиты,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 полученные от бюджетов других уровней бюджетной системы Р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5119560" y="2919240"/>
            <a:ext cx="1992600" cy="1686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58ed5"/>
                </a:solidFill>
                <a:uFillTx/>
                <a:latin typeface="Times New Roman"/>
              </a:rPr>
              <a:t>кредит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558ed5"/>
                </a:solidFill>
                <a:latin typeface="Times New Roman"/>
              </a:rPr>
              <a:t>полученные от кредитных 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7253280" y="2909880"/>
            <a:ext cx="1982880" cy="1695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</a:rPr>
              <a:t>изменение остатков средств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на счетах по учету средств местного бюд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0"/>
          <p:cNvSpPr/>
          <p:nvPr/>
        </p:nvSpPr>
        <p:spPr>
          <a:xfrm>
            <a:off x="4941720" y="2327400"/>
            <a:ext cx="11160" cy="35388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1"/>
          <p:cNvSpPr/>
          <p:nvPr/>
        </p:nvSpPr>
        <p:spPr>
          <a:xfrm>
            <a:off x="1724040" y="269712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2"/>
          <p:cNvSpPr/>
          <p:nvPr/>
        </p:nvSpPr>
        <p:spPr>
          <a:xfrm>
            <a:off x="4048200" y="270036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6093000" y="2690640"/>
            <a:ext cx="0" cy="24480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14"/>
          <p:cNvSpPr/>
          <p:nvPr/>
        </p:nvSpPr>
        <p:spPr>
          <a:xfrm>
            <a:off x="8205840" y="268920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5"/>
          <p:cNvSpPr/>
          <p:nvPr/>
        </p:nvSpPr>
        <p:spPr>
          <a:xfrm>
            <a:off x="1731960" y="2689200"/>
            <a:ext cx="6488280" cy="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16"/>
          <p:cNvSpPr/>
          <p:nvPr/>
        </p:nvSpPr>
        <p:spPr>
          <a:xfrm flipV="1">
            <a:off x="284040" y="5049360"/>
            <a:ext cx="6880320" cy="1908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7"/>
          <p:cNvSpPr/>
          <p:nvPr/>
        </p:nvSpPr>
        <p:spPr>
          <a:xfrm flipV="1">
            <a:off x="291960" y="4695480"/>
            <a:ext cx="0" cy="360360"/>
          </a:xfrm>
          <a:prstGeom prst="line">
            <a:avLst/>
          </a:prstGeom>
          <a:ln w="15840">
            <a:solidFill>
              <a:srgbClr val="33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18"/>
          <p:cNvSpPr/>
          <p:nvPr/>
        </p:nvSpPr>
        <p:spPr>
          <a:xfrm flipV="1">
            <a:off x="7153200" y="4684320"/>
            <a:ext cx="0" cy="360360"/>
          </a:xfrm>
          <a:prstGeom prst="line">
            <a:avLst/>
          </a:prstGeom>
          <a:ln w="15840">
            <a:solidFill>
              <a:srgbClr val="33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9"/>
          <p:cNvSpPr/>
          <p:nvPr/>
        </p:nvSpPr>
        <p:spPr>
          <a:xfrm>
            <a:off x="1814400" y="5315040"/>
            <a:ext cx="3044880" cy="915840"/>
          </a:xfrm>
          <a:prstGeom prst="rect">
            <a:avLst/>
          </a:prstGeom>
          <a:solidFill>
            <a:srgbClr val="ffccff"/>
          </a:solidFill>
          <a:ln w="158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70c0"/>
                </a:solidFill>
                <a:uFillTx/>
                <a:latin typeface="Times New Roman"/>
              </a:rPr>
              <a:t>муниципальный долг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</a:rPr>
              <a:t>то есть совокупность долговых обязательств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8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3500"/>
                            </p:stCondLst>
                            <p:childTnLst>
                              <p:par>
                                <p:cTn id="8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4000"/>
                            </p:stCondLst>
                            <p:childTnLst>
                              <p:par>
                                <p:cTn id="8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4500"/>
                            </p:stCondLst>
                            <p:childTnLst>
                              <p:par>
                                <p:cTn id="8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500"/>
                            </p:stCondLst>
                            <p:childTnLst>
                              <p:par>
                                <p:cTn id="8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6000"/>
                            </p:stCondLst>
                            <p:childTnLst>
                              <p:par>
                                <p:cTn id="8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7000"/>
                            </p:stCondLst>
                            <p:childTnLst>
                              <p:par>
                                <p:cTn id="8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7500"/>
                            </p:stCondLst>
                            <p:childTnLst>
                              <p:par>
                                <p:cTn id="8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8500"/>
                            </p:stCondLst>
                            <p:childTnLst>
                              <p:par>
                                <p:cTn id="8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9000"/>
                            </p:stCondLst>
                            <p:childTnLst>
                              <p:par>
                                <p:cTn id="8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8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6A6B-DD2D-498B-A797-7067F3F67F9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Номер слайда 2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9E6A-FBD8-47FD-BF21-DA014AB737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2"/>
          <p:cNvSpPr/>
          <p:nvPr/>
        </p:nvSpPr>
        <p:spPr>
          <a:xfrm rot="16200000">
            <a:off x="-4680" y="1709640"/>
            <a:ext cx="3184560" cy="31748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Кредит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огов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15.03.2018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7,77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2535120" y="1197000"/>
            <a:ext cx="57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На 01.01.2019 – 20,5 млн. 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477720" y="316080"/>
            <a:ext cx="841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униципальный долг Ленского района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356000" y="2970000"/>
            <a:ext cx="180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6" descr=""/>
          <p:cNvPicPr/>
          <p:nvPr/>
        </p:nvPicPr>
        <p:blipFill>
          <a:blip r:embed="rId1"/>
          <a:stretch/>
        </p:blipFill>
        <p:spPr>
          <a:xfrm>
            <a:off x="825480" y="3416400"/>
            <a:ext cx="1434960" cy="8776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"/>
          <p:cNvPicPr/>
          <p:nvPr/>
        </p:nvPicPr>
        <p:blipFill>
          <a:blip r:embed="rId2"/>
          <a:stretch/>
        </p:blipFill>
        <p:spPr>
          <a:xfrm>
            <a:off x="6680160" y="3975120"/>
            <a:ext cx="1752480" cy="107172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2"/>
          <p:cNvSpPr/>
          <p:nvPr/>
        </p:nvSpPr>
        <p:spPr>
          <a:xfrm rot="16200000">
            <a:off x="6205680" y="3385800"/>
            <a:ext cx="2739960" cy="27306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Кредит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огов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29.10.2018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9,92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3"/>
          <a:stretch/>
        </p:blipFill>
        <p:spPr>
          <a:xfrm>
            <a:off x="7010280" y="4851360"/>
            <a:ext cx="1282680" cy="78444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2"/>
          <p:cNvSpPr/>
          <p:nvPr/>
        </p:nvSpPr>
        <p:spPr>
          <a:xfrm rot="16200000">
            <a:off x="3163680" y="2617200"/>
            <a:ext cx="2994120" cy="29210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Кредит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догов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16.04.2018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7,61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6" descr=""/>
          <p:cNvPicPr/>
          <p:nvPr/>
        </p:nvPicPr>
        <p:blipFill>
          <a:blip r:embed="rId4"/>
          <a:stretch/>
        </p:blipFill>
        <p:spPr>
          <a:xfrm>
            <a:off x="3987720" y="4102200"/>
            <a:ext cx="1435320" cy="87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0"/>
                            </p:stCondLst>
                            <p:childTnLst>
                              <p:par>
                                <p:cTn id="9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7000"/>
                            </p:stCondLst>
                            <p:childTnLst>
                              <p:par>
                                <p:cTn id="9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1320" y="517320"/>
            <a:ext cx="8915400" cy="61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Информация для контак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23440" y="116676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98480" indent="-13446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1" i="1" lang="ru-RU" sz="2800" spc="-1" strike="noStrike">
                <a:solidFill>
                  <a:srgbClr val="376092"/>
                </a:solidFill>
                <a:latin typeface="Calibri"/>
              </a:rPr>
              <a:t>Финансовый отдел Администрации муниципального образов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Calibri"/>
              </a:rPr>
              <a:t>«Ленский муниципальный район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1657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Архангельская область, Ленский район, село Яренск</a:t>
            </a:r>
            <a:r>
              <a:rPr b="1" lang="ru-RU" sz="26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ул. Братьев Покровских, дом</a:t>
            </a:r>
            <a:r>
              <a:rPr b="1" lang="ru-RU" sz="26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19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Телефон:  8 (81859) 5-24-09, факс: 8 (81859) 5-25-2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адрес электронной почты: </a:t>
            </a:r>
            <a:r>
              <a:rPr b="0" lang="en-US" sz="2600" spc="-1" strike="noStrike">
                <a:solidFill>
                  <a:srgbClr val="376092"/>
                </a:solidFill>
                <a:latin typeface="Calibri"/>
              </a:rPr>
              <a:t>feuyarensk@yandex.r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E028-8296-4226-B370-12618ACE731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D0E2-F474-47A3-91C6-4514001A64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500"/>
                            </p:stCondLst>
                            <p:childTnLst>
                              <p:par>
                                <p:cTn id="9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3000"/>
                            </p:stCondLst>
                            <p:childTnLst>
                              <p:par>
                                <p:cTn id="9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3500"/>
                            </p:stCondLst>
                            <p:childTnLst>
                              <p:par>
                                <p:cTn id="9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9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500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500"/>
                            </p:stCondLst>
                            <p:childTnLst>
                              <p:par>
                                <p:cTn id="9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500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500"/>
                                        <p:tgtEl>
                                          <p:spTgt spid="3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68080" y="3394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траслевая структура расходов районного бюдж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003320" y="1474920"/>
          <a:ext cx="8115120" cy="5305320"/>
        </p:xfrm>
        <a:graphic>
          <a:graphicData uri="http://schemas.openxmlformats.org/drawingml/2006/table">
            <a:tbl>
              <a:tblPr/>
              <a:tblGrid>
                <a:gridCol w="3693960"/>
                <a:gridCol w="1565280"/>
                <a:gridCol w="1427400"/>
                <a:gridCol w="142848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отч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отч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отчет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800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95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607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89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82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21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4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6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98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4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2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храна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297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952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571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 и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7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43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84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4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6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6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служивание государственного и муниципального дол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2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5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34A0-070E-4249-9FBC-63C47DB9523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1001-4871-466E-BFEA-C51A140CA0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87280"/>
            <a:ext cx="8915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Calibri"/>
              </a:rPr>
              <a:t>          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Социальная сфера 2018 г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FF41-55C8-494B-BBBE-BDE111AF802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EDEF-5300-4106-AE83-BB359C07B8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3"/>
          <p:cNvSpPr/>
          <p:nvPr/>
        </p:nvSpPr>
        <p:spPr>
          <a:xfrm>
            <a:off x="2411280" y="1392120"/>
            <a:ext cx="4808520" cy="2921040"/>
          </a:xfrm>
          <a:custGeom>
            <a:avLst/>
            <a:gdLst>
              <a:gd name="textAreaLeft" fmla="*/ 0 w 4808520"/>
              <a:gd name="textAreaRight" fmla="*/ 4808880 w 4808520"/>
              <a:gd name="textAreaTop" fmla="*/ 0 h 2921040"/>
              <a:gd name="textAreaBottom" fmla="*/ 2921400 h 2921040"/>
            </a:gdLst>
            <a:ahLst/>
            <a:rect l="textAreaLeft" t="textAreaTop" r="textAreaRight" b="textAreaBottom"/>
            <a:pathLst>
              <a:path w="349" h="307">
                <a:moveTo>
                  <a:pt x="291" y="303"/>
                </a:moveTo>
                <a:cubicBezTo>
                  <a:pt x="328" y="270"/>
                  <a:pt x="349" y="223"/>
                  <a:pt x="349" y="174"/>
                </a:cubicBezTo>
                <a:cubicBezTo>
                  <a:pt x="349" y="77"/>
                  <a:pt x="271" y="0"/>
                  <a:pt x="175" y="0"/>
                </a:cubicBezTo>
                <a:cubicBezTo>
                  <a:pt x="78" y="0"/>
                  <a:pt x="1" y="77"/>
                  <a:pt x="1" y="174"/>
                </a:cubicBezTo>
                <a:cubicBezTo>
                  <a:pt x="0" y="225"/>
                  <a:pt x="23" y="274"/>
                  <a:pt x="62" y="307"/>
                </a:cubicBezTo>
                <a:lnTo>
                  <a:pt x="175" y="174"/>
                </a:lnTo>
                <a:lnTo>
                  <a:pt x="291" y="303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4"/>
          <p:cNvSpPr/>
          <p:nvPr/>
        </p:nvSpPr>
        <p:spPr>
          <a:xfrm>
            <a:off x="4822920" y="3048120"/>
            <a:ext cx="1596960" cy="1627200"/>
          </a:xfrm>
          <a:custGeom>
            <a:avLst/>
            <a:gdLst>
              <a:gd name="textAreaLeft" fmla="*/ 0 w 1596960"/>
              <a:gd name="textAreaRight" fmla="*/ 1597320 w 159696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116" h="171">
                <a:moveTo>
                  <a:pt x="26" y="171"/>
                </a:moveTo>
                <a:cubicBezTo>
                  <a:pt x="60" y="166"/>
                  <a:pt x="91" y="151"/>
                  <a:pt x="116" y="129"/>
                </a:cubicBezTo>
                <a:lnTo>
                  <a:pt x="0" y="0"/>
                </a:lnTo>
                <a:lnTo>
                  <a:pt x="26" y="171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5"/>
          <p:cNvSpPr/>
          <p:nvPr/>
        </p:nvSpPr>
        <p:spPr>
          <a:xfrm>
            <a:off x="4822920" y="3048120"/>
            <a:ext cx="357120" cy="1646280"/>
          </a:xfrm>
          <a:custGeom>
            <a:avLst/>
            <a:gdLst>
              <a:gd name="textAreaLeft" fmla="*/ 0 w 357120"/>
              <a:gd name="textAreaRight" fmla="*/ 357480 w 357120"/>
              <a:gd name="textAreaTop" fmla="*/ 0 h 1646280"/>
              <a:gd name="textAreaBottom" fmla="*/ 1646640 h 1646280"/>
            </a:gdLst>
            <a:ahLst/>
            <a:rect l="textAreaLeft" t="textAreaTop" r="textAreaRight" b="textAreaBottom"/>
            <a:pathLst>
              <a:path w="26" h="173">
                <a:moveTo>
                  <a:pt x="8" y="173"/>
                </a:moveTo>
                <a:cubicBezTo>
                  <a:pt x="15" y="173"/>
                  <a:pt x="21" y="172"/>
                  <a:pt x="26" y="171"/>
                </a:cubicBezTo>
                <a:lnTo>
                  <a:pt x="0" y="0"/>
                </a:lnTo>
                <a:lnTo>
                  <a:pt x="8" y="173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reeform 6"/>
          <p:cNvSpPr/>
          <p:nvPr/>
        </p:nvSpPr>
        <p:spPr>
          <a:xfrm>
            <a:off x="4245120" y="3048120"/>
            <a:ext cx="687240" cy="1646280"/>
          </a:xfrm>
          <a:custGeom>
            <a:avLst/>
            <a:gdLst>
              <a:gd name="textAreaLeft" fmla="*/ 0 w 687240"/>
              <a:gd name="textAreaRight" fmla="*/ 687600 w 687240"/>
              <a:gd name="textAreaTop" fmla="*/ 0 h 1646280"/>
              <a:gd name="textAreaBottom" fmla="*/ 1646640 h 1646280"/>
            </a:gdLst>
            <a:ahLst/>
            <a:rect l="textAreaLeft" t="textAreaTop" r="textAreaRight" b="textAreaBottom"/>
            <a:pathLst>
              <a:path w="50" h="173">
                <a:moveTo>
                  <a:pt x="0" y="168"/>
                </a:moveTo>
                <a:cubicBezTo>
                  <a:pt x="13" y="172"/>
                  <a:pt x="27" y="173"/>
                  <a:pt x="42" y="173"/>
                </a:cubicBezTo>
                <a:cubicBezTo>
                  <a:pt x="44" y="173"/>
                  <a:pt x="47" y="173"/>
                  <a:pt x="50" y="173"/>
                </a:cubicBezTo>
                <a:lnTo>
                  <a:pt x="42" y="0"/>
                </a:lnTo>
                <a:lnTo>
                  <a:pt x="0" y="16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reeform 7"/>
          <p:cNvSpPr/>
          <p:nvPr/>
        </p:nvSpPr>
        <p:spPr>
          <a:xfrm>
            <a:off x="3265560" y="3048120"/>
            <a:ext cx="1557360" cy="159840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1598400"/>
              <a:gd name="textAreaBottom" fmla="*/ 1598760 h 1598400"/>
            </a:gdLst>
            <a:ahLst/>
            <a:rect l="textAreaLeft" t="textAreaTop" r="textAreaRight" b="textAreaBottom"/>
            <a:pathLst>
              <a:path w="113" h="168">
                <a:moveTo>
                  <a:pt x="0" y="133"/>
                </a:moveTo>
                <a:cubicBezTo>
                  <a:pt x="21" y="150"/>
                  <a:pt x="45" y="162"/>
                  <a:pt x="71" y="168"/>
                </a:cubicBezTo>
                <a:lnTo>
                  <a:pt x="113" y="0"/>
                </a:lnTo>
                <a:lnTo>
                  <a:pt x="0" y="13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3314880" y="1773360"/>
            <a:ext cx="2808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Дошкольное и общее образо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8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7292880" y="4292640"/>
            <a:ext cx="22622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Социальная полити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030640" y="5327640"/>
            <a:ext cx="2730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Tahoma"/>
              </a:rPr>
              <a:t>Физическая культура и спор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ff"/>
                </a:solidFill>
                <a:latin typeface="Tahoma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2222640" y="5254560"/>
            <a:ext cx="280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00"/>
                </a:solidFill>
                <a:latin typeface="Tahoma"/>
              </a:rPr>
              <a:t>Молодежная политика                       и оздоровление дет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00"/>
                </a:solidFill>
                <a:latin typeface="Tahoma"/>
              </a:rPr>
              <a:t>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193680" y="4221000"/>
            <a:ext cx="22622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Другие расходы в области образова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1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5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25416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Общегосударственные расхо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6384-9E2C-4BCB-95D6-8753BE7C5CF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D2DA-3C9E-474B-A696-B8F12549F6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"/>
          <p:cNvSpPr/>
          <p:nvPr/>
        </p:nvSpPr>
        <p:spPr>
          <a:xfrm>
            <a:off x="590400" y="5938920"/>
            <a:ext cx="46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027080" y="5361120"/>
            <a:ext cx="115740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027080" y="5114880"/>
            <a:ext cx="1157400" cy="257400"/>
          </a:xfrm>
          <a:prstGeom prst="rect">
            <a:avLst/>
          </a:prstGeom>
          <a:solidFill>
            <a:srgbClr val="00ba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027080" y="2975040"/>
            <a:ext cx="1144800" cy="21430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1027080" y="2779560"/>
            <a:ext cx="1144800" cy="204840"/>
          </a:xfrm>
          <a:prstGeom prst="rect">
            <a:avLst/>
          </a:prstGeom>
          <a:solidFill>
            <a:srgbClr val="2424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1027080" y="2276640"/>
            <a:ext cx="1144800" cy="4921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0"/>
          <p:cNvSpPr/>
          <p:nvPr/>
        </p:nvSpPr>
        <p:spPr>
          <a:xfrm>
            <a:off x="1027080" y="2178000"/>
            <a:ext cx="1157400" cy="95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26"/>
          <p:cNvSpPr/>
          <p:nvPr/>
        </p:nvSpPr>
        <p:spPr>
          <a:xfrm>
            <a:off x="1027080" y="1536840"/>
            <a:ext cx="1157400" cy="635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29"/>
          <p:cNvSpPr/>
          <p:nvPr/>
        </p:nvSpPr>
        <p:spPr>
          <a:xfrm>
            <a:off x="803520" y="6208560"/>
            <a:ext cx="1366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2018 год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6056280" y="2093760"/>
            <a:ext cx="3413160" cy="4106880"/>
          </a:xfrm>
          <a:prstGeom prst="rect">
            <a:avLst/>
          </a:prstGeom>
          <a:solidFill>
            <a:srgbClr val="ace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6297480" y="2430360"/>
            <a:ext cx="119160" cy="109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4"/>
          <p:cNvSpPr/>
          <p:nvPr/>
        </p:nvSpPr>
        <p:spPr>
          <a:xfrm>
            <a:off x="6564240" y="2371680"/>
            <a:ext cx="1616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Другие расходы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7750080" y="1641600"/>
            <a:ext cx="1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6297480" y="3000240"/>
            <a:ext cx="119160" cy="109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8"/>
          <p:cNvSpPr/>
          <p:nvPr/>
        </p:nvSpPr>
        <p:spPr>
          <a:xfrm>
            <a:off x="6626880" y="2941560"/>
            <a:ext cx="169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Резервный фонд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1"/>
          <p:cNvSpPr/>
          <p:nvPr/>
        </p:nvSpPr>
        <p:spPr>
          <a:xfrm>
            <a:off x="6284880" y="3479760"/>
            <a:ext cx="119160" cy="1112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2"/>
          <p:cNvSpPr/>
          <p:nvPr/>
        </p:nvSpPr>
        <p:spPr>
          <a:xfrm>
            <a:off x="6598800" y="3371760"/>
            <a:ext cx="194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Финансовый отдел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3"/>
          <p:cNvSpPr/>
          <p:nvPr/>
        </p:nvSpPr>
        <p:spPr>
          <a:xfrm>
            <a:off x="6284880" y="4079880"/>
            <a:ext cx="119160" cy="109440"/>
          </a:xfrm>
          <a:prstGeom prst="rect">
            <a:avLst/>
          </a:prstGeom>
          <a:solidFill>
            <a:srgbClr val="2424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4"/>
          <p:cNvSpPr/>
          <p:nvPr/>
        </p:nvSpPr>
        <p:spPr>
          <a:xfrm>
            <a:off x="6625080" y="4010040"/>
            <a:ext cx="274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Контрольно-счетный орган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5"/>
          <p:cNvSpPr/>
          <p:nvPr/>
        </p:nvSpPr>
        <p:spPr>
          <a:xfrm>
            <a:off x="6284880" y="4668840"/>
            <a:ext cx="119160" cy="111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6"/>
          <p:cNvSpPr/>
          <p:nvPr/>
        </p:nvSpPr>
        <p:spPr>
          <a:xfrm>
            <a:off x="6550560" y="4599000"/>
            <a:ext cx="164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Администраци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7"/>
          <p:cNvSpPr/>
          <p:nvPr/>
        </p:nvSpPr>
        <p:spPr>
          <a:xfrm>
            <a:off x="6284880" y="5259240"/>
            <a:ext cx="119160" cy="109800"/>
          </a:xfrm>
          <a:prstGeom prst="rect">
            <a:avLst/>
          </a:prstGeom>
          <a:solidFill>
            <a:srgbClr val="00ba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8"/>
          <p:cNvSpPr/>
          <p:nvPr/>
        </p:nvSpPr>
        <p:spPr>
          <a:xfrm>
            <a:off x="6591600" y="5187960"/>
            <a:ext cx="2058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Собрание депутатов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9"/>
          <p:cNvSpPr/>
          <p:nvPr/>
        </p:nvSpPr>
        <p:spPr>
          <a:xfrm>
            <a:off x="6284880" y="5848200"/>
            <a:ext cx="119160" cy="1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0"/>
          <p:cNvSpPr/>
          <p:nvPr/>
        </p:nvSpPr>
        <p:spPr>
          <a:xfrm>
            <a:off x="6595200" y="5778360"/>
            <a:ext cx="192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ahoma"/>
              </a:rPr>
              <a:t>Содержание главы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1"/>
          <p:cNvSpPr/>
          <p:nvPr/>
        </p:nvSpPr>
        <p:spPr>
          <a:xfrm>
            <a:off x="2235240" y="4916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imes New Roman"/>
              </a:rPr>
              <a:t>153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4"/>
          <p:cNvSpPr/>
          <p:nvPr/>
        </p:nvSpPr>
        <p:spPr>
          <a:xfrm>
            <a:off x="2224080" y="5403960"/>
            <a:ext cx="19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imes New Roman"/>
              </a:rPr>
              <a:t>1337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7"/>
          <p:cNvSpPr/>
          <p:nvPr/>
        </p:nvSpPr>
        <p:spPr>
          <a:xfrm>
            <a:off x="2158920" y="3591000"/>
            <a:ext cx="17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imes New Roman"/>
              </a:rPr>
              <a:t>30802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0"/>
          <p:cNvSpPr/>
          <p:nvPr/>
        </p:nvSpPr>
        <p:spPr>
          <a:xfrm>
            <a:off x="2235240" y="2633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376092"/>
                </a:solidFill>
                <a:latin typeface="Times New Roman"/>
              </a:rPr>
              <a:t>1550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3"/>
          <p:cNvSpPr/>
          <p:nvPr/>
        </p:nvSpPr>
        <p:spPr>
          <a:xfrm>
            <a:off x="2197080" y="229860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imes New Roman"/>
              </a:rPr>
              <a:t>5119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9"/>
          <p:cNvSpPr/>
          <p:nvPr/>
        </p:nvSpPr>
        <p:spPr>
          <a:xfrm>
            <a:off x="177840" y="3086280"/>
            <a:ext cx="81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5"/>
          <p:cNvSpPr/>
          <p:nvPr/>
        </p:nvSpPr>
        <p:spPr>
          <a:xfrm>
            <a:off x="2209680" y="1371600"/>
            <a:ext cx="17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imes New Roman"/>
              </a:rPr>
              <a:t>8872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2631960" y="185580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imes New Roman"/>
              </a:rPr>
              <a:t>266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5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00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5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5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5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672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D7DA-3A7E-41BB-AB94-EF5B04F25CE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E238-0825-465F-AA46-9DBBAB3CA9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396720" y="3517920"/>
            <a:ext cx="3942000" cy="1944720"/>
          </a:xfrm>
          <a:prstGeom prst="roundRect">
            <a:avLst>
              <a:gd name="adj" fmla="val 16667"/>
            </a:avLst>
          </a:prstGeom>
          <a:solidFill>
            <a:srgbClr val="376092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направленные на реш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общегосударственных вопро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27"/>
          <p:cNvSpPr/>
          <p:nvPr/>
        </p:nvSpPr>
        <p:spPr>
          <a:xfrm>
            <a:off x="1974960" y="1996920"/>
            <a:ext cx="6318000" cy="1008360"/>
          </a:xfrm>
          <a:prstGeom prst="roundRect">
            <a:avLst>
              <a:gd name="adj" fmla="val 16667"/>
            </a:avLst>
          </a:prstGeom>
          <a:solidFill>
            <a:srgbClr val="376092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социальной направле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27"/>
          <p:cNvSpPr/>
          <p:nvPr/>
        </p:nvSpPr>
        <p:spPr>
          <a:xfrm>
            <a:off x="5513400" y="3517920"/>
            <a:ext cx="3944880" cy="1957320"/>
          </a:xfrm>
          <a:prstGeom prst="roundRect">
            <a:avLst>
              <a:gd name="adj" fmla="val 16667"/>
            </a:avLst>
          </a:prstGeom>
          <a:solidFill>
            <a:srgbClr val="376092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</a:t>
            </a: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в сфере экономики и ЖК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6"/>
          <p:cNvSpPr/>
          <p:nvPr/>
        </p:nvSpPr>
        <p:spPr>
          <a:xfrm flipH="1">
            <a:off x="1228680" y="1174680"/>
            <a:ext cx="876240" cy="20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5130720" y="1162080"/>
            <a:ext cx="12960" cy="63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8271000" y="1154160"/>
            <a:ext cx="711000" cy="20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186840"/>
            <a:ext cx="8915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социальной направл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0E42-79C8-4FE8-9AC2-EC65333083B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B090-0F02-4495-BD2F-FBA2C2BCCF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7"/>
          <p:cNvSpPr/>
          <p:nvPr/>
        </p:nvSpPr>
        <p:spPr>
          <a:xfrm>
            <a:off x="888840" y="1625760"/>
            <a:ext cx="8801280" cy="4914720"/>
          </a:xfrm>
          <a:prstGeom prst="roundRect">
            <a:avLst>
              <a:gd name="adj" fmla="val 16667"/>
            </a:avLst>
          </a:prstGeom>
          <a:solidFill>
            <a:srgbClr val="4f81bd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-Развитие образования Ленского  муниципального района(2015-2020 год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Развитие местного самоуправления в МО Ленский муниципальный райо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и поддержка социально ориентированных некоммерческих организац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(2017 – 2019 годы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-Развитие сферы культуры МО Ленский муниципальный район на 2018-2020 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-Обеспечение качественным, доступным жильем и объекта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жилищно-коммунального хозяйства населения Ленского  района на 2014-2020 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-Профилактика безнадзорности и правонарушений несовершеннолетн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на территории МО Ленский муниципальный район на 2017-2019 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-Развитие физической культуры, спорта, туризма, повышение эффективн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реализации молодежной и семейной политики 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МО Ленский муниципальный район(2017-2019 год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3523-55D1-49F2-8FB6-353469DCA9D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CF91-E4AB-4BF8-BB6B-9FD9EBFEE1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50"/>
          <p:cNvSpPr/>
          <p:nvPr/>
        </p:nvSpPr>
        <p:spPr>
          <a:xfrm>
            <a:off x="254160" y="1353960"/>
            <a:ext cx="5101920" cy="42408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Реализация общеобразовательных програм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551560" y="1486080"/>
            <a:ext cx="4110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</a:rPr>
              <a:t>2016 год – 465,2 млн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</a:rPr>
              <a:t>2017 год –  386,6 млн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76092"/>
                </a:solidFill>
                <a:latin typeface="Times New Roman"/>
              </a:rPr>
              <a:t>2018 год – 426,6 млн.рублей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50"/>
          <p:cNvSpPr/>
          <p:nvPr/>
        </p:nvSpPr>
        <p:spPr>
          <a:xfrm>
            <a:off x="219240" y="1905120"/>
            <a:ext cx="5149800" cy="122688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Компенсация родительской платы за присмотр и ухо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за ребёнком в образовательных  организациях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реализующих образовательную програм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дошкольного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50"/>
          <p:cNvSpPr/>
          <p:nvPr/>
        </p:nvSpPr>
        <p:spPr>
          <a:xfrm>
            <a:off x="231840" y="3322800"/>
            <a:ext cx="5149800" cy="102060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беспечение предоставления жилых помещений детям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сиротам и детям, оставшимся без попечения родителе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лицам из их числа по договорам най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специализированных жилых помещ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50"/>
          <p:cNvSpPr/>
          <p:nvPr/>
        </p:nvSpPr>
        <p:spPr>
          <a:xfrm>
            <a:off x="254160" y="4495680"/>
            <a:ext cx="5178240" cy="444600"/>
          </a:xfrm>
          <a:prstGeom prst="roundRect">
            <a:avLst>
              <a:gd name="adj" fmla="val 23486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Мероприятия по оздоровлению дет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241200" y="195120"/>
            <a:ext cx="933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униципальная программа  «Развитие образования Ленского муниципального района (2015-2020 годы)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50"/>
          <p:cNvSpPr/>
          <p:nvPr/>
        </p:nvSpPr>
        <p:spPr>
          <a:xfrm>
            <a:off x="203040" y="5829480"/>
            <a:ext cx="5191200" cy="77436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Строительство школы на 86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мест в п.Урдо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Рисунок 4" descr="http://yarsh.ucoz.ru/novosti/starshaja_shkola.jpg"/>
          <p:cNvPicPr/>
          <p:nvPr/>
        </p:nvPicPr>
        <p:blipFill>
          <a:blip r:embed="rId1"/>
          <a:stretch/>
        </p:blipFill>
        <p:spPr>
          <a:xfrm>
            <a:off x="5551560" y="3073320"/>
            <a:ext cx="4135320" cy="321336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50"/>
          <p:cNvSpPr/>
          <p:nvPr/>
        </p:nvSpPr>
        <p:spPr>
          <a:xfrm>
            <a:off x="228600" y="5118120"/>
            <a:ext cx="5178600" cy="533520"/>
          </a:xfrm>
          <a:prstGeom prst="roundRect">
            <a:avLst>
              <a:gd name="adj" fmla="val 23486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Совершенствование системы выявления и разв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талантов дете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500"/>
                            </p:stCondLst>
                            <p:childTnLst>
                              <p:par>
                                <p:cTn id="2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500"/>
                            </p:stCondLst>
                            <p:childTnLst>
                              <p:par>
                                <p:cTn id="2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500"/>
                            </p:stCondLst>
                            <p:childTnLst>
                              <p:par>
                                <p:cTn id="2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7CC6-4F2B-48CF-A44A-849A075B2BB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463680"/>
            <a:ext cx="952524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униципальная программа «Развитие образования Ленского муниципального района (2015-2020 годы)»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строительство объектов муниципальной собственнос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00D6-B976-4F9B-B066-E3B339EA33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27"/>
          <p:cNvSpPr/>
          <p:nvPr/>
        </p:nvSpPr>
        <p:spPr>
          <a:xfrm>
            <a:off x="4027320" y="1832040"/>
            <a:ext cx="5713560" cy="2168640"/>
          </a:xfrm>
          <a:prstGeom prst="roundRect">
            <a:avLst>
              <a:gd name="adj" fmla="val 16667"/>
            </a:avLst>
          </a:prstGeom>
          <a:solidFill>
            <a:srgbClr val="95b3d7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ff"/>
                </a:solidFill>
                <a:latin typeface="Times New Roman"/>
              </a:rPr>
              <a:t>Строительство средн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ff"/>
                </a:solidFill>
                <a:latin typeface="Times New Roman"/>
              </a:rPr>
              <a:t>общеобразователь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ff"/>
                </a:solidFill>
                <a:latin typeface="Times New Roman"/>
              </a:rPr>
              <a:t>школы на 860 учащихся в п. Урдо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99ff"/>
                </a:solidFill>
                <a:latin typeface="Times New Roman"/>
              </a:rPr>
              <a:t>2016 год – 107,7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99ff"/>
                </a:solidFill>
                <a:latin typeface="Times New Roman"/>
              </a:rPr>
              <a:t>2017 год –  6,5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rcRect l="6851" t="0" r="0" b="7874"/>
          <a:stretch/>
        </p:blipFill>
        <p:spPr>
          <a:xfrm>
            <a:off x="258840" y="4102200"/>
            <a:ext cx="4844880" cy="2465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0:56:41Z</dcterms:created>
  <dc:creator>user</dc:creator>
  <dc:description/>
  <dc:language>en-US</dc:language>
  <cp:lastModifiedBy>Шумихина Т.Ю.</cp:lastModifiedBy>
  <dcterms:modified xsi:type="dcterms:W3CDTF">2019-04-26T07:55:24Z</dcterms:modified>
  <cp:revision>1264</cp:revision>
  <dc:subject/>
  <dc:title>Бюджет для граждан на 2014 год</dc:title>
</cp:coreProperties>
</file>