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wmf" ContentType="image/x-wmf"/>
  <Override PartName="/ppt/media/image17.wmf" ContentType="image/x-wmf"/>
  <Override PartName="/ppt/media/image14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6.png" ContentType="image/png"/>
  <Override PartName="/ppt/media/image7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CD0-305A-451D-B9DA-8C529CB0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810-5DAE-4EB0-AADD-429F1046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16798-F93D-4E4A-8867-61508B4B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D8E1C-EAFA-4D7E-80E3-CB51BAD5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BB786-645F-4133-9AE6-B64CA23E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535CE-D105-43AB-A0EA-887C19CC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515C6-8953-420A-B3EA-15557789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8E82F-3E03-43A6-9D22-54CF09A8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A955F-CA24-4893-B46C-1A6830F1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36384-ECAE-4D69-B080-4DA5495E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4438F-A640-4D17-8546-EC6A3BB6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6FECD-E875-4D7A-9AB8-9FE734B6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C52-576A-4319-ACCF-849EB30C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96803-D827-4420-86E6-31386478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CFD91-EC56-43C4-A7C3-163A18D0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41396-1E30-4A11-8933-FAD8896D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D92FD-EF6B-47AB-8C22-651BB771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A9F21-EF8D-4169-AF34-5BD97909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91C41-1A4F-402E-B8B6-0D9D41FB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B21F6-73BA-4CBE-8E50-12E3D743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D802B-0F1E-4FCB-9BF4-E39E1440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A7C41-7046-4CA5-BEBC-EF97D8FF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46021-05DE-4521-90BC-3EA4A001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4E2B-ED83-4D30-968C-032C9369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E9364-49DD-415D-BAB0-E6073D1D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28BC9-E446-469F-8A40-BE44790C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95B6B-FC01-48C5-8D8D-19BC84C3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F0346-FB32-4F53-A50E-16F0DBD8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DC35F-E73D-4C63-B76B-2997AEA1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1C45F-FCFD-4815-9586-9F699058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B6A44-8B7D-43ED-B5ED-52AAA118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0F3CD-2CE7-4E39-8898-53B02A07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4437F-39C4-494A-823F-1062E950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327E6-5535-41E6-82B8-12111143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8AF0-ED20-4677-85DA-48A2FCFB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D23D3-A1ED-4D97-9CC2-835B57C3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36E75-05CB-483C-AEFF-DCB14C96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9263E-C044-4C12-81A1-1D115057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50F08-3169-4003-9339-B1422C97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D92A3-E04C-49C4-9472-3302B0C6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E27C5-85EF-4763-B1DA-E60279B8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436C3-BC0B-46CA-8446-E45A447D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EEFA6-00FA-4F7A-A815-5BCE2271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BBBF8-6847-4AC1-8FA8-3C00715F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2FAF2-AE0D-4E4C-B67B-81C7BF8D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BBFA-566D-43C2-9AD7-B61EDCAB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9D955-314A-4B22-B4B5-270CF92C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98158-E1DA-4130-9D83-C3893B11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09495-BFC8-4053-B8EE-D74AC5C5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F27A9-32D0-468C-8725-02321946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455A3-DCBF-4183-A648-B8E817FF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4AE88-5F01-4C30-B314-6993BF61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CB7B9-7259-45D5-B772-D0467F79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4A1BD9-921D-4670-9807-ABD901E3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FCC6F-09B0-453B-897A-78589575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60798-B9B1-4328-A5FB-D23395F4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BCE9-C001-4976-AD42-3F065724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4E4F0-220F-4B26-A84C-865D9FBA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EF103-A816-4A16-B6AC-ADBBA5DD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3F7C7-B258-49B7-B3C7-80AB6E15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444A1A-3D71-4374-8B75-E196FFC2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F1B350-15C0-41A5-8434-CB7C31FD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74555-0122-44C0-B9B9-72EE16F0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8F3B8-990B-4449-A736-2889D628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47EDA-2D68-4E20-A39B-3DDDF6DA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E05D96-4325-4A51-A466-C8CEC3D9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60A29-F463-49EB-B592-B9A619BB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1CCA-2568-4226-8AAF-F26576A5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2A5F9-54F8-473B-928D-E28A944B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7FE30-802B-4785-8F4C-3A5F9814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3385D6-9ACF-4755-B9AD-71BDFD4C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EE1760-E4BA-4804-AFE9-7A7A9C80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5CAEE-2E00-45A0-968C-19270D73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B3468-EC36-4231-B4FC-2B197C6D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8C9997-E627-4B0D-A066-739DD43E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37F7A2-76C2-4F31-AF32-74AE47C8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37532-8D55-46DC-A2C5-D266B584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76EC1-A7F1-4734-885C-4679A71A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4D1C-C3C6-479F-9673-C1855B52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4A0213-3544-4DDC-B977-CA9B3CF6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42A70-65FC-425F-85E5-FD0AE534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D222F2-15C6-4328-A53F-42706BF8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A6A550-5957-45F4-873A-08F58D40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F2A2D3-45F8-4295-A028-89B56E8B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14887F-6282-4C76-88C9-CCCD8411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927F7F-FB78-407B-8E6B-099DD7F6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B879D-13DB-4387-9AE8-E5019E4A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9E4084-DFF2-4599-AFFE-CD54443A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69C87D-E5AC-40E9-A337-9E9C2639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BA61-C72B-4F49-88B7-00231307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1E16B4-9131-4EFE-9E93-AFA1AA4F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E1C7-E89B-4605-9702-98515484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320-6606-4ACD-ACB9-48F98D5C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32D7-9206-45D1-BD2C-745C2097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5321-8E3D-46D5-8577-2DCCD024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72DF-7634-47AE-BA77-BBC03E11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802E-267D-4D4F-8CE1-A86D2C6B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10C7-AF56-4F4B-A1C5-9DFF4861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10B3-8335-4771-BBE5-83951DA7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7E417-5EEB-4F71-981A-0AA6D49B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9A76-1610-4B10-9AD8-3FABD5D3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9A645-2F7F-47F6-9768-DA09DF83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91C36-7AD1-4233-B4D0-F5E7D84D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9EC-CF3D-4AA6-95E3-0A34817F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4BA6B-ADEA-467A-91FD-190D1D1C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23AC4-8199-4C92-890A-9689880E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0EFEF-F90F-4414-8234-3615CCF4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491E8-2230-4970-B75E-9CD2E119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FFCAA-99A3-4F2D-9582-63D2AFA7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F350E-6514-4869-8BA9-59F51994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7409-DC10-4E36-8786-4A8C8680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5AF36-C92E-4BEF-A126-F2378A6F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6D04C-4970-414A-AAFA-CBB2E951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00CD5-57CE-48F5-A284-8DEFDA80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909-278B-47B2-A638-42DD3F93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F64F0-CC6E-45E2-9EFA-2E5D7513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D5FCB-58CB-40C6-B063-71144891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49C35-FB92-4EF2-97E1-8FED8EE1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57997-1EDC-45F1-AFE6-804925F5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1C8FF-7320-4C74-A68D-D061F4F4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71E6A-A67E-4C97-96F5-721B30D8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A809A-8AD0-4963-9AB9-6CEAD307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259B4-24E3-46A0-8A02-FE164EA3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8D230-D977-40DB-8A3D-2AE918AD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2668D-28D2-4A09-9EE4-B6DB9B49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E37-A80F-406E-9DE0-7F852C2D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FE026-6857-4DB0-8F84-B508025D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90E66-C07D-429B-A3CE-DBC75851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DAA35-72AD-4979-AD90-057EF7D6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6D47B-E192-46E2-8032-0E5E5866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74113-9DC0-4075-BAD0-EDDDAD00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E4C62-AEE1-4DFF-BE31-71726AB9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E151D-A8C3-4B24-AECF-206F121E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BDFDB-0C86-479B-84C2-E1AE759D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7CA41-3DC3-49EF-AF56-C729D47C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B0D0A-BC60-4CBF-B17B-07E7A81F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22E-DC08-45E6-92E8-4FC963BF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5CE14-6884-4D7A-B30A-8342D314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CC01E-4416-4838-B1D9-872F78AF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95E85-8503-4CDD-857D-CCA78E87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2AA1F-F6DB-4A5C-8ECF-0FDCD4C8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64CB4-A3DD-4C1D-B2F2-26C8ED2D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89AAC-5E0C-4228-99BB-5C812558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83791-1962-404A-8CC2-9B79D9BD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97E50-F909-465D-8A8D-9F6028C1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A611A-8F1A-4ADF-ABEF-A5CD692F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0A1D8-8B5E-480A-A3A4-4A6253F5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125-E40D-49BA-948A-07F037C9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C881F-D081-4065-8C7A-4B8965A5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36DF3-2DCA-4C42-B331-D4EBEDF6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06745-195F-4851-B198-45DAE565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488A7-EFB8-46B0-A192-33E9B7C9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D23B4-3384-4DED-8F83-80ECDC3D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C5DE9-1E20-4CBE-AF82-4E389E20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13192-9FCB-4D6A-B814-E4781926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42DB4-EDE0-4139-BF63-E17B287E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F89F1-340D-4D9E-BDBD-71549C2B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B0772-775C-4AB3-A827-633CBD46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A21-2472-4795-BC7B-5F09573F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5E328-4799-473A-9CD0-4D0DFFF2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DFA31-D482-4296-9F5E-B6BC0F9A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5A5B5-7FFC-4083-9D41-E19FCE34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D1469-4BBC-4ADC-B5EB-B86117CA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337DB-E24C-4E71-9E6F-05576621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A174F-41B9-477A-A78A-DE6D1DA9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14E79-1C88-4392-B82A-63B20D8A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F17F8-2749-4B90-B9C0-DF2ECCC2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D49EA-71B6-43B8-A76B-0AD0128C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95748-25BC-4C63-BA69-A915F129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0CC-531E-4B43-B6AE-53C63514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F9810-0976-4E16-AE5F-48246E7E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27CB0-C0FF-4F7D-BD74-5C140F21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DA6BD-4187-425B-BF2A-9E79208F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D96F4-727F-422C-BF93-DB5E105C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CA804-0D39-4B1B-8001-FE0FF275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BECDE-E5D8-413E-976C-535F3555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71976-8242-4ABE-91B8-B9AE9046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A03C0-3DE7-4FA8-A324-5C2F8467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A61C9-422D-469A-8378-0B0A9B40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7CBC7-5F1D-40D2-8D60-51421B35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7629-B7D5-4120-B4BC-F5DEDF8D327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A8BE-B750-45D2-9253-19B0C58354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66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2228-3362-44C5-AA90-6A809C56BE1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B8E0-CA07-4AB6-968F-5C02B8683A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4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AE57-16E6-46B0-80FF-4A4BB6242C5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503E-EB7C-49FE-B4B5-47BECDA15F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1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6DB8-E817-4A47-9FEB-9DDD8C16B98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707F-907B-4C80-9E2F-EB9EE19515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9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E29B-F974-4F2B-8AE8-E429F36FA13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28A9-2C09-40AB-BBAA-420D6C3E00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96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4ADD-FD89-43E9-8620-3589FA778CC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0EB2-B701-455F-A70B-958294E141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03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AC83-F675-4355-BD16-E22683C1C29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9AD1-D7DC-4495-960C-1E10E15283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2468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16920" y="2992320"/>
            <a:ext cx="1450080" cy="2189160"/>
            <a:chOff x="8116920" y="2992320"/>
            <a:chExt cx="1450080" cy="2189160"/>
          </a:xfrm>
        </p:grpSpPr>
        <p:sp>
          <p:nvSpPr>
            <p:cNvPr id="76" name="Oval 9"/>
            <p:cNvSpPr/>
            <p:nvPr/>
          </p:nvSpPr>
          <p:spPr>
            <a:xfrm>
              <a:off x="811692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4250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7328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1692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4250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7328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9040680" y="327672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1692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42508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7328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90406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9348840" y="356076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16920" y="3843360"/>
              <a:ext cx="21816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4250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7328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9040680" y="3843360"/>
              <a:ext cx="21816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1692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42508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7328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90406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9348840" y="4127400"/>
              <a:ext cx="21816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16920" y="441180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4250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7328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9040680" y="441180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1692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42508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7328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90406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4250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90406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30120" y="2819520"/>
            <a:ext cx="8915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D0F4-9A85-4D58-9DB5-7DD97344CC5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7C29-BCD4-4225-90A7-0B6021115C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5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97C1-B5C4-4377-A9E4-04862A4E560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7D69-F515-43B6-B128-8B74BB346D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2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7B32-86C5-4D85-B654-12C9FED04A6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78CD-03CD-4052-8C2F-28F6EDA517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9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31E3-8847-48FC-8413-88BAB1DE121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655C-BED2-4FA6-9139-018A8F02AF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37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228E-D5F3-4ED7-9887-2C8910FAD8F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E9CC-D0C4-4B14-944F-9EB79E05E9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44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285F-B000-4C2A-B1A0-FC7FB965BF6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B6A0-ACFA-4994-8BB2-2FEF43C1EB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2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505A-2826-4E2B-A79D-4DF5CB6AADC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E4F3-903D-4307-9EE3-B436577DB2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9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EF2A-8069-4258-8538-9B6BF0294EA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DD8F-8B0F-423A-BE74-4040EDAA07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99840" y="6237360"/>
            <a:ext cx="686124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К решению о бюджете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«Ленский муниципальный район»   на 2018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3" descr=""/>
          <p:cNvPicPr/>
          <p:nvPr/>
        </p:nvPicPr>
        <p:blipFill>
          <a:blip r:embed="rId1"/>
          <a:stretch/>
        </p:blipFill>
        <p:spPr>
          <a:xfrm>
            <a:off x="333360" y="922320"/>
            <a:ext cx="3043080" cy="1865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13" name="Rectangle 4"/>
          <p:cNvSpPr/>
          <p:nvPr/>
        </p:nvSpPr>
        <p:spPr>
          <a:xfrm>
            <a:off x="272880" y="2955960"/>
            <a:ext cx="3235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Бюдж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для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граж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6" descr="101392442_Internetportal8"/>
          <p:cNvPicPr/>
          <p:nvPr/>
        </p:nvPicPr>
        <p:blipFill>
          <a:blip r:embed="rId2"/>
          <a:stretch/>
        </p:blipFill>
        <p:spPr>
          <a:xfrm>
            <a:off x="3925800" y="3165480"/>
            <a:ext cx="3873600" cy="2577960"/>
          </a:xfrm>
          <a:prstGeom prst="rect">
            <a:avLst/>
          </a:prstGeom>
          <a:ln w="0">
            <a:noFill/>
          </a:ln>
        </p:spPr>
      </p:pic>
      <p:sp>
        <p:nvSpPr>
          <p:cNvPr id="1115" name="Text Box 7"/>
          <p:cNvSpPr/>
          <p:nvPr/>
        </p:nvSpPr>
        <p:spPr>
          <a:xfrm>
            <a:off x="3427560" y="434880"/>
            <a:ext cx="42368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ниципально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СКИЙ МУНИЦИПАЛЬНЫЙ РАЙ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Рисунок 6" descr="https://pp.vk.me/c304214/v304214092/19a0/hIVh7_KEJoA.jpg"/>
          <p:cNvPicPr/>
          <p:nvPr/>
        </p:nvPicPr>
        <p:blipFill>
          <a:blip r:embed="rId3"/>
          <a:stretch/>
        </p:blipFill>
        <p:spPr>
          <a:xfrm>
            <a:off x="7550280" y="493560"/>
            <a:ext cx="2023920" cy="2264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600"/>
                            </p:stCondLst>
                            <p:childTnLst>
                              <p:par>
                                <p:cTn id="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6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1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E9B3-9A25-4F0C-9130-68984794C0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2DA4-1A21-4E58-8197-B2C67FE6DB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90160" y="1450440"/>
            <a:ext cx="9333000" cy="149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9  году  бюджетная  и налоговая политика в предстоящем периоде  направлена на достижение национальных целей и стратегических задач, установленных Указом Президента Российской Федерации  от 7 мая 2018 года № 204 «О национальных целях и стратегических задачах развития Российской Федерации на период до 2024 года».</a:t>
            </a:r>
            <a:br>
              <a:rPr sz="1800"/>
            </a:b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71240" y="3328920"/>
            <a:ext cx="891540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Необходимые условия для реализации бюджетной политики на 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1) поддержание сбалансированности бюджета  МО «Ленский муниципальный район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использование при планировании «консервативного»( базового) варианта прогноза социально-экономического развития МО «Ленский муниципальный рай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519120" y="331920"/>
            <a:ext cx="77724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Основные направления бюджетной  и налогов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Основные направления бюджетной политик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концентрация ресурсов на наиболее значимых действующих расходных обязательствах МО «Ленский муниципальный район» , принятие новых расходных обязательств на основе взвешенной оценки и при условии финансового обеспечения действующих расходных обяза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повышение эффективности бюджетных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повышение эффективности расхо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использование внутренних резервов муниципального сек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создание условий для повышения качества предоставления муниципальных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повышение  эффективности процедур проведения закупок товаров ,  работ, услуг для обеспечения муниципальных нуж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развитие системы финансового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обеспечение прозрачности и открытости муниципальных финанс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4885-2CEB-41D8-9E28-32BAD6ECE5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27BC-F3FC-4A8C-8FAD-B6B7A756C6C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89E6-8B66-4FA4-9DAE-C6667464952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888840" y="495360"/>
            <a:ext cx="7167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Основные  параметры бюджета МО «Ленский муниципальный район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22" name=""/>
          <p:cNvGraphicFramePr/>
          <p:nvPr/>
        </p:nvGraphicFramePr>
        <p:xfrm>
          <a:off x="571680" y="2690640"/>
          <a:ext cx="8586720" cy="2982960"/>
        </p:xfrm>
        <a:graphic>
          <a:graphicData uri="http://schemas.openxmlformats.org/drawingml/2006/table">
            <a:tbl>
              <a:tblPr/>
              <a:tblGrid>
                <a:gridCol w="2145960"/>
                <a:gridCol w="2187720"/>
                <a:gridCol w="2106720"/>
                <a:gridCol w="214632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2 949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093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 657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 078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4 95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8 706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 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6 871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 864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 049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8909-024F-4809-86D5-95F94D500D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C09D-03AD-4997-A9A6-C90A03DE9D1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415440"/>
            <a:ext cx="8585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Показатели социально – экономического развития 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Ленского района в 2017 – 2021 годах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414360" y="1770120"/>
          <a:ext cx="8932680" cy="5038560"/>
        </p:xfrm>
        <a:graphic>
          <a:graphicData uri="http://schemas.openxmlformats.org/drawingml/2006/table">
            <a:tbl>
              <a:tblPr/>
              <a:tblGrid>
                <a:gridCol w="2778120"/>
                <a:gridCol w="1108080"/>
                <a:gridCol w="1108080"/>
                <a:gridCol w="1306440"/>
                <a:gridCol w="1252440"/>
                <a:gridCol w="13795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7 год (отче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8 год (оценк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9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20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1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Численность постоянного населения (среднегодовая), тыс.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Индекс потребительских цен, % к декабрю прошлог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Ввод в действие жилых домов, кв.м общей площа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91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848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0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2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Среднесписочная численность работников организаций  без субъектов малого и среднего предприниматель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76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73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0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678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66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Среднемесячная заработная плата одного работника крупных и средних предприятий и некоммерческих организаций,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6352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875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721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2729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511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Величина прожиточного минимума в среднем на душу населения в месяц,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61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519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95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42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895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Уровень безработицы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572B-6040-409D-B403-E8F9B4C7657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00E6-C7FD-41ED-862B-F3DB9375A09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90240" y="334800"/>
            <a:ext cx="784044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Основные параметры бюджетной системы МО «Ленский муниципальный район» на 2018-2021годы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30" name=""/>
          <p:cNvGraphicFramePr/>
          <p:nvPr/>
        </p:nvGraphicFramePr>
        <p:xfrm>
          <a:off x="268200" y="1609560"/>
          <a:ext cx="9180720" cy="5313600"/>
        </p:xfrm>
        <a:graphic>
          <a:graphicData uri="http://schemas.openxmlformats.org/drawingml/2006/table">
            <a:tbl>
              <a:tblPr/>
              <a:tblGrid>
                <a:gridCol w="4292640"/>
                <a:gridCol w="1303560"/>
                <a:gridCol w="1233360"/>
                <a:gridCol w="434880"/>
                <a:gridCol w="362160"/>
                <a:gridCol w="392040"/>
                <a:gridCol w="1162080"/>
              </a:tblGrid>
              <a:tr h="24948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нение за 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 бюджета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 бюдже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2 94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09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 65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8 75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55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 00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 39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 96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7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28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59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96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9 1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2 79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2 66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3 83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6 07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4 95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8 70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4 00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асходы на обслуживание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8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0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0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1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88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7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533520" indent="-53352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77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фицит (-), профицит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16 87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4 86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 04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 24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и финансирования дефицита бюджета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6 87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6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04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24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редит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9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6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04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24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- пол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 74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57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 99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 24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га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34 34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70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 94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99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ение остатков средств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9 26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дефицита бюджета к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31" name="Rectangle 151"/>
          <p:cNvSpPr/>
          <p:nvPr/>
        </p:nvSpPr>
        <p:spPr>
          <a:xfrm>
            <a:off x="7873920" y="131616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с.руб</a:t>
            </a:r>
            <a:r>
              <a:rPr b="0" lang="ru-RU" sz="1000" spc="-1" strike="noStrike">
                <a:solidFill>
                  <a:srgbClr val="669999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1241-20E1-4456-813A-DF2789A877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0911-801E-4B72-9E40-257CC202663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90720" y="193320"/>
            <a:ext cx="6540480" cy="5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Доходы бюджета район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7960" y="941400"/>
            <a:ext cx="77472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Доходы районного бюджета образуются за счет налоговых и неналоговых доходов, а также за счет безвозмездных поступл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5"/>
          <p:cNvSpPr/>
          <p:nvPr/>
        </p:nvSpPr>
        <p:spPr>
          <a:xfrm>
            <a:off x="3782880" y="164772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6"/>
          <p:cNvSpPr/>
          <p:nvPr/>
        </p:nvSpPr>
        <p:spPr>
          <a:xfrm>
            <a:off x="465120" y="3798720"/>
            <a:ext cx="2703600" cy="2308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оговые доходы – поступления от уплаты налогов, установленных Налоговым кодекс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7"/>
          <p:cNvSpPr/>
          <p:nvPr/>
        </p:nvSpPr>
        <p:spPr>
          <a:xfrm>
            <a:off x="3490920" y="3786120"/>
            <a:ext cx="2727360" cy="230364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налоговые доходы – поступления от уплаты пошлин и сборов, установленных законодательством РФ, арендных платежей и штрафов за нарушение законод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8"/>
          <p:cNvSpPr/>
          <p:nvPr/>
        </p:nvSpPr>
        <p:spPr>
          <a:xfrm>
            <a:off x="6566040" y="3780000"/>
            <a:ext cx="3030480" cy="2315880"/>
          </a:xfrm>
          <a:prstGeom prst="rect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- поступления от других бюджетов (межбюджетные трансферты), организаций, граждан (кроме налоговых и неналоговых дохо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AutoShape 9"/>
          <p:cNvSpPr/>
          <p:nvPr/>
        </p:nvSpPr>
        <p:spPr>
          <a:xfrm rot="2727000">
            <a:off x="7105320" y="22338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10"/>
          <p:cNvSpPr/>
          <p:nvPr/>
        </p:nvSpPr>
        <p:spPr>
          <a:xfrm rot="7661400">
            <a:off x="1419480" y="2137680"/>
            <a:ext cx="1611360" cy="88236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360"/>
              <a:gd name="textAreaBottom" fmla="*/ 764280 h 88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AutoShape 11"/>
          <p:cNvSpPr/>
          <p:nvPr/>
        </p:nvSpPr>
        <p:spPr>
          <a:xfrm>
            <a:off x="4557600" y="299232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00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8E9E-2873-40F6-A0B6-61F382595A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FD5B-2435-4854-95D2-A0FC7E31A9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41440" y="276120"/>
            <a:ext cx="91281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доходов бюджета на 2019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46" name="Object 4"/>
          <p:cNvGraphicFramePr/>
          <p:nvPr/>
        </p:nvGraphicFramePr>
        <p:xfrm>
          <a:off x="507960" y="1582560"/>
          <a:ext cx="728676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582560"/>
                    <a:ext cx="72867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6F60-0C0A-46F1-9836-0C81DFBA2C2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C9B0-70F2-4824-A651-A00DBD0BDE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717480" y="204480"/>
            <a:ext cx="787248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РАСПРЕДЕЛЕНИЕ НАЛОГОВ по бюджетам с 1 января  2019 года ( в процентах)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51" name=""/>
          <p:cNvGraphicFramePr/>
          <p:nvPr/>
        </p:nvGraphicFramePr>
        <p:xfrm>
          <a:off x="220680" y="841320"/>
          <a:ext cx="8400960" cy="5672160"/>
        </p:xfrm>
        <a:graphic>
          <a:graphicData uri="http://schemas.openxmlformats.org/drawingml/2006/table">
            <a:tbl>
              <a:tblPr/>
              <a:tblGrid>
                <a:gridCol w="3581280"/>
                <a:gridCol w="1249560"/>
                <a:gridCol w="1261800"/>
                <a:gridCol w="1263960"/>
                <a:gridCol w="10443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бластно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муниципальных рай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город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сель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город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сель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по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 (в зависимости от полномоч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Местные налоги (налог на имущество физических лиц и земельный нал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 (до разгранич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ые помещения (в зависимости от собственности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на окружающую 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EDE9-1CF6-45AE-B417-CCC09F257F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DD52-0AB6-4189-806E-8EF87E21E0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21920" y="331560"/>
            <a:ext cx="81723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2017-2020 год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55" name="Object 6"/>
          <p:cNvGraphicFramePr/>
          <p:nvPr/>
        </p:nvGraphicFramePr>
        <p:xfrm>
          <a:off x="496800" y="1008000"/>
          <a:ext cx="92170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008000"/>
                    <a:ext cx="92170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3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DF63-3349-4435-9055-529D7869FD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E64D-1975-4906-8BFA-D40B36AA5F4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2"/>
          <p:cNvSpPr/>
          <p:nvPr/>
        </p:nvSpPr>
        <p:spPr>
          <a:xfrm>
            <a:off x="193680" y="241200"/>
            <a:ext cx="829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 бюджета 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190440" y="1009800"/>
          <a:ext cx="8282160" cy="5554440"/>
        </p:xfrm>
        <a:graphic>
          <a:graphicData uri="http://schemas.openxmlformats.org/drawingml/2006/table">
            <a:tbl>
              <a:tblPr/>
              <a:tblGrid>
                <a:gridCol w="3390840"/>
                <a:gridCol w="1231920"/>
                <a:gridCol w="1251000"/>
                <a:gridCol w="1222560"/>
                <a:gridCol w="118584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ДФ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2 55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5 1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2 27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5 05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 46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 15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01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 3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товары, реализуемые на территории РФ ( акциз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27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96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41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 66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1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30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29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34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 72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45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80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 90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1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56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97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 17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4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3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7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9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Штра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3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07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чие налоговые и неналоговые до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8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7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8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7745-8019-4B0D-9F64-E742A94E66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8700-DDB1-486E-9AC9-FCDB18B2BB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49160" y="213840"/>
            <a:ext cx="8902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Что такое бюджет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0" name="Rectangle 3"/>
          <p:cNvSpPr/>
          <p:nvPr/>
        </p:nvSpPr>
        <p:spPr>
          <a:xfrm>
            <a:off x="193680" y="3632040"/>
            <a:ext cx="9363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ЮДЖЕТ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(от старонормандского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ougette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– кошель, сумка, кожаный мешок) – план доходов и расходов, предназначенный для финансирования задач и функций государства и местного самоупра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"/>
          <p:cNvSpPr/>
          <p:nvPr/>
        </p:nvSpPr>
        <p:spPr>
          <a:xfrm>
            <a:off x="193680" y="901080"/>
            <a:ext cx="226368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поступающие в бюджет денежные средства (налоги юридических и физических лиц, административные платежи и сборы, безвозмездные поступлен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130800" y="882000"/>
            <a:ext cx="248472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выплачиваемые из бюджета денежные средства (социальные выплаты населению, содержание муниципальных учреждений (образование, культура и другие) капитальное строительство и друг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7"/>
          <p:cNvSpPr/>
          <p:nvPr/>
        </p:nvSpPr>
        <p:spPr>
          <a:xfrm flipH="1">
            <a:off x="2736360" y="5230800"/>
            <a:ext cx="54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8"/>
          <p:cNvSpPr/>
          <p:nvPr/>
        </p:nvSpPr>
        <p:spPr>
          <a:xfrm>
            <a:off x="6365880" y="5232240"/>
            <a:ext cx="547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9"/>
          <p:cNvSpPr/>
          <p:nvPr/>
        </p:nvSpPr>
        <p:spPr>
          <a:xfrm>
            <a:off x="271440" y="4668840"/>
            <a:ext cx="24973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бюджета -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доходов над рас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0"/>
          <p:cNvSpPr/>
          <p:nvPr/>
        </p:nvSpPr>
        <p:spPr>
          <a:xfrm>
            <a:off x="6892920" y="4748040"/>
            <a:ext cx="2575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это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расходов над до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3" descr="2014-04-09dengi_sybsidii"/>
          <p:cNvPicPr/>
          <p:nvPr/>
        </p:nvPicPr>
        <p:blipFill>
          <a:blip r:embed="rId1"/>
          <a:stretch/>
        </p:blipFill>
        <p:spPr>
          <a:xfrm>
            <a:off x="2684520" y="912960"/>
            <a:ext cx="3143160" cy="24876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4" descr="весы-бюджет2212"/>
          <p:cNvPicPr/>
          <p:nvPr/>
        </p:nvPicPr>
        <p:blipFill>
          <a:blip r:embed="rId2"/>
          <a:stretch/>
        </p:blipFill>
        <p:spPr>
          <a:xfrm>
            <a:off x="3360600" y="4500720"/>
            <a:ext cx="2884680" cy="164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0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75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75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67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72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5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55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E3EF-C2A8-44B7-950C-36C74CF0DBD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F198-71E9-4FAD-9971-34E4669E97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9400" y="264960"/>
            <a:ext cx="786924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алоговых доходов бюджета  МО на 2019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64" name="Object 4"/>
          <p:cNvGraphicFramePr/>
          <p:nvPr/>
        </p:nvGraphicFramePr>
        <p:xfrm>
          <a:off x="466560" y="1677960"/>
          <a:ext cx="896328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677960"/>
                    <a:ext cx="896328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726C-F97D-4570-9452-AABC31B079A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02A9-8C0E-4A81-8C5D-8A299C68271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09120" y="296640"/>
            <a:ext cx="787572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еналоговых доходов бюджета  МО на 2019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69" name="Object 4"/>
          <p:cNvGraphicFramePr/>
          <p:nvPr/>
        </p:nvGraphicFramePr>
        <p:xfrm>
          <a:off x="378000" y="1249200"/>
          <a:ext cx="936144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49200"/>
                    <a:ext cx="936144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A871-4F70-4BD2-9BBA-8025FE1006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BB6A-EDA8-41CC-96DA-9D0B884F01E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utoShape 4"/>
          <p:cNvSpPr/>
          <p:nvPr/>
        </p:nvSpPr>
        <p:spPr>
          <a:xfrm>
            <a:off x="3330720" y="1889280"/>
            <a:ext cx="3213000" cy="167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ормы межбюдже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трансф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7600" y="223560"/>
            <a:ext cx="817236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Межбюджетные трансферты –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ой вид безвозмездных поступлени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5" name="AutoShape 17"/>
          <p:cNvSpPr/>
          <p:nvPr/>
        </p:nvSpPr>
        <p:spPr>
          <a:xfrm>
            <a:off x="3065400" y="4319640"/>
            <a:ext cx="3645000" cy="2286000"/>
          </a:xfrm>
          <a:custGeom>
            <a:avLst/>
            <a:gdLst>
              <a:gd name="textAreaLeft" fmla="*/ 147960 w 3645000"/>
              <a:gd name="textAreaRight" fmla="*/ 3497040 w 3645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34439" h="21600">
                <a:moveTo>
                  <a:pt x="0" y="0"/>
                </a:moveTo>
                <a:lnTo>
                  <a:pt x="34439" y="0"/>
                </a:lnTo>
                <a:lnTo>
                  <a:pt x="34439" y="21600"/>
                </a:lnTo>
                <a:lnTo>
                  <a:pt x="0" y="21600"/>
                </a:lnTo>
                <a:close/>
              </a:path>
              <a:path fill="lightenLess" w="34439" h="21600">
                <a:moveTo>
                  <a:pt x="0" y="0"/>
                </a:moveTo>
                <a:lnTo>
                  <a:pt x="34439" y="0"/>
                </a:lnTo>
                <a:lnTo>
                  <a:pt x="33039" y="1400"/>
                </a:lnTo>
                <a:lnTo>
                  <a:pt x="1400" y="1400"/>
                </a:lnTo>
                <a:close/>
              </a:path>
              <a:path fill="darken" w="34439" h="21600">
                <a:moveTo>
                  <a:pt x="34439" y="0"/>
                </a:moveTo>
                <a:lnTo>
                  <a:pt x="34439" y="21600"/>
                </a:lnTo>
                <a:lnTo>
                  <a:pt x="33039" y="20200"/>
                </a:lnTo>
                <a:lnTo>
                  <a:pt x="33039" y="1400"/>
                </a:lnTo>
                <a:close/>
              </a:path>
              <a:path fill="darkenLess" w="34439" h="21600">
                <a:moveTo>
                  <a:pt x="344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39" y="20200"/>
                </a:lnTo>
                <a:close/>
              </a:path>
              <a:path fill="lighten" w="344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венция – целевые сред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финанс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олномочий, пере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ому уровню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9"/>
          <p:cNvSpPr/>
          <p:nvPr/>
        </p:nvSpPr>
        <p:spPr>
          <a:xfrm flipH="1">
            <a:off x="4816080" y="3649680"/>
            <a:ext cx="3240" cy="55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AutoShape 21"/>
          <p:cNvSpPr/>
          <p:nvPr/>
        </p:nvSpPr>
        <p:spPr>
          <a:xfrm>
            <a:off x="231840" y="3479760"/>
            <a:ext cx="2644560" cy="200196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отаци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б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определения конкре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и их 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22"/>
          <p:cNvSpPr/>
          <p:nvPr/>
        </p:nvSpPr>
        <p:spPr>
          <a:xfrm flipH="1">
            <a:off x="1676520" y="2649600"/>
            <a:ext cx="1473120" cy="61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23"/>
          <p:cNvSpPr/>
          <p:nvPr/>
        </p:nvSpPr>
        <p:spPr>
          <a:xfrm>
            <a:off x="204840" y="934920"/>
            <a:ext cx="81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бюджетные трансферты – денежные средства, перечисляемые из одного бюджета бюджетной системы другому бюдж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13"/>
          <p:cNvSpPr/>
          <p:nvPr/>
        </p:nvSpPr>
        <p:spPr>
          <a:xfrm>
            <a:off x="6967440" y="3513240"/>
            <a:ext cx="2729160" cy="200340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сидия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евые сред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офинанс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рас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их бюдж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"/>
          <p:cNvSpPr/>
          <p:nvPr/>
        </p:nvSpPr>
        <p:spPr>
          <a:xfrm>
            <a:off x="6632640" y="2657520"/>
            <a:ext cx="16700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000"/>
                            </p:stCondLst>
                            <p:childTnLst>
                              <p:par>
                                <p:cTn id="60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4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71F3-72FC-4FAF-841E-109EBDC325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57B3-DF1D-4735-9928-EC83184A27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95080" y="246240"/>
            <a:ext cx="78771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безвозмездных поступлений бюджета  МО на 2019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85" name="Object 4"/>
          <p:cNvGraphicFramePr/>
          <p:nvPr/>
        </p:nvGraphicFramePr>
        <p:xfrm>
          <a:off x="276120" y="1523880"/>
          <a:ext cx="9186840" cy="48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523880"/>
                    <a:ext cx="918684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DBE2-CC78-4579-9D81-06874602194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8672-2990-4CE8-A934-A527624DFF9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66400" y="285480"/>
            <a:ext cx="2997000" cy="11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Финансовая  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поддерж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0" name="AutoShape 5"/>
          <p:cNvSpPr/>
          <p:nvPr/>
        </p:nvSpPr>
        <p:spPr>
          <a:xfrm rot="5400000">
            <a:off x="948960" y="1390320"/>
            <a:ext cx="1297080" cy="3195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479,1 млн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AutoShape 27"/>
          <p:cNvSpPr/>
          <p:nvPr/>
        </p:nvSpPr>
        <p:spPr>
          <a:xfrm>
            <a:off x="19368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8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AutoShape 27"/>
          <p:cNvSpPr/>
          <p:nvPr/>
        </p:nvSpPr>
        <p:spPr>
          <a:xfrm>
            <a:off x="19368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18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AutoShape 27"/>
          <p:cNvSpPr/>
          <p:nvPr/>
        </p:nvSpPr>
        <p:spPr>
          <a:xfrm>
            <a:off x="19368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263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AutoShape 27"/>
          <p:cNvSpPr/>
          <p:nvPr/>
        </p:nvSpPr>
        <p:spPr>
          <a:xfrm>
            <a:off x="19368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24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5"/>
          <p:cNvSpPr/>
          <p:nvPr/>
        </p:nvSpPr>
        <p:spPr>
          <a:xfrm rot="5400000">
            <a:off x="4317480" y="1390320"/>
            <a:ext cx="1297080" cy="31957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522,8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AutoShape 27"/>
          <p:cNvSpPr/>
          <p:nvPr/>
        </p:nvSpPr>
        <p:spPr>
          <a:xfrm>
            <a:off x="3470400" y="394668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5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27"/>
          <p:cNvSpPr/>
          <p:nvPr/>
        </p:nvSpPr>
        <p:spPr>
          <a:xfrm>
            <a:off x="347040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218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AutoShape 27"/>
          <p:cNvSpPr/>
          <p:nvPr/>
        </p:nvSpPr>
        <p:spPr>
          <a:xfrm>
            <a:off x="347040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277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27"/>
          <p:cNvSpPr/>
          <p:nvPr/>
        </p:nvSpPr>
        <p:spPr>
          <a:xfrm>
            <a:off x="347040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21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AutoShape 5"/>
          <p:cNvSpPr/>
          <p:nvPr/>
        </p:nvSpPr>
        <p:spPr>
          <a:xfrm rot="5400000">
            <a:off x="7659360" y="1377720"/>
            <a:ext cx="1296720" cy="3195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542,7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27"/>
          <p:cNvSpPr/>
          <p:nvPr/>
        </p:nvSpPr>
        <p:spPr>
          <a:xfrm>
            <a:off x="674532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5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AutoShape 27"/>
          <p:cNvSpPr/>
          <p:nvPr/>
        </p:nvSpPr>
        <p:spPr>
          <a:xfrm>
            <a:off x="674532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226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AutoShape 27"/>
          <p:cNvSpPr/>
          <p:nvPr/>
        </p:nvSpPr>
        <p:spPr>
          <a:xfrm>
            <a:off x="674532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287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27"/>
          <p:cNvSpPr/>
          <p:nvPr/>
        </p:nvSpPr>
        <p:spPr>
          <a:xfrm>
            <a:off x="674532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22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20" descr="2014-04-09dengi_sybsidii"/>
          <p:cNvPicPr/>
          <p:nvPr/>
        </p:nvPicPr>
        <p:blipFill>
          <a:blip r:embed="rId1"/>
          <a:stretch/>
        </p:blipFill>
        <p:spPr>
          <a:xfrm>
            <a:off x="4065480" y="0"/>
            <a:ext cx="459756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9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189000" y="412560"/>
            <a:ext cx="8726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Ленского  района утверждается в форме решения Собрания депутатов муниципального образования «Ленский  муниципальный район» о бюджете на очередной финансовый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опросу рассмотрения проекта бюджета муниципального образования «Ленский  муниципальный район» на 2019 год назначаются публичные слушания.  Положение о порядке организации и проведения публичных слушаний в муниципальном образовании «Ленский  муниципальный район», утверждено решением Собрания депутатов от 27.10.2010 года № 6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на 2019 год утвержден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шением Собрания депутатов муниципального образования «Ленский  муниципальный район» от 19.12.2018 г. № 43-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1AA2-EA67-4D1C-8F05-EC1B61218C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B8F4-0E75-4592-9810-64D2295E1BD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-668520" y="203040"/>
            <a:ext cx="10296360" cy="41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акие бывают бюджеты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3" name="Rectangle 3"/>
          <p:cNvSpPr/>
          <p:nvPr/>
        </p:nvSpPr>
        <p:spPr>
          <a:xfrm>
            <a:off x="662040" y="907920"/>
            <a:ext cx="1636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4"/>
          <p:cNvSpPr/>
          <p:nvPr/>
        </p:nvSpPr>
        <p:spPr>
          <a:xfrm flipH="1">
            <a:off x="2707920" y="868320"/>
            <a:ext cx="770040" cy="317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5"/>
          <p:cNvSpPr/>
          <p:nvPr/>
        </p:nvSpPr>
        <p:spPr>
          <a:xfrm>
            <a:off x="4952880" y="765000"/>
            <a:ext cx="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6"/>
          <p:cNvSpPr/>
          <p:nvPr/>
        </p:nvSpPr>
        <p:spPr>
          <a:xfrm>
            <a:off x="6051600" y="820800"/>
            <a:ext cx="782640" cy="36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3314880" y="1844280"/>
            <a:ext cx="31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ы публично-правов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8"/>
          <p:cNvSpPr/>
          <p:nvPr/>
        </p:nvSpPr>
        <p:spPr>
          <a:xfrm>
            <a:off x="6784920" y="822240"/>
            <a:ext cx="2114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10" descr=""/>
          <p:cNvPicPr/>
          <p:nvPr/>
        </p:nvPicPr>
        <p:blipFill>
          <a:blip r:embed="rId1"/>
          <a:stretch/>
        </p:blipFill>
        <p:spPr>
          <a:xfrm>
            <a:off x="428760" y="3722760"/>
            <a:ext cx="2566800" cy="164304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sp>
        <p:nvSpPr>
          <p:cNvPr id="1140" name="Line 12"/>
          <p:cNvSpPr/>
          <p:nvPr/>
        </p:nvSpPr>
        <p:spPr>
          <a:xfrm>
            <a:off x="6016680" y="2781360"/>
            <a:ext cx="77940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3"/>
          <p:cNvSpPr/>
          <p:nvPr/>
        </p:nvSpPr>
        <p:spPr>
          <a:xfrm>
            <a:off x="4943520" y="278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4"/>
          <p:cNvSpPr/>
          <p:nvPr/>
        </p:nvSpPr>
        <p:spPr>
          <a:xfrm flipH="1">
            <a:off x="3079440" y="2781360"/>
            <a:ext cx="7808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5"/>
          <p:cNvSpPr/>
          <p:nvPr/>
        </p:nvSpPr>
        <p:spPr>
          <a:xfrm>
            <a:off x="222120" y="5534280"/>
            <a:ext cx="2886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федеральный бюджет, бюджеты государственных внебюджетных фондов 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6"/>
          <p:cNvSpPr/>
          <p:nvPr/>
        </p:nvSpPr>
        <p:spPr>
          <a:xfrm>
            <a:off x="3549600" y="5385240"/>
            <a:ext cx="2886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региональные бюджеты, бюджеты территориальных фондов ОМ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7"/>
          <p:cNvSpPr/>
          <p:nvPr/>
        </p:nvSpPr>
        <p:spPr>
          <a:xfrm>
            <a:off x="6899400" y="5609520"/>
            <a:ext cx="27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стные бюдже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9"/>
          <p:cNvSpPr/>
          <p:nvPr/>
        </p:nvSpPr>
        <p:spPr>
          <a:xfrm>
            <a:off x="3470400" y="2565360"/>
            <a:ext cx="2808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Picture 20" descr=""/>
          <p:cNvPicPr/>
          <p:nvPr/>
        </p:nvPicPr>
        <p:blipFill>
          <a:blip r:embed="rId2"/>
          <a:stretch/>
        </p:blipFill>
        <p:spPr>
          <a:xfrm>
            <a:off x="428760" y="1268280"/>
            <a:ext cx="2205000" cy="223056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  <p:pic>
        <p:nvPicPr>
          <p:cNvPr id="1148" name="Picture 24" descr="i"/>
          <p:cNvPicPr/>
          <p:nvPr/>
        </p:nvPicPr>
        <p:blipFill>
          <a:blip r:embed="rId3"/>
          <a:stretch/>
        </p:blipFill>
        <p:spPr>
          <a:xfrm>
            <a:off x="6964200" y="1452600"/>
            <a:ext cx="2495880" cy="186516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1149" name="Picture 25" descr="karta_arhangelskaya_oblasti_po_rayonam-578x600"/>
          <p:cNvPicPr/>
          <p:nvPr/>
        </p:nvPicPr>
        <p:blipFill>
          <a:blip r:embed="rId4"/>
          <a:stretch/>
        </p:blipFill>
        <p:spPr>
          <a:xfrm>
            <a:off x="7020000" y="3691080"/>
            <a:ext cx="2428920" cy="166500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pic>
        <p:nvPicPr>
          <p:cNvPr id="1150" name="Picture 26" descr="111913170_large_article1408"/>
          <p:cNvPicPr/>
          <p:nvPr/>
        </p:nvPicPr>
        <p:blipFill>
          <a:blip r:embed="rId5"/>
          <a:stretch/>
        </p:blipFill>
        <p:spPr>
          <a:xfrm>
            <a:off x="3597120" y="3675240"/>
            <a:ext cx="2951280" cy="167292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2160" y="848880"/>
            <a:ext cx="817236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Бюджетная система представляет собой совокупность отношений, возникающих между различными субъектами в процессе формирования доходов и осуществления расходов бюджетов всех уровней системы, осуществления государственных и муниципальных заимствований, регулирования государственного и муниципального долга, составления и рассмотрения проектов бюджетов системы, их утверждения и исполнения, контроля за их исполнением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52" name="Picture 4" descr="флаг"/>
          <p:cNvPicPr/>
          <p:nvPr/>
        </p:nvPicPr>
        <p:blipFill>
          <a:blip r:embed="rId1"/>
          <a:stretch/>
        </p:blipFill>
        <p:spPr>
          <a:xfrm>
            <a:off x="515880" y="2451240"/>
            <a:ext cx="8961480" cy="4074840"/>
          </a:xfrm>
          <a:prstGeom prst="rect">
            <a:avLst/>
          </a:prstGeom>
          <a:ln w="0">
            <a:noFill/>
          </a:ln>
        </p:spPr>
      </p:pic>
      <p:sp>
        <p:nvSpPr>
          <p:cNvPr id="1153" name="Text Box 6"/>
          <p:cNvSpPr/>
          <p:nvPr/>
        </p:nvSpPr>
        <p:spPr>
          <a:xfrm>
            <a:off x="754200" y="31896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Бюджетная систем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7"/>
          <p:cNvSpPr/>
          <p:nvPr/>
        </p:nvSpPr>
        <p:spPr>
          <a:xfrm>
            <a:off x="2452680" y="25542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Уровни бюджетн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8"/>
          <p:cNvSpPr/>
          <p:nvPr/>
        </p:nvSpPr>
        <p:spPr>
          <a:xfrm>
            <a:off x="3309840" y="3162240"/>
            <a:ext cx="4106880" cy="4510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9"/>
          <p:cNvSpPr/>
          <p:nvPr/>
        </p:nvSpPr>
        <p:spPr>
          <a:xfrm>
            <a:off x="3468600" y="3178080"/>
            <a:ext cx="37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1"/>
          <p:cNvSpPr/>
          <p:nvPr/>
        </p:nvSpPr>
        <p:spPr>
          <a:xfrm>
            <a:off x="1871640" y="3933720"/>
            <a:ext cx="6676920" cy="6526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2"/>
          <p:cNvSpPr/>
          <p:nvPr/>
        </p:nvSpPr>
        <p:spPr>
          <a:xfrm>
            <a:off x="3367080" y="4964040"/>
            <a:ext cx="3976560" cy="5652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3"/>
          <p:cNvSpPr/>
          <p:nvPr/>
        </p:nvSpPr>
        <p:spPr>
          <a:xfrm>
            <a:off x="274680" y="5889600"/>
            <a:ext cx="3397320" cy="6699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униципальных рай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14"/>
          <p:cNvSpPr/>
          <p:nvPr/>
        </p:nvSpPr>
        <p:spPr>
          <a:xfrm>
            <a:off x="3846600" y="5862600"/>
            <a:ext cx="2814480" cy="7113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городски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16"/>
          <p:cNvSpPr/>
          <p:nvPr/>
        </p:nvSpPr>
        <p:spPr>
          <a:xfrm>
            <a:off x="6894360" y="5864400"/>
            <a:ext cx="2802240" cy="6966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городских окру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17"/>
          <p:cNvSpPr/>
          <p:nvPr/>
        </p:nvSpPr>
        <p:spPr>
          <a:xfrm>
            <a:off x="5006880" y="3641760"/>
            <a:ext cx="479520" cy="247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18"/>
          <p:cNvSpPr/>
          <p:nvPr/>
        </p:nvSpPr>
        <p:spPr>
          <a:xfrm>
            <a:off x="4978440" y="4645080"/>
            <a:ext cx="550800" cy="274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9"/>
          <p:cNvSpPr/>
          <p:nvPr/>
        </p:nvSpPr>
        <p:spPr>
          <a:xfrm>
            <a:off x="5238720" y="5516640"/>
            <a:ext cx="0" cy="3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0"/>
          <p:cNvSpPr/>
          <p:nvPr/>
        </p:nvSpPr>
        <p:spPr>
          <a:xfrm>
            <a:off x="5254560" y="5661000"/>
            <a:ext cx="293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21"/>
          <p:cNvSpPr/>
          <p:nvPr/>
        </p:nvSpPr>
        <p:spPr>
          <a:xfrm flipH="1">
            <a:off x="2003040" y="5646600"/>
            <a:ext cx="322092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22"/>
          <p:cNvSpPr/>
          <p:nvPr/>
        </p:nvSpPr>
        <p:spPr>
          <a:xfrm>
            <a:off x="8188200" y="5645160"/>
            <a:ext cx="158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23"/>
          <p:cNvSpPr/>
          <p:nvPr/>
        </p:nvSpPr>
        <p:spPr>
          <a:xfrm flipH="1">
            <a:off x="1987200" y="5676840"/>
            <a:ext cx="2844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C52F-8D0A-4B2C-BEBE-4A9DC7A4057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C7CD-2178-4D0B-83A6-01A53E125C7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152360" y="190440"/>
            <a:ext cx="626616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Консолидированный бюджет Ленского  район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2" name="Rectangle 3"/>
          <p:cNvSpPr/>
          <p:nvPr/>
        </p:nvSpPr>
        <p:spPr>
          <a:xfrm>
            <a:off x="6740640" y="5130720"/>
            <a:ext cx="2495520" cy="1300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Козьм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4"/>
          <p:cNvSpPr/>
          <p:nvPr/>
        </p:nvSpPr>
        <p:spPr>
          <a:xfrm>
            <a:off x="6715080" y="2122560"/>
            <a:ext cx="24955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афронов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6697800" y="730080"/>
            <a:ext cx="24937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ойг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6"/>
          <p:cNvSpPr/>
          <p:nvPr/>
        </p:nvSpPr>
        <p:spPr>
          <a:xfrm>
            <a:off x="2817720" y="3713040"/>
            <a:ext cx="261000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ы поселений Ленского райо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7"/>
          <p:cNvSpPr/>
          <p:nvPr/>
        </p:nvSpPr>
        <p:spPr>
          <a:xfrm>
            <a:off x="2749680" y="1198440"/>
            <a:ext cx="2698560" cy="156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Бюджет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8"/>
          <p:cNvSpPr/>
          <p:nvPr/>
        </p:nvSpPr>
        <p:spPr>
          <a:xfrm flipH="1">
            <a:off x="1698480" y="2128680"/>
            <a:ext cx="1028880" cy="3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9"/>
          <p:cNvSpPr/>
          <p:nvPr/>
        </p:nvSpPr>
        <p:spPr>
          <a:xfrm flipH="1">
            <a:off x="5089320" y="1674720"/>
            <a:ext cx="1525320" cy="197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0"/>
          <p:cNvSpPr/>
          <p:nvPr/>
        </p:nvSpPr>
        <p:spPr>
          <a:xfrm flipH="1">
            <a:off x="5506560" y="2692440"/>
            <a:ext cx="1179720" cy="1177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AutoShape 11"/>
          <p:cNvSpPr/>
          <p:nvPr/>
        </p:nvSpPr>
        <p:spPr>
          <a:xfrm>
            <a:off x="317520" y="189000"/>
            <a:ext cx="1366920" cy="6427800"/>
          </a:xfrm>
          <a:custGeom>
            <a:avLst/>
            <a:gdLst>
              <a:gd name="textAreaLeft" fmla="*/ 66600 w 1366920"/>
              <a:gd name="textAreaRight" fmla="*/ 1300320 w 1366920"/>
              <a:gd name="textAreaTop" fmla="*/ 66600 h 6427800"/>
              <a:gd name="textAreaBottom" fmla="*/ 6361200 h 6427800"/>
            </a:gdLst>
            <a:ahLst/>
            <a:rect l="textAreaLeft" t="textAreaTop" r="textAreaRight" b="textAreaBottom"/>
            <a:pathLst>
              <a:path w="21600" h="101551">
                <a:moveTo>
                  <a:pt x="3600" y="0"/>
                </a:moveTo>
                <a:arcTo wR="3600" hR="3600" stAng="16200000" swAng="-5400000"/>
                <a:lnTo>
                  <a:pt x="0" y="97951"/>
                </a:lnTo>
                <a:arcTo wR="3600" hR="3600" stAng="10800000" swAng="-5400000"/>
                <a:lnTo>
                  <a:pt x="18000" y="1015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2"/>
          <p:cNvSpPr/>
          <p:nvPr/>
        </p:nvSpPr>
        <p:spPr>
          <a:xfrm flipH="1" flipV="1">
            <a:off x="5492880" y="5011560"/>
            <a:ext cx="1193760" cy="78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3"/>
          <p:cNvSpPr/>
          <p:nvPr/>
        </p:nvSpPr>
        <p:spPr>
          <a:xfrm flipH="1" flipV="1">
            <a:off x="5479920" y="4384440"/>
            <a:ext cx="120816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6"/>
          <p:cNvSpPr/>
          <p:nvPr/>
        </p:nvSpPr>
        <p:spPr>
          <a:xfrm>
            <a:off x="6697800" y="3586320"/>
            <a:ext cx="250164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«Урдом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20"/>
          <p:cNvSpPr/>
          <p:nvPr/>
        </p:nvSpPr>
        <p:spPr>
          <a:xfrm flipH="1" flipV="1">
            <a:off x="1700280" y="4541400"/>
            <a:ext cx="108720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WordArt 22"/>
          <p:cNvSpPr txBox="1"/>
          <p:nvPr/>
        </p:nvSpPr>
        <p:spPr>
          <a:xfrm rot="5400000">
            <a:off x="-1946520" y="3052440"/>
            <a:ext cx="596592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солидированный бюджет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C4B9-3B62-499B-9B0A-8F4C375472B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14D4-04CD-41EC-B20C-7C4AE53211F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11040" y="0"/>
            <a:ext cx="552456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Межбюджетные отношения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9" name="AutoShape 3"/>
          <p:cNvSpPr/>
          <p:nvPr/>
        </p:nvSpPr>
        <p:spPr>
          <a:xfrm>
            <a:off x="493560" y="2720880"/>
            <a:ext cx="3675240" cy="3256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4"/>
          <p:cNvSpPr/>
          <p:nvPr/>
        </p:nvSpPr>
        <p:spPr>
          <a:xfrm>
            <a:off x="4815000" y="927000"/>
            <a:ext cx="3809880" cy="9241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ангель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5"/>
          <p:cNvSpPr/>
          <p:nvPr/>
        </p:nvSpPr>
        <p:spPr>
          <a:xfrm rot="20130000">
            <a:off x="2117520" y="1858680"/>
            <a:ext cx="2698560" cy="342720"/>
          </a:xfrm>
          <a:prstGeom prst="leftRightArrow">
            <a:avLst>
              <a:gd name="adj1" fmla="val 50000"/>
              <a:gd name="adj2" fmla="val 15675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6"/>
          <p:cNvSpPr/>
          <p:nvPr/>
        </p:nvSpPr>
        <p:spPr>
          <a:xfrm rot="5400000">
            <a:off x="6461280" y="2084760"/>
            <a:ext cx="571680" cy="341640"/>
          </a:xfrm>
          <a:prstGeom prst="leftRightArrow">
            <a:avLst>
              <a:gd name="adj1" fmla="val 50000"/>
              <a:gd name="adj2" fmla="val 3331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7"/>
          <p:cNvSpPr/>
          <p:nvPr/>
        </p:nvSpPr>
        <p:spPr>
          <a:xfrm>
            <a:off x="4827600" y="2666880"/>
            <a:ext cx="3908520" cy="1190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ский муниципальны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8"/>
          <p:cNvSpPr/>
          <p:nvPr/>
        </p:nvSpPr>
        <p:spPr>
          <a:xfrm>
            <a:off x="4991040" y="4675320"/>
            <a:ext cx="3741840" cy="191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еления Ленского рай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дом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фронов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зьмин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йгин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AutoShape 9"/>
          <p:cNvSpPr/>
          <p:nvPr/>
        </p:nvSpPr>
        <p:spPr>
          <a:xfrm rot="5400000">
            <a:off x="6451560" y="4098960"/>
            <a:ext cx="641520" cy="342720"/>
          </a:xfrm>
          <a:prstGeom prst="leftRightArrow">
            <a:avLst>
              <a:gd name="adj1" fmla="val 50000"/>
              <a:gd name="adj2" fmla="val 3726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6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4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000"/>
                            </p:stCondLst>
                            <p:childTnLst>
                              <p:par>
                                <p:cTn id="3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6478-2F89-4F3D-A3C1-C2CE58CBE3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27D5-C274-4878-819F-A3E9309113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онсолидированный бюджет 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Ленского  район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199" name=""/>
          <p:cNvGraphicFramePr/>
          <p:nvPr/>
        </p:nvGraphicFramePr>
        <p:xfrm>
          <a:off x="431640" y="1947960"/>
          <a:ext cx="8371080" cy="3778200"/>
        </p:xfrm>
        <a:graphic>
          <a:graphicData uri="http://schemas.openxmlformats.org/drawingml/2006/table">
            <a:tbl>
              <a:tblPr/>
              <a:tblGrid>
                <a:gridCol w="2229120"/>
                <a:gridCol w="2063520"/>
                <a:gridCol w="2108160"/>
                <a:gridCol w="1970280"/>
              </a:tblGrid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0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3308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2 387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7 938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 412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7 252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2 987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7 895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 864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 049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6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DF61-E133-43A9-9953-BFE852C7CF6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E2F4-D84A-4B12-BDF0-82FD04265E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36320" y="-360"/>
            <a:ext cx="817236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могает формировать доходную часть бюдже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3" name="Picture 5" descr="mota_ru_0020701-crop"/>
          <p:cNvPicPr/>
          <p:nvPr/>
        </p:nvPicPr>
        <p:blipFill>
          <a:blip r:embed="rId1"/>
          <a:stretch/>
        </p:blipFill>
        <p:spPr>
          <a:xfrm>
            <a:off x="0" y="2171880"/>
            <a:ext cx="2719440" cy="2530440"/>
          </a:xfrm>
          <a:prstGeom prst="rect">
            <a:avLst/>
          </a:prstGeom>
          <a:ln w="0">
            <a:noFill/>
          </a:ln>
        </p:spPr>
      </p:pic>
      <p:sp>
        <p:nvSpPr>
          <p:cNvPr id="1204" name="Rectangle 6"/>
          <p:cNvSpPr/>
          <p:nvPr/>
        </p:nvSpPr>
        <p:spPr>
          <a:xfrm>
            <a:off x="439920" y="668160"/>
            <a:ext cx="311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налогоплатель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доходная часть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( отчисление налогов и сбор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Picture 9" descr="p_35848_1_gallerybig"/>
          <p:cNvPicPr/>
          <p:nvPr/>
        </p:nvPicPr>
        <p:blipFill>
          <a:blip r:embed="rId2"/>
          <a:stretch/>
        </p:blipFill>
        <p:spPr>
          <a:xfrm>
            <a:off x="3844800" y="1498680"/>
            <a:ext cx="2698920" cy="2908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06" name="Picture 12" descr="1251836862_3d-character-114"/>
          <p:cNvPicPr/>
          <p:nvPr/>
        </p:nvPicPr>
        <p:blipFill>
          <a:blip r:embed="rId3"/>
          <a:stretch/>
        </p:blipFill>
        <p:spPr>
          <a:xfrm>
            <a:off x="7350120" y="3465360"/>
            <a:ext cx="1951200" cy="2909880"/>
          </a:xfrm>
          <a:prstGeom prst="rect">
            <a:avLst/>
          </a:prstGeom>
          <a:ln w="0">
            <a:noFill/>
          </a:ln>
        </p:spPr>
      </p:pic>
      <p:sp>
        <p:nvSpPr>
          <p:cNvPr id="1207" name="AutoShape 15"/>
          <p:cNvSpPr/>
          <p:nvPr/>
        </p:nvSpPr>
        <p:spPr>
          <a:xfrm>
            <a:off x="2754360" y="2470320"/>
            <a:ext cx="915840" cy="463320"/>
          </a:xfrm>
          <a:prstGeom prst="rightArrowCallout">
            <a:avLst>
              <a:gd name="adj1" fmla="val 25002"/>
              <a:gd name="adj2" fmla="val 25000"/>
              <a:gd name="adj3" fmla="val 32945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16"/>
          <p:cNvSpPr/>
          <p:nvPr/>
        </p:nvSpPr>
        <p:spPr>
          <a:xfrm rot="5400000">
            <a:off x="6962760" y="2457360"/>
            <a:ext cx="1130400" cy="1409760"/>
          </a:xfrm>
          <a:custGeom>
            <a:avLst/>
            <a:gdLst>
              <a:gd name="textAreaLeft" fmla="*/ 650520 w 1130400"/>
              <a:gd name="textAreaRight" fmla="*/ 954000 w 1130400"/>
              <a:gd name="textAreaTop" fmla="*/ 190080 h 1409760"/>
              <a:gd name="textAreaBottom" fmla="*/ 603360 h 1409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7"/>
          <p:cNvSpPr/>
          <p:nvPr/>
        </p:nvSpPr>
        <p:spPr>
          <a:xfrm>
            <a:off x="755640" y="4950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лучает социальные гарантии –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расходная часть бюджета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(образование,  культура, физическая культура и спорт, социальные льготы и другие направления социальных гарантий насел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18"/>
          <p:cNvSpPr/>
          <p:nvPr/>
        </p:nvSpPr>
        <p:spPr>
          <a:xfrm>
            <a:off x="6845400" y="1406520"/>
            <a:ext cx="290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как получ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социальных гаран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4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Your User Name</cp:lastModifiedBy>
  <dcterms:modified xsi:type="dcterms:W3CDTF">2019-02-27T05:22:44Z</dcterms:modified>
  <cp:revision>906</cp:revision>
  <dc:subject/>
  <dc:title>Бюджет для граждан на 2014 год</dc:title>
</cp:coreProperties>
</file>