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2.jpeg" ContentType="image/jpeg"/>
  <Override PartName="/ppt/media/image2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6600" y="740880"/>
            <a:ext cx="5342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B452-4912-40E8-AAE8-EFB4CD287A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696960" y="741240"/>
            <a:ext cx="5342040" cy="369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2909-EE1C-4601-8CF7-EDF5CCD0A4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342-A81E-42BF-8C18-27370A85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2AC-B53F-4CF1-9FC9-1529B98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19C-9194-434E-9387-72857A17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30C-F0F8-4C71-95A7-A71A224D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315-D75A-426E-83B1-30B9AB3C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88B-0D68-425D-A703-ADA1D4FE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2CF-B00E-43B2-A02A-CE42352C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D9D-C247-4F4F-8979-F1E85D86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931-D1B9-4F2A-A6BC-E19945E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C04-EB42-424E-9DF9-6F753FC0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730-53DA-4737-A8E2-7B317327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1F5-4525-4E5F-B82A-8EFA9CD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E73C-9C3D-4DB2-9A36-9687A9BC45F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ABD-33C2-44CD-8686-F8727BCE1B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ходы районного бюдж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91919"/>
                </a:solidFill>
                <a:latin typeface="Calibri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4D82-FC3E-4871-8DCF-731A3E02D8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968B-7DE3-4DDC-B7CE-8688EEBC7E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948a54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«Развитие образования Ленского муниципального района (2015-2020 годы)»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расходы на дополнительное образование детей)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03532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1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B5E-EC5B-4394-B852-66B3C35B13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C:\Users\Кривошеина ТА\Desktop\hAA92US1dEc.jpg"/>
          <p:cNvPicPr/>
          <p:nvPr/>
        </p:nvPicPr>
        <p:blipFill>
          <a:blip r:embed="rId1"/>
          <a:stretch/>
        </p:blipFill>
        <p:spPr>
          <a:xfrm>
            <a:off x="4998960" y="1554120"/>
            <a:ext cx="4516560" cy="3517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C:\Users\Кривошеина ТА\Desktop\lop.jpg"/>
          <p:cNvPicPr/>
          <p:nvPr/>
        </p:nvPicPr>
        <p:blipFill>
          <a:blip r:embed="rId2"/>
          <a:stretch/>
        </p:blipFill>
        <p:spPr>
          <a:xfrm>
            <a:off x="554040" y="2502000"/>
            <a:ext cx="4238640" cy="325116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униципальная программ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«Развитие образования Ленского муниципального района» (2015-2020 годы)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95360" y="1981080"/>
          <a:ext cx="8940600" cy="4159440"/>
        </p:xfrm>
        <a:graphic>
          <a:graphicData uri="http://schemas.openxmlformats.org/drawingml/2006/table">
            <a:tbl>
              <a:tblPr/>
              <a:tblGrid>
                <a:gridCol w="2082600"/>
                <a:gridCol w="1803600"/>
                <a:gridCol w="1879560"/>
                <a:gridCol w="1739880"/>
                <a:gridCol w="143496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75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50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1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15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50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1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8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88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8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5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3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дё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1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8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7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7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4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298F-7DFF-4391-91FC-4B36C08609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BCE-2FB2-4691-8DBC-15A9B1409C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4D86-86AB-437E-AC73-A85B508678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30120" y="228600"/>
            <a:ext cx="932184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униципальная программа «Развитие местного самоуправления в МО «Ленский муниципальный район» и поддержка социально ориентированных некоммерческих организаций» (2017 – 2019 годы)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66760" y="4327560"/>
            <a:ext cx="3809880" cy="20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Старшее поко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Times New Roman"/>
              </a:rPr>
              <a:t>(на оплату проезда в обществен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Times New Roman"/>
              </a:rPr>
              <a:t>транспорте)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          </a:t>
            </a:r>
            <a:br>
              <a:rPr sz="24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56,1 тыс.рублей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- 40,1 тыс.руб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8 год- 35,0 тыс.руб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9 год- 40,4 тыс.рублей     </a:t>
            </a:r>
            <a:br>
              <a:rPr sz="22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5079960" y="1562040"/>
            <a:ext cx="441972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Развитие территориального общественного самоуправления</a:t>
            </a:r>
            <a:br>
              <a:rPr sz="20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469,4 тыс.рублей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 – 469,2 тыс.руб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8 год – 615,5 тыс.руб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9 год – 696,2 тыс.рублей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927680" y="1270080"/>
            <a:ext cx="4276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" descr="C:\Users\Кривошеина ТА\Desktop\mf3AhARxB0Y.jpg"/>
          <p:cNvPicPr/>
          <p:nvPr/>
        </p:nvPicPr>
        <p:blipFill>
          <a:blip r:embed="rId1"/>
          <a:stretch/>
        </p:blipFill>
        <p:spPr>
          <a:xfrm>
            <a:off x="457200" y="2146320"/>
            <a:ext cx="350532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Кривошеина ТА\Desktop\4d31d7d312b1d41a8acf70abf9403588.jpg"/>
          <p:cNvPicPr/>
          <p:nvPr/>
        </p:nvPicPr>
        <p:blipFill>
          <a:blip r:embed="rId2"/>
          <a:stretch/>
        </p:blipFill>
        <p:spPr>
          <a:xfrm>
            <a:off x="5130720" y="3941640"/>
            <a:ext cx="3683160" cy="234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A236-F1E2-4695-B7DF-60573E658C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2254-2522-4AFA-9011-AE4773FF1A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216000" y="406440"/>
            <a:ext cx="89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П «Устойчивое развитие сельских территорий  МО "Ленский муниципальный район»на 2017-2020 год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177840" y="142236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6 год –  2502,7 тыс.рублей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7 год –  2130,6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8 год -  2039,6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9 год – 25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6"/>
          <p:cNvSpPr/>
          <p:nvPr/>
        </p:nvSpPr>
        <p:spPr>
          <a:xfrm>
            <a:off x="4483080" y="2044800"/>
            <a:ext cx="5181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учшение жилищных условий граждан, проживающих в сельской ме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8 год – 677,0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.т.ч. из федерального бюджета-86,5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567,0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23,5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4457880" y="4102200"/>
            <a:ext cx="5295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еспечение жильем молодых семей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дых специалистов, проживаю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ельской местности</a:t>
            </a:r>
            <a:br>
              <a:rPr sz="24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8 год – 1362,6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федерального бюджета- 468,3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767,2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127,0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Рисунок 11" descr="P1010125.JPG"/>
          <p:cNvPicPr/>
          <p:nvPr/>
        </p:nvPicPr>
        <p:blipFill>
          <a:blip r:embed="rId1"/>
          <a:stretch/>
        </p:blipFill>
        <p:spPr>
          <a:xfrm>
            <a:off x="190440" y="3213000"/>
            <a:ext cx="40305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E09A-C60E-4D4F-811A-2BBE28DBE0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1560"/>
            <a:ext cx="913896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Calibri"/>
              </a:rPr>
              <a:t>МП «Профилактика безнадзорности  и иных правонарушений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62360" y="3278160"/>
            <a:ext cx="49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6          2017          2018        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50"/>
          <p:cNvSpPr/>
          <p:nvPr/>
        </p:nvSpPr>
        <p:spPr>
          <a:xfrm>
            <a:off x="193680" y="4005360"/>
            <a:ext cx="425124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0"/>
          <p:cNvSpPr/>
          <p:nvPr/>
        </p:nvSpPr>
        <p:spPr>
          <a:xfrm>
            <a:off x="4626000" y="39164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0"/>
          <p:cNvSpPr/>
          <p:nvPr/>
        </p:nvSpPr>
        <p:spPr>
          <a:xfrm>
            <a:off x="193680" y="5084640"/>
            <a:ext cx="4276800" cy="1150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преступлений и и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4572000" y="1484280"/>
            <a:ext cx="506736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6 год – 964,4 тыс. рублей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7 год –   969,4 тыс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8 год – 1009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1092240" y="1727280"/>
            <a:ext cx="3200400" cy="20145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0"/>
          <p:cNvSpPr/>
          <p:nvPr/>
        </p:nvSpPr>
        <p:spPr>
          <a:xfrm>
            <a:off x="5896080" y="39164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50"/>
          <p:cNvSpPr/>
          <p:nvPr/>
        </p:nvSpPr>
        <p:spPr>
          <a:xfrm>
            <a:off x="7254720" y="39038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99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50"/>
          <p:cNvSpPr/>
          <p:nvPr/>
        </p:nvSpPr>
        <p:spPr>
          <a:xfrm>
            <a:off x="8486640" y="3890880"/>
            <a:ext cx="117792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25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50"/>
          <p:cNvSpPr/>
          <p:nvPr/>
        </p:nvSpPr>
        <p:spPr>
          <a:xfrm>
            <a:off x="4587840" y="52880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0"/>
          <p:cNvSpPr/>
          <p:nvPr/>
        </p:nvSpPr>
        <p:spPr>
          <a:xfrm>
            <a:off x="5908680" y="52754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50"/>
          <p:cNvSpPr/>
          <p:nvPr/>
        </p:nvSpPr>
        <p:spPr>
          <a:xfrm>
            <a:off x="7165800" y="5249880"/>
            <a:ext cx="117828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0"/>
          <p:cNvSpPr/>
          <p:nvPr/>
        </p:nvSpPr>
        <p:spPr>
          <a:xfrm>
            <a:off x="8448840" y="5249880"/>
            <a:ext cx="117792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D13-DA79-4E79-B8FF-2B75190878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5D68-AB86-4136-B224-282F84B8E7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58360" y="43128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П «Развитие сферы культуры в Ленском район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4305240" y="408924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6            2017            2018                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0"/>
          <p:cNvSpPr/>
          <p:nvPr/>
        </p:nvSpPr>
        <p:spPr>
          <a:xfrm>
            <a:off x="279360" y="4483080"/>
            <a:ext cx="378468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0"/>
          <p:cNvSpPr/>
          <p:nvPr/>
        </p:nvSpPr>
        <p:spPr>
          <a:xfrm>
            <a:off x="4203720" y="5143680"/>
            <a:ext cx="135900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5125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0"/>
          <p:cNvSpPr/>
          <p:nvPr/>
        </p:nvSpPr>
        <p:spPr>
          <a:xfrm>
            <a:off x="5753160" y="5105520"/>
            <a:ext cx="1297080" cy="444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658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7139160" y="5067360"/>
            <a:ext cx="1242720" cy="469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6585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0"/>
          <p:cNvSpPr/>
          <p:nvPr/>
        </p:nvSpPr>
        <p:spPr>
          <a:xfrm>
            <a:off x="279360" y="5156280"/>
            <a:ext cx="383544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ультурно-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0"/>
          <p:cNvSpPr/>
          <p:nvPr/>
        </p:nvSpPr>
        <p:spPr>
          <a:xfrm>
            <a:off x="4241880" y="5791320"/>
            <a:ext cx="1320840" cy="393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94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0"/>
          <p:cNvSpPr/>
          <p:nvPr/>
        </p:nvSpPr>
        <p:spPr>
          <a:xfrm>
            <a:off x="5724360" y="5778360"/>
            <a:ext cx="1312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072,8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0"/>
          <p:cNvSpPr/>
          <p:nvPr/>
        </p:nvSpPr>
        <p:spPr>
          <a:xfrm>
            <a:off x="7176960" y="5765760"/>
            <a:ext cx="1204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682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0" y="2730600"/>
            <a:ext cx="328932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16 год - 27,3 млн.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17 год – 41,4 млн.руб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50"/>
          <p:cNvSpPr/>
          <p:nvPr/>
        </p:nvSpPr>
        <p:spPr>
          <a:xfrm>
            <a:off x="4203720" y="445788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659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50"/>
          <p:cNvSpPr/>
          <p:nvPr/>
        </p:nvSpPr>
        <p:spPr>
          <a:xfrm>
            <a:off x="5692680" y="4457880"/>
            <a:ext cx="1325520" cy="393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703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0"/>
          <p:cNvSpPr/>
          <p:nvPr/>
        </p:nvSpPr>
        <p:spPr>
          <a:xfrm>
            <a:off x="7112160" y="4444920"/>
            <a:ext cx="125712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3217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0"/>
          <p:cNvSpPr/>
          <p:nvPr/>
        </p:nvSpPr>
        <p:spPr>
          <a:xfrm>
            <a:off x="266760" y="5803920"/>
            <a:ext cx="387360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Рисунок 20" descr="73099b4a3b5a0e1d2b348e49007495c5.jpg"/>
          <p:cNvPicPr/>
          <p:nvPr/>
        </p:nvPicPr>
        <p:blipFill>
          <a:blip r:embed="rId1"/>
          <a:stretch/>
        </p:blipFill>
        <p:spPr>
          <a:xfrm>
            <a:off x="184320" y="876240"/>
            <a:ext cx="3066840" cy="17654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1" descr="eebc1cae3053558bf599de592a2898f7.jpg"/>
          <p:cNvPicPr/>
          <p:nvPr/>
        </p:nvPicPr>
        <p:blipFill>
          <a:blip r:embed="rId2"/>
          <a:stretch/>
        </p:blipFill>
        <p:spPr>
          <a:xfrm>
            <a:off x="3389400" y="1295280"/>
            <a:ext cx="2948040" cy="19479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2" descr="fc37875f3a54b4157027d16e98c87512.jpg"/>
          <p:cNvPicPr/>
          <p:nvPr/>
        </p:nvPicPr>
        <p:blipFill>
          <a:blip r:embed="rId3"/>
          <a:stretch/>
        </p:blipFill>
        <p:spPr>
          <a:xfrm>
            <a:off x="6570720" y="800280"/>
            <a:ext cx="2967120" cy="1962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50"/>
          <p:cNvSpPr/>
          <p:nvPr/>
        </p:nvSpPr>
        <p:spPr>
          <a:xfrm>
            <a:off x="8381880" y="507996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6945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0"/>
          <p:cNvSpPr/>
          <p:nvPr/>
        </p:nvSpPr>
        <p:spPr>
          <a:xfrm>
            <a:off x="8369280" y="575316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195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0"/>
          <p:cNvSpPr/>
          <p:nvPr/>
        </p:nvSpPr>
        <p:spPr>
          <a:xfrm>
            <a:off x="8394840" y="444492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905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6438960" y="2984400"/>
            <a:ext cx="328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18 год – 45,5 млн.руб. 2019 год – 48,3 млн.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600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9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A072-61D7-4C7C-A029-F09621DC47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0AA5-D8A1-4ECE-8B8A-E8A2743327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291960" y="380880"/>
            <a:ext cx="928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П"Развитие физической культуры, спорта, туризма, повышение эффективности реализации молодежной и семейной политики в МО "Ленский муниципальный район"( 2017-2019 годы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5283360" y="825480"/>
            <a:ext cx="383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16 год –  1296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17 год –  1779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18 год  – 1839,5 тыс.рублей 2019 год – 2061,8 тыс.рублей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0"/>
          <p:cNvSpPr/>
          <p:nvPr/>
        </p:nvSpPr>
        <p:spPr>
          <a:xfrm>
            <a:off x="266760" y="4381560"/>
            <a:ext cx="4648320" cy="22222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6 год – 1205,5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7 год - 1687,7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8 год – 1748,2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9 год – 1970,5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0"/>
          <p:cNvSpPr/>
          <p:nvPr/>
        </p:nvSpPr>
        <p:spPr>
          <a:xfrm>
            <a:off x="5003640" y="2616120"/>
            <a:ext cx="4470480" cy="22608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6 год – 91,3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7 год – 91,3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8 год – 91,3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9 год – 91,3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507960" y="1587600"/>
            <a:ext cx="3564000" cy="2361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283360" y="49910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96880" y="352440"/>
            <a:ext cx="88264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сфере экономики и ЖК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2828-8EC4-4615-9005-61D36C5ED4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ABBF-5A88-4F28-9099-355406BA1C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7"/>
          <p:cNvSpPr/>
          <p:nvPr/>
        </p:nvSpPr>
        <p:spPr>
          <a:xfrm>
            <a:off x="723960" y="1600200"/>
            <a:ext cx="8481960" cy="50292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Создание условий для развития сельского хозяй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О Ленский муниципальный район на 2017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 малого и среднего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территории МО Ленский муниципальный рай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2017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торговли на террито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 – 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емонт и содержание сети автомобильных доро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ходящихся в собств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2559-97B2-4EB1-87F9-7DBF61EE70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EEDE-3B04-4DA7-BBD3-482BC8DDDE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П"Создание условий для развития сельского хозяйства в  МО "Ленский муниципальный район" на 2017-2020 годы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3340080" y="647640"/>
            <a:ext cx="575316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6 год – 845,8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7 год – 20,0 тыс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8 год – 35,9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9 год – 37,8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457200" y="3048120"/>
            <a:ext cx="91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3" descr="C:\Users\Кривошеина ТА\Desktop\bUmLyQ2-oag.jpg"/>
          <p:cNvPicPr/>
          <p:nvPr/>
        </p:nvPicPr>
        <p:blipFill>
          <a:blip r:embed="rId1"/>
          <a:stretch/>
        </p:blipFill>
        <p:spPr>
          <a:xfrm>
            <a:off x="577800" y="2908440"/>
            <a:ext cx="4552920" cy="36986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4" descr="P1010120.JPG"/>
          <p:cNvPicPr/>
          <p:nvPr/>
        </p:nvPicPr>
        <p:blipFill>
          <a:blip r:embed="rId2"/>
          <a:stretch/>
        </p:blipFill>
        <p:spPr>
          <a:xfrm>
            <a:off x="5157720" y="2882880"/>
            <a:ext cx="458172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9384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П"Ремонт и содержание сети автомобильных дорог, находящихся в собственности МО "Ленский муниципальный район" на 2017-2020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73B0-D562-430A-AB4A-DB0FF13F5D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6FDC-343F-48CC-851F-43F4F655F8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124600" y="1523880"/>
            <a:ext cx="429876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6 год – 7,3 млн.рублей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7 год – 6,0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8 год – 6,2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- 7,5 млн.рубле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939960" y="194328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 flipH="1">
            <a:off x="5295960" y="5575320"/>
            <a:ext cx="30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457200" y="2819520"/>
            <a:ext cx="3289320" cy="2844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C:\Users\Кривошеина ТА\Desktop\6639360_6njjs0zinq.jpg"/>
          <p:cNvPicPr/>
          <p:nvPr/>
        </p:nvPicPr>
        <p:blipFill>
          <a:blip r:embed="rId2"/>
          <a:stretch/>
        </p:blipFill>
        <p:spPr>
          <a:xfrm>
            <a:off x="4521240" y="3251160"/>
            <a:ext cx="4444920" cy="22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99BB-CCE8-4055-9096-A04EC82811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E60-AF6C-481D-B3C0-ADC666CAAB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495360" y="1673280"/>
            <a:ext cx="4584600" cy="79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7 год – 509527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5207040" y="2536920"/>
            <a:ext cx="4495680" cy="752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8 год – 576078,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20560" y="3514680"/>
            <a:ext cx="4381560" cy="701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9 год – 624958,3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622440" y="5318280"/>
            <a:ext cx="4495680" cy="87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21 год – </a:t>
            </a:r>
            <a:r>
              <a:rPr b="1" lang="ru-RU" sz="4000" spc="-1" strike="noStrike">
                <a:solidFill>
                  <a:srgbClr val="3ae2f4"/>
                </a:solidFill>
                <a:latin typeface="Times New Roman"/>
              </a:rPr>
              <a:t>674006,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5194440" y="4238640"/>
            <a:ext cx="4432320" cy="816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20 год – 648706,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«Развитие торговли на территории МО «Ленский муниципальный район на 2017 – 2020 г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4C94-797B-49A1-BDD4-7F16506751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0836-059B-4994-9D2C-D84779E3C6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0"/>
          <p:cNvSpPr/>
          <p:nvPr/>
        </p:nvSpPr>
        <p:spPr>
          <a:xfrm>
            <a:off x="190440" y="2451240"/>
            <a:ext cx="4826160" cy="26413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6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7 год – 174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8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9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50"/>
          <p:cNvSpPr/>
          <p:nvPr/>
        </p:nvSpPr>
        <p:spPr>
          <a:xfrm>
            <a:off x="5354640" y="3772080"/>
            <a:ext cx="4361040" cy="23112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6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7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8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9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6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7 год – 199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8 год – 320,0 тыс.рублей 2019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5760" y="262080"/>
            <a:ext cx="88009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униципальные программы направленные на решение общегосударственных вопр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886-F6CE-44E8-A131-32BD341AB7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A596-C200-4B59-9F3F-2A445CC4AB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27"/>
          <p:cNvSpPr/>
          <p:nvPr/>
        </p:nvSpPr>
        <p:spPr>
          <a:xfrm>
            <a:off x="619200" y="1511280"/>
            <a:ext cx="8880480" cy="50418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Совершенствование системы  муниципальной служб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и финанс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МО "Ленский муниципальный район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и муниципальным долгом МО "Лен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муниципальный район" на 2018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Совершенствование муниципального упра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в МО "Ленский муниципальный район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на 2018-2020 годы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7600" y="406080"/>
            <a:ext cx="9426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П"Управление муниципальными финансами МО "Ленский муниципальный район" и муниципальным долгом МО "Ленский муниципальный район" на 2018-2020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6896-8769-42DD-A295-659CA94548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209-09C8-4A2F-9E24-B3C39B6A74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486400" y="1163520"/>
            <a:ext cx="4046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6 год – 14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7 год – 16,4 млн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8 год - 17,9 млн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20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9" descr="http://govorim.by/uploads/posts/2013-07/thumbs/1375277413112.jpeg"/>
          <p:cNvPicPr/>
          <p:nvPr/>
        </p:nvPicPr>
        <p:blipFill>
          <a:blip r:embed="rId1"/>
          <a:stretch/>
        </p:blipFill>
        <p:spPr>
          <a:xfrm>
            <a:off x="5969160" y="3962520"/>
            <a:ext cx="3644640" cy="2235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50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8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03D9-197C-44FE-90B7-0069C9310C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B6A4-39C1-4D71-AD69-03112B9003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" descr="1"/>
          <p:cNvPicPr/>
          <p:nvPr/>
        </p:nvPicPr>
        <p:blipFill>
          <a:blip r:embed="rId1"/>
          <a:stretch/>
        </p:blipFill>
        <p:spPr>
          <a:xfrm>
            <a:off x="6980400" y="1341360"/>
            <a:ext cx="156024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90" name="Picture 3" descr="pravo_bilboard"/>
          <p:cNvPicPr/>
          <p:nvPr/>
        </p:nvPicPr>
        <p:blipFill>
          <a:blip r:embed="rId2"/>
          <a:stretch/>
        </p:blipFill>
        <p:spPr>
          <a:xfrm>
            <a:off x="7620120" y="2095560"/>
            <a:ext cx="2057400" cy="1028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уществление государственных полномоч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0"/>
          <p:cNvSpPr/>
          <p:nvPr/>
        </p:nvSpPr>
        <p:spPr>
          <a:xfrm>
            <a:off x="193680" y="1484280"/>
            <a:ext cx="335772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0"/>
          <p:cNvSpPr/>
          <p:nvPr/>
        </p:nvSpPr>
        <p:spPr>
          <a:xfrm>
            <a:off x="5943600" y="146520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81,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50"/>
          <p:cNvSpPr/>
          <p:nvPr/>
        </p:nvSpPr>
        <p:spPr>
          <a:xfrm>
            <a:off x="3665520" y="1459080"/>
            <a:ext cx="9381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0"/>
          <p:cNvSpPr/>
          <p:nvPr/>
        </p:nvSpPr>
        <p:spPr>
          <a:xfrm>
            <a:off x="4782960" y="1433520"/>
            <a:ext cx="9385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9,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470400" y="9810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7       2018      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50"/>
          <p:cNvSpPr/>
          <p:nvPr/>
        </p:nvSpPr>
        <p:spPr>
          <a:xfrm>
            <a:off x="193680" y="1955880"/>
            <a:ext cx="33577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50"/>
          <p:cNvSpPr/>
          <p:nvPr/>
        </p:nvSpPr>
        <p:spPr>
          <a:xfrm>
            <a:off x="5931000" y="2168640"/>
            <a:ext cx="9363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25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0"/>
          <p:cNvSpPr/>
          <p:nvPr/>
        </p:nvSpPr>
        <p:spPr>
          <a:xfrm>
            <a:off x="3614760" y="214308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50"/>
          <p:cNvSpPr/>
          <p:nvPr/>
        </p:nvSpPr>
        <p:spPr>
          <a:xfrm>
            <a:off x="4732200" y="2143080"/>
            <a:ext cx="9385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99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50"/>
          <p:cNvSpPr/>
          <p:nvPr/>
        </p:nvSpPr>
        <p:spPr>
          <a:xfrm>
            <a:off x="206280" y="2933640"/>
            <a:ext cx="335772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50"/>
          <p:cNvSpPr/>
          <p:nvPr/>
        </p:nvSpPr>
        <p:spPr>
          <a:xfrm>
            <a:off x="5905440" y="3084480"/>
            <a:ext cx="936720" cy="757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7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50"/>
          <p:cNvSpPr/>
          <p:nvPr/>
        </p:nvSpPr>
        <p:spPr>
          <a:xfrm>
            <a:off x="3602160" y="3046320"/>
            <a:ext cx="93816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687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50"/>
          <p:cNvSpPr/>
          <p:nvPr/>
        </p:nvSpPr>
        <p:spPr>
          <a:xfrm>
            <a:off x="4707000" y="3071880"/>
            <a:ext cx="9381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48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0"/>
          <p:cNvSpPr/>
          <p:nvPr/>
        </p:nvSpPr>
        <p:spPr>
          <a:xfrm>
            <a:off x="206280" y="3873600"/>
            <a:ext cx="3357720" cy="1574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5918040" y="4121280"/>
            <a:ext cx="936720" cy="850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0"/>
          <p:cNvSpPr/>
          <p:nvPr/>
        </p:nvSpPr>
        <p:spPr>
          <a:xfrm>
            <a:off x="3627360" y="4095720"/>
            <a:ext cx="938160" cy="85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50"/>
          <p:cNvSpPr/>
          <p:nvPr/>
        </p:nvSpPr>
        <p:spPr>
          <a:xfrm>
            <a:off x="4770360" y="4121280"/>
            <a:ext cx="938160" cy="812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50"/>
          <p:cNvSpPr/>
          <p:nvPr/>
        </p:nvSpPr>
        <p:spPr>
          <a:xfrm>
            <a:off x="193680" y="6237360"/>
            <a:ext cx="3357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50"/>
          <p:cNvSpPr/>
          <p:nvPr/>
        </p:nvSpPr>
        <p:spPr>
          <a:xfrm>
            <a:off x="5919840" y="628164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74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50"/>
          <p:cNvSpPr/>
          <p:nvPr/>
        </p:nvSpPr>
        <p:spPr>
          <a:xfrm>
            <a:off x="3630600" y="628164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989,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50"/>
          <p:cNvSpPr/>
          <p:nvPr/>
        </p:nvSpPr>
        <p:spPr>
          <a:xfrm>
            <a:off x="4721400" y="628164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093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50"/>
          <p:cNvSpPr/>
          <p:nvPr/>
        </p:nvSpPr>
        <p:spPr>
          <a:xfrm>
            <a:off x="193680" y="5524560"/>
            <a:ext cx="3357720" cy="673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50"/>
          <p:cNvSpPr/>
          <p:nvPr/>
        </p:nvSpPr>
        <p:spPr>
          <a:xfrm>
            <a:off x="4719600" y="548964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2"/>
          <p:cNvSpPr/>
          <p:nvPr/>
        </p:nvSpPr>
        <p:spPr>
          <a:xfrm>
            <a:off x="27612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0"/>
          <p:cNvSpPr/>
          <p:nvPr/>
        </p:nvSpPr>
        <p:spPr>
          <a:xfrm>
            <a:off x="3602160" y="551484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50"/>
          <p:cNvSpPr/>
          <p:nvPr/>
        </p:nvSpPr>
        <p:spPr>
          <a:xfrm>
            <a:off x="5904000" y="551484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6927840" y="2868480"/>
            <a:ext cx="1663560" cy="1247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19" name="Picture 36" descr="1"/>
          <p:cNvPicPr/>
          <p:nvPr/>
        </p:nvPicPr>
        <p:blipFill>
          <a:blip r:embed="rId4"/>
          <a:stretch/>
        </p:blipFill>
        <p:spPr>
          <a:xfrm>
            <a:off x="8072280" y="3716280"/>
            <a:ext cx="1630440" cy="1104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20" name="Picture 37" descr="a-nagrada.a5.ru"/>
          <p:cNvPicPr/>
          <p:nvPr/>
        </p:nvPicPr>
        <p:blipFill>
          <a:blip r:embed="rId5"/>
          <a:stretch/>
        </p:blipFill>
        <p:spPr>
          <a:xfrm>
            <a:off x="6966000" y="4546440"/>
            <a:ext cx="169524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21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5305320"/>
            <a:ext cx="1970280" cy="1086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500"/>
                            </p:stCondLst>
                            <p:childTnLst>
                              <p:par>
                                <p:cTn id="8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77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4" dur="770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8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75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85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77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770" fill="hold"/>
                                        <p:tgtEl>
                                          <p:spTgt spid="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9" dur="77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1" dur="77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9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9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77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0" dur="770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2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4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9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1500"/>
                            </p:stCondLst>
                            <p:childTnLst>
                              <p:par>
                                <p:cTn id="9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3500"/>
                            </p:stCondLst>
                            <p:childTnLst>
                              <p:par>
                                <p:cTn id="9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77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3" dur="770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7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5500"/>
                            </p:stCondLst>
                            <p:childTnLst>
                              <p:par>
                                <p:cTn id="9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3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2750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0500"/>
                            </p:stCondLst>
                            <p:childTnLst>
                              <p:par>
                                <p:cTn id="9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0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0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7500"/>
                            </p:stCondLst>
                            <p:childTnLst>
                              <p:par>
                                <p:cTn id="10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D01D-1B2D-4385-9D32-777FD826F3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2FA2-7466-4ABF-8F03-8108F729DE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Object 4"/>
          <p:cNvGraphicFramePr/>
          <p:nvPr/>
        </p:nvGraphicFramePr>
        <p:xfrm>
          <a:off x="4965840" y="523800"/>
          <a:ext cx="49402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5840" y="523800"/>
                    <a:ext cx="49402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программные расходы -2,0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662040" y="90180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граммная часть бюджета –97,9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программные расходы бюджета на 2019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50"/>
          <p:cNvSpPr/>
          <p:nvPr/>
        </p:nvSpPr>
        <p:spPr>
          <a:xfrm>
            <a:off x="193680" y="184464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8год – 1542,9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9год – 1481,8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50"/>
          <p:cNvSpPr/>
          <p:nvPr/>
        </p:nvSpPr>
        <p:spPr>
          <a:xfrm>
            <a:off x="819000" y="2781360"/>
            <a:ext cx="6320160" cy="86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7 год – 1500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8 год –    1502,5 тыс.рублей     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0"/>
          <p:cNvSpPr/>
          <p:nvPr/>
        </p:nvSpPr>
        <p:spPr>
          <a:xfrm>
            <a:off x="1562040" y="3772080"/>
            <a:ext cx="6512040" cy="10411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ероприятия  в сфере гражданской обороны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чрезвычайных ситу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7 год – 235,3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8 год – 179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50"/>
          <p:cNvSpPr/>
          <p:nvPr/>
        </p:nvSpPr>
        <p:spPr>
          <a:xfrm>
            <a:off x="2301840" y="494172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7 год –  131,7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8 год – 450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50"/>
          <p:cNvSpPr/>
          <p:nvPr/>
        </p:nvSpPr>
        <p:spPr>
          <a:xfrm>
            <a:off x="3159000" y="5950080"/>
            <a:ext cx="6319800" cy="792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униципальный дорожный фон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7 год –  866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8 год – 999,5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403200" y="87948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ефицит бюджета 2019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E184-02B7-4F68-9039-5270B5913E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C9B-391E-4F94-994B-46EBA9FB72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3860640" y="2133720"/>
            <a:ext cx="1971720" cy="9745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4"/>
          <p:cNvSpPr/>
          <p:nvPr/>
        </p:nvSpPr>
        <p:spPr>
          <a:xfrm>
            <a:off x="4014720" y="3352680"/>
            <a:ext cx="1973160" cy="93528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1351080" y="1265400"/>
            <a:ext cx="3638520" cy="394308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080"/>
              <a:gd name="textAreaBottom" fmla="*/ 3943440 h 394308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77933c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209520" y="1019160"/>
            <a:ext cx="1951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624,9 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835200" y="5181480"/>
            <a:ext cx="233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620,1 м.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6058080" y="1571760"/>
            <a:ext cx="184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,8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4751280" y="49546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4,5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5586480" y="3463920"/>
            <a:ext cx="471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9,7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110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11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1126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4440" y="67464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сточники финансирования дефицита бюдж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В процессе принятия и исполнения бюджета района большое значение приобретает сбалансированность доходов и расходов. Если доходы превышают расходы, то возникает </a:t>
            </a:r>
            <a:r>
              <a:rPr b="1" lang="ru-RU" sz="1500" spc="-1" strike="noStrike" u="sng">
                <a:solidFill>
                  <a:srgbClr val="ffffff"/>
                </a:solidFill>
                <a:uFillTx/>
                <a:latin typeface="Calibri"/>
              </a:rPr>
              <a:t>профицит</a:t>
            </a: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. Но чаще всего расходы превышают доходы. В таком случае возникает </a:t>
            </a:r>
            <a:r>
              <a:rPr b="1" lang="ru-RU" sz="1500" spc="-1" strike="noStrike" u="sng">
                <a:solidFill>
                  <a:srgbClr val="ffffff"/>
                </a:solidFill>
                <a:uFillTx/>
                <a:latin typeface="Calibri"/>
              </a:rPr>
              <a:t>дефицит</a:t>
            </a: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26C4-130B-437E-95F0-C5562CDB97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AF6F-4482-4062-938F-D496413A5E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58ed5"/>
                </a:solidFill>
                <a:uFillTx/>
                <a:latin typeface="Times New Roman"/>
              </a:rPr>
              <a:t>креди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полученные от кредитных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изменение остатков средств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 счетах по учету средств местного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1494-9D88-43F4-91CC-1E215E132C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643B-BB47-4C13-863F-4436CF5A38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"/>
          <p:cNvSpPr/>
          <p:nvPr/>
        </p:nvSpPr>
        <p:spPr>
          <a:xfrm rot="16200000">
            <a:off x="-4680" y="1709640"/>
            <a:ext cx="3184560" cy="31748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15.03.20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7,77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На 01.01.2019 – 20,5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356000" y="2970000"/>
            <a:ext cx="180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825480" y="3416400"/>
            <a:ext cx="1434960" cy="877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6680160" y="397512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2"/>
          <p:cNvSpPr/>
          <p:nvPr/>
        </p:nvSpPr>
        <p:spPr>
          <a:xfrm rot="16200000">
            <a:off x="6205680" y="3385800"/>
            <a:ext cx="2739960" cy="27306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29.10.20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9,9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3"/>
          <a:stretch/>
        </p:blipFill>
        <p:spPr>
          <a:xfrm>
            <a:off x="7010280" y="4851360"/>
            <a:ext cx="1282680" cy="78444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2"/>
          <p:cNvSpPr/>
          <p:nvPr/>
        </p:nvSpPr>
        <p:spPr>
          <a:xfrm rot="16200000">
            <a:off x="3163680" y="2617200"/>
            <a:ext cx="2994120" cy="2921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16.04.20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7,61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4"/>
          <a:stretch/>
        </p:blipFill>
        <p:spPr>
          <a:xfrm>
            <a:off x="3987720" y="4102200"/>
            <a:ext cx="1435320" cy="87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Информация для конта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3440" y="116676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8480" indent="-1344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657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рхангельская область, Ленский район, село Яренск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ул. Братьев Покровских, дом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Телефон:  8 (81859) 5-24-09, факс: 8 (81859) 5-25-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дрес электронной почты: </a:t>
            </a:r>
            <a:r>
              <a:rPr b="0" lang="en-US" sz="2600" spc="-1" strike="noStrike">
                <a:solidFill>
                  <a:srgbClr val="376092"/>
                </a:solidFill>
                <a:latin typeface="Calibri"/>
              </a:rPr>
              <a:t>feuyarensk@yandex.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168D-5D0C-40D9-997E-137E591810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1C6A-5354-4785-A22B-5476C6646F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90D0-4BDD-453C-A745-C6500DAC01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6691-BD85-433E-ADA0-EDBD8A07BC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46120" y="1460520"/>
          <a:ext cx="8991720" cy="5397480"/>
        </p:xfrm>
        <a:graphic>
          <a:graphicData uri="http://schemas.openxmlformats.org/drawingml/2006/table">
            <a:tbl>
              <a:tblPr/>
              <a:tblGrid>
                <a:gridCol w="2908440"/>
                <a:gridCol w="1231920"/>
                <a:gridCol w="1180800"/>
                <a:gridCol w="1257480"/>
                <a:gridCol w="1104840"/>
                <a:gridCol w="1308240"/>
              </a:tblGrid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17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095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760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62495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4870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740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582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921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774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99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061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7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8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3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33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2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4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8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256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99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037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078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804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21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364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58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660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3795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257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6396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8545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061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14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88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83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014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210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556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43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711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226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248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70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3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3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42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Обслуживание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95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38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80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9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30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84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8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88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20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5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8080" y="339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87280"/>
            <a:ext cx="8915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 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оциальная сфера 2019 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1553-1633-44B4-9846-742DE8E8E8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903-1811-49F8-8122-D20A7CE79C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2411280" y="1392120"/>
            <a:ext cx="4808520" cy="2921040"/>
          </a:xfrm>
          <a:custGeom>
            <a:avLst/>
            <a:gdLst>
              <a:gd name="textAreaLeft" fmla="*/ 0 w 4808520"/>
              <a:gd name="textAreaRight" fmla="*/ 4808880 w 480852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349" h="307">
                <a:moveTo>
                  <a:pt x="291" y="303"/>
                </a:moveTo>
                <a:cubicBezTo>
                  <a:pt x="328" y="270"/>
                  <a:pt x="349" y="223"/>
                  <a:pt x="349" y="174"/>
                </a:cubicBezTo>
                <a:cubicBezTo>
                  <a:pt x="349" y="77"/>
                  <a:pt x="271" y="0"/>
                  <a:pt x="175" y="0"/>
                </a:cubicBezTo>
                <a:cubicBezTo>
                  <a:pt x="78" y="0"/>
                  <a:pt x="1" y="77"/>
                  <a:pt x="1" y="174"/>
                </a:cubicBezTo>
                <a:cubicBezTo>
                  <a:pt x="0" y="225"/>
                  <a:pt x="23" y="274"/>
                  <a:pt x="62" y="307"/>
                </a:cubicBezTo>
                <a:lnTo>
                  <a:pt x="175" y="174"/>
                </a:lnTo>
                <a:lnTo>
                  <a:pt x="291" y="30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4"/>
          <p:cNvSpPr/>
          <p:nvPr/>
        </p:nvSpPr>
        <p:spPr>
          <a:xfrm>
            <a:off x="4822920" y="3048120"/>
            <a:ext cx="1596960" cy="16272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116" h="171">
                <a:moveTo>
                  <a:pt x="26" y="171"/>
                </a:moveTo>
                <a:cubicBezTo>
                  <a:pt x="60" y="166"/>
                  <a:pt x="91" y="151"/>
                  <a:pt x="116" y="129"/>
                </a:cubicBezTo>
                <a:lnTo>
                  <a:pt x="0" y="0"/>
                </a:lnTo>
                <a:lnTo>
                  <a:pt x="26" y="17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5"/>
          <p:cNvSpPr/>
          <p:nvPr/>
        </p:nvSpPr>
        <p:spPr>
          <a:xfrm>
            <a:off x="4822920" y="3048120"/>
            <a:ext cx="357120" cy="1646280"/>
          </a:xfrm>
          <a:custGeom>
            <a:avLst/>
            <a:gdLst>
              <a:gd name="textAreaLeft" fmla="*/ 0 w 357120"/>
              <a:gd name="textAreaRight" fmla="*/ 357480 w 35712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26" h="173">
                <a:moveTo>
                  <a:pt x="8" y="173"/>
                </a:moveTo>
                <a:cubicBezTo>
                  <a:pt x="15" y="173"/>
                  <a:pt x="21" y="172"/>
                  <a:pt x="26" y="171"/>
                </a:cubicBezTo>
                <a:lnTo>
                  <a:pt x="0" y="0"/>
                </a:lnTo>
                <a:lnTo>
                  <a:pt x="8" y="17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4245120" y="3048120"/>
            <a:ext cx="687240" cy="1646280"/>
          </a:xfrm>
          <a:custGeom>
            <a:avLst/>
            <a:gdLst>
              <a:gd name="textAreaLeft" fmla="*/ 0 w 687240"/>
              <a:gd name="textAreaRight" fmla="*/ 687600 w 68724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0" h="173">
                <a:moveTo>
                  <a:pt x="0" y="168"/>
                </a:moveTo>
                <a:cubicBezTo>
                  <a:pt x="13" y="172"/>
                  <a:pt x="27" y="173"/>
                  <a:pt x="42" y="173"/>
                </a:cubicBezTo>
                <a:cubicBezTo>
                  <a:pt x="44" y="173"/>
                  <a:pt x="47" y="173"/>
                  <a:pt x="50" y="173"/>
                </a:cubicBezTo>
                <a:lnTo>
                  <a:pt x="4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3265560" y="3048120"/>
            <a:ext cx="1557360" cy="159840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113" h="168">
                <a:moveTo>
                  <a:pt x="0" y="133"/>
                </a:moveTo>
                <a:cubicBezTo>
                  <a:pt x="21" y="150"/>
                  <a:pt x="45" y="162"/>
                  <a:pt x="71" y="168"/>
                </a:cubicBezTo>
                <a:lnTo>
                  <a:pt x="113" y="0"/>
                </a:lnTo>
                <a:lnTo>
                  <a:pt x="0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314880" y="1773360"/>
            <a:ext cx="280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Дошкольное и общее образо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91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292880" y="4292640"/>
            <a:ext cx="226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оциальная полит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1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030640" y="5327640"/>
            <a:ext cx="273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Физическая культура и спор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222640" y="5254560"/>
            <a:ext cx="280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Молодежная политика                       и оздоровление дет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5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93680" y="4221000"/>
            <a:ext cx="2262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ругие расходы в области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C7CD-D43C-4879-9588-E296ACAD46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6D9D-E9A0-437D-AFA9-2CCD037010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1600" y="215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бщегосударственные расх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3"/>
          <p:cNvSpPr/>
          <p:nvPr/>
        </p:nvSpPr>
        <p:spPr>
          <a:xfrm flipV="1">
            <a:off x="184320" y="6108840"/>
            <a:ext cx="6419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04640" y="5702400"/>
            <a:ext cx="627120" cy="317520"/>
          </a:xfrm>
          <a:prstGeom prst="rect">
            <a:avLst/>
          </a:prstGeom>
          <a:solidFill>
            <a:srgbClr val="3ae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630520" y="5716440"/>
            <a:ext cx="658800" cy="316080"/>
          </a:xfrm>
          <a:prstGeom prst="rect">
            <a:avLst/>
          </a:prstGeom>
          <a:solidFill>
            <a:srgbClr val="3ae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04640" y="5407200"/>
            <a:ext cx="627120" cy="3078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630520" y="5468760"/>
            <a:ext cx="658800" cy="25884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04640" y="2946240"/>
            <a:ext cx="627120" cy="2449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630520" y="2975040"/>
            <a:ext cx="658800" cy="2536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404640" y="2614680"/>
            <a:ext cx="627120" cy="31896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2630520" y="2662200"/>
            <a:ext cx="658800" cy="29700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404640" y="2060640"/>
            <a:ext cx="627120" cy="568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2630520" y="2133720"/>
            <a:ext cx="658800" cy="546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"/>
          <p:cNvSpPr/>
          <p:nvPr/>
        </p:nvSpPr>
        <p:spPr>
          <a:xfrm flipV="1">
            <a:off x="404640" y="1955160"/>
            <a:ext cx="624240" cy="8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2630520" y="1955880"/>
            <a:ext cx="671400" cy="17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392040" y="1397160"/>
            <a:ext cx="636840" cy="5461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2630520" y="1384200"/>
            <a:ext cx="671400" cy="57168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80352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7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2631960" y="6170760"/>
            <a:ext cx="150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8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201080" y="2131920"/>
            <a:ext cx="2514600" cy="4106880"/>
          </a:xfrm>
          <a:prstGeom prst="rect">
            <a:avLst/>
          </a:prstGeom>
          <a:solidFill>
            <a:srgbClr val="dc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7364520" y="2379600"/>
            <a:ext cx="118800" cy="10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7618320" y="2333520"/>
            <a:ext cx="161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Другие расход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6"/>
          <p:cNvSpPr/>
          <p:nvPr/>
        </p:nvSpPr>
        <p:spPr>
          <a:xfrm>
            <a:off x="7750080" y="1641600"/>
            <a:ext cx="1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7338960" y="2936880"/>
            <a:ext cx="119160" cy="10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7617600" y="2865600"/>
            <a:ext cx="16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езервный фон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7351560" y="3454560"/>
            <a:ext cx="119160" cy="11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2"/>
          <p:cNvSpPr/>
          <p:nvPr/>
        </p:nvSpPr>
        <p:spPr>
          <a:xfrm>
            <a:off x="7602120" y="3384720"/>
            <a:ext cx="194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Финансовый отде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3"/>
          <p:cNvSpPr/>
          <p:nvPr/>
        </p:nvSpPr>
        <p:spPr>
          <a:xfrm>
            <a:off x="7326360" y="4041720"/>
            <a:ext cx="119160" cy="1094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4"/>
          <p:cNvSpPr/>
          <p:nvPr/>
        </p:nvSpPr>
        <p:spPr>
          <a:xfrm>
            <a:off x="7593840" y="3971880"/>
            <a:ext cx="1538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Контрольно-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четный  орга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5"/>
          <p:cNvSpPr/>
          <p:nvPr/>
        </p:nvSpPr>
        <p:spPr>
          <a:xfrm>
            <a:off x="7313760" y="4668840"/>
            <a:ext cx="118800" cy="11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6"/>
          <p:cNvSpPr/>
          <p:nvPr/>
        </p:nvSpPr>
        <p:spPr>
          <a:xfrm>
            <a:off x="7540920" y="4624560"/>
            <a:ext cx="164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7351560" y="5297400"/>
            <a:ext cx="119160" cy="1098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8"/>
          <p:cNvSpPr/>
          <p:nvPr/>
        </p:nvSpPr>
        <p:spPr>
          <a:xfrm>
            <a:off x="7556760" y="5213520"/>
            <a:ext cx="205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брание депутат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7364520" y="5848200"/>
            <a:ext cx="118800" cy="109800"/>
          </a:xfrm>
          <a:prstGeom prst="rect">
            <a:avLst/>
          </a:prstGeom>
          <a:solidFill>
            <a:srgbClr val="3ae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0"/>
          <p:cNvSpPr/>
          <p:nvPr/>
        </p:nvSpPr>
        <p:spPr>
          <a:xfrm>
            <a:off x="7624080" y="5816520"/>
            <a:ext cx="19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держание глав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1"/>
          <p:cNvSpPr/>
          <p:nvPr/>
        </p:nvSpPr>
        <p:spPr>
          <a:xfrm>
            <a:off x="1041480" y="572940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514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402000" y="529740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531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1030320" y="539100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481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3414600" y="57085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337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7"/>
          <p:cNvSpPr/>
          <p:nvPr/>
        </p:nvSpPr>
        <p:spPr>
          <a:xfrm>
            <a:off x="1028880" y="4378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9408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3398760" y="43149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080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1028880" y="263376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500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2"/>
          <p:cNvSpPr/>
          <p:nvPr/>
        </p:nvSpPr>
        <p:spPr>
          <a:xfrm>
            <a:off x="3413160" y="253224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550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3"/>
          <p:cNvSpPr/>
          <p:nvPr/>
        </p:nvSpPr>
        <p:spPr>
          <a:xfrm>
            <a:off x="1028880" y="1955880"/>
            <a:ext cx="81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31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970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5"/>
          <p:cNvSpPr/>
          <p:nvPr/>
        </p:nvSpPr>
        <p:spPr>
          <a:xfrm>
            <a:off x="3413160" y="21798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119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8"/>
          <p:cNvSpPr/>
          <p:nvPr/>
        </p:nvSpPr>
        <p:spPr>
          <a:xfrm>
            <a:off x="3375000" y="185436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66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9"/>
          <p:cNvSpPr/>
          <p:nvPr/>
        </p:nvSpPr>
        <p:spPr>
          <a:xfrm>
            <a:off x="177840" y="308628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3373560" y="1405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8872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977760" y="143028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6820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52"/>
          <p:cNvSpPr/>
          <p:nvPr/>
        </p:nvSpPr>
        <p:spPr>
          <a:xfrm>
            <a:off x="5132160" y="6110280"/>
            <a:ext cx="154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9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357880" y="5676840"/>
            <a:ext cx="627120" cy="317520"/>
          </a:xfrm>
          <a:prstGeom prst="rect">
            <a:avLst/>
          </a:prstGeom>
          <a:solidFill>
            <a:srgbClr val="3ae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357880" y="5381640"/>
            <a:ext cx="627120" cy="3078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5357880" y="2921040"/>
            <a:ext cx="627120" cy="24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5357880" y="2589120"/>
            <a:ext cx="627120" cy="31932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5357880" y="2035080"/>
            <a:ext cx="627120" cy="568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0"/>
          <p:cNvSpPr/>
          <p:nvPr/>
        </p:nvSpPr>
        <p:spPr>
          <a:xfrm flipV="1">
            <a:off x="5357880" y="1929600"/>
            <a:ext cx="623880" cy="8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5345280" y="1371600"/>
            <a:ext cx="636480" cy="5461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1"/>
          <p:cNvSpPr/>
          <p:nvPr/>
        </p:nvSpPr>
        <p:spPr>
          <a:xfrm>
            <a:off x="5994360" y="57038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514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5983200" y="53658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481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5981760" y="260820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500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3"/>
          <p:cNvSpPr/>
          <p:nvPr/>
        </p:nvSpPr>
        <p:spPr>
          <a:xfrm>
            <a:off x="5981760" y="1930320"/>
            <a:ext cx="81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31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970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5"/>
          <p:cNvSpPr/>
          <p:nvPr/>
        </p:nvSpPr>
        <p:spPr>
          <a:xfrm>
            <a:off x="5931000" y="14050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6820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22DD-52B0-4905-B9AD-6E0F5C7F50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9A65-7521-4732-B8EE-A11C3605A7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9355-B9D7-482C-B73D-E4783E22FB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C8F9-38D2-462E-9C14-BA2A18591A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7"/>
          <p:cNvSpPr/>
          <p:nvPr/>
        </p:nvSpPr>
        <p:spPr>
          <a:xfrm>
            <a:off x="888840" y="1625760"/>
            <a:ext cx="8801280" cy="4914720"/>
          </a:xfrm>
          <a:prstGeom prst="roundRect">
            <a:avLst>
              <a:gd name="adj" fmla="val 16667"/>
            </a:avLst>
          </a:prstGeom>
          <a:solidFill>
            <a:srgbClr val="4f81b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образования Ленского  муниципального района(2015-2020 год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азвитие местного самоуправления в МО Ленский муниципальный райо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 поддержка социально ориентированных некоммерческих организ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2017 – 2019 годы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сферы культуры МО Ленский муниципальный район на 2018-2020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Обеспечение качественным, доступным жильем и объект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жилищно-коммунального хозяйства населения Ленского  района на 2014-2020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Профилактика безнадзорности и правонарушений несовершеннолет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на территории МО Ленский муниципальный район на 2017-2019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физической культуры, спорта, туризма, повышение эффектив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еализации молодежной и семейной политики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(2017-2019 год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9DC8-7E16-4284-AD53-045009CF54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CE1B-21BA-4A08-AF29-491FA0B601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0"/>
          <p:cNvSpPr/>
          <p:nvPr/>
        </p:nvSpPr>
        <p:spPr>
          <a:xfrm>
            <a:off x="254160" y="1353960"/>
            <a:ext cx="5101920" cy="4240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172200" y="1003320"/>
            <a:ext cx="3505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6 год – 465,2 млн.рубл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7 год – 386,6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8 год – 426,6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9 год – 471,3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219240" y="190512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0"/>
          <p:cNvSpPr/>
          <p:nvPr/>
        </p:nvSpPr>
        <p:spPr>
          <a:xfrm>
            <a:off x="231840" y="33228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0"/>
          <p:cNvSpPr/>
          <p:nvPr/>
        </p:nvSpPr>
        <p:spPr>
          <a:xfrm>
            <a:off x="254160" y="4495680"/>
            <a:ext cx="5178240" cy="44460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241200" y="195120"/>
            <a:ext cx="93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униципальная программа  «Развитие образования Ленского муниципального района (2015-2020 годы)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0"/>
          <p:cNvSpPr/>
          <p:nvPr/>
        </p:nvSpPr>
        <p:spPr>
          <a:xfrm>
            <a:off x="203040" y="5829480"/>
            <a:ext cx="5191200" cy="774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троительство школы на 8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ст в п.Урдо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Рисунок 4" descr="http://yarsh.ucoz.ru/novosti/starshaja_shkola.jpg"/>
          <p:cNvPicPr/>
          <p:nvPr/>
        </p:nvPicPr>
        <p:blipFill>
          <a:blip r:embed="rId1"/>
          <a:stretch/>
        </p:blipFill>
        <p:spPr>
          <a:xfrm>
            <a:off x="5551560" y="3073320"/>
            <a:ext cx="4135320" cy="321336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50"/>
          <p:cNvSpPr/>
          <p:nvPr/>
        </p:nvSpPr>
        <p:spPr>
          <a:xfrm>
            <a:off x="228600" y="511812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50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CB5-B2FA-4572-A606-B334C49585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463680"/>
            <a:ext cx="95252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«Развитие образования Ленского муниципального района (2015-2020 годы)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строительство объектов муниципальной собствен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E78E-0088-4AEC-9195-959FF24E52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4027320" y="1832040"/>
            <a:ext cx="5713560" cy="2168640"/>
          </a:xfrm>
          <a:prstGeom prst="roundRect">
            <a:avLst>
              <a:gd name="adj" fmla="val 16667"/>
            </a:avLst>
          </a:prstGeom>
          <a:solidFill>
            <a:srgbClr val="95b3d7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Строительство средн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общеобразовате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школы на 860 учащихся в п. Урд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2016 год – 107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2017 год –  6,5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rcRect l="6851" t="0" r="0" b="7874"/>
          <a:stretch/>
        </p:blipFill>
        <p:spPr>
          <a:xfrm>
            <a:off x="258840" y="4102200"/>
            <a:ext cx="4844880" cy="246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Шумихина Т.Ю.</cp:lastModifiedBy>
  <dcterms:modified xsi:type="dcterms:W3CDTF">2019-04-19T12:38:41Z</dcterms:modified>
  <cp:revision>1313</cp:revision>
  <dc:subject/>
  <dc:title>Бюджет для граждан на 2014 год</dc:title>
</cp:coreProperties>
</file>